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7FB-9D43-4A19-8DDD-AE02593F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B77-BA39-4AD5-89E9-23B82F4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F88F2-39BE-4AF2-9119-82807BD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28408-A58B-440F-B38F-EDC01D95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9CC46-C144-4E67-9BB8-7C0539E8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0DC79-B2D7-4503-ACDF-BA42741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A0942-C12C-4E12-83DF-A7081B5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901F9-3339-4EF3-949B-857411D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2C59A-2375-4C71-A03B-05F7C0F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0B275-9A49-4343-A0EC-BCA0E1D7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1BE86-B6D2-46F1-9B0C-D32ECCFF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F8DF-C1D3-4471-9F76-68B8CA56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66C-32EF-459F-BA9E-C339D3DA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98197-6AE4-4D2B-994A-E5BD30B6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85A2E-DB8C-4142-9558-F10470D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F2AF-D833-4DC6-A1DB-171B4BC7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BDA45-4DB9-48BA-BBFA-570BC21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DC02D-714A-4142-B66F-5EC91B7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01653-294B-4BAA-A9F2-19D9A76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90AEC-9FAD-43A5-8A97-C1D27A18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F7CCA-492E-4EA7-8058-5213672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48199-37C2-413B-8BA6-27EFC2B4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55473-5D5B-4D47-A353-77FD2A3E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A87-F713-4BB6-A2B7-D241A669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93B05-E25C-44BF-92C6-F48E6E23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5AE36-4B3B-4680-9924-4F806693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BB72-E94F-4EFC-8190-2F22AA10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5EDA6-BAEC-4A82-A2AF-8DF1E5E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7B95C-C885-471D-B60A-0F4E0B45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CE98D-F35D-4348-A01E-1BAF2A57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1B81-A782-4874-B0F7-B003DEA3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97B1-4B6A-46CF-A2BA-C86B3E52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D5D33-37AF-4EA2-9239-26DA919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0F255-8B76-4DFC-BE43-BFCA687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0D60-B641-41F4-90D6-B37D002C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0AB34-AB05-465A-A2BF-6F78FE3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5A1D0-093C-41ED-ABA6-00A3A242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6F628-AA8C-4B8F-BEC9-E9ACC729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B9D6D-F057-483E-B0E5-728BE2FE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341F8-7AF5-4DAE-8E73-3D09FBA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35C4F-5163-4639-8E3B-2EC1DE56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EC094-089A-4C15-B754-1E1A807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9DC99-1B7C-415F-ACAF-1F497941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BC79B-3EAD-48AB-A111-545D2C39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53432-259C-485C-98CE-29B5A61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4FA-0FE5-44D6-91A1-EF83920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8A8CF-1A01-4DAF-89D2-53559A3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97C1-0B53-4A81-BB91-E535C88E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2B1CF-DC44-4C85-BBE1-FF7ACD85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5473C-CBAF-4D2F-8C23-37A1F049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1295C-5A1C-4333-98FE-512BC361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E1A0-ED8E-4C03-A9A4-2CD4FF4D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E136-557E-4928-9A27-7A0A3E5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CE21-AEF6-462C-93C8-FAE2F92A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3DA-B42A-41CB-9185-D2AF12BE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488-1FA3-4313-92FB-29957B5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ED1-7000-4CB4-ACF3-1DB4020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B0E7-5DB1-4B53-A288-9CFF905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5E51-F0D2-42E2-AFBA-91FFD524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0B68-677C-4D2F-BB78-19F7144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DFEC-FB3F-48D1-80C3-9FCAAE11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8DE3-66EE-4D5A-86E6-A14FE0E7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1B85-6E7D-4318-9972-1B4FA975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9902-F856-4573-ADBF-1A784E1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409F-2DA4-4BAF-B87D-E4E8095E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38A0-9637-47DE-BDEE-B995F9A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CA54-B9BD-4EEB-96D4-78DB8C6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1F7-A0FC-4A1A-B5A9-5EACF9A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CF3C-8BE6-4946-A1F7-5F3DB011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1CD4-9E4C-403F-9D7C-82B57D2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9EBB-0644-42D4-9C9E-81A51F9B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97A0-60EE-4CFB-94BA-4B12388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6EA1-37DB-43D0-ACE8-2510AF2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68FA-4C50-477A-965C-CE21BA62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E053-E091-4D1F-B787-15405FB8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04F9-3ED8-4AE1-A11E-C6C482D4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24F1-2E70-40B7-A642-B6421A10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C8CC-2A07-4F5B-AEDB-C5568535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E81-AAAB-4DAC-89AC-8933F65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C15E-DD8B-4478-9C0C-C43586C2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5763-8E4D-439C-ACCE-929F523E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E34E-6ABA-4698-9737-A51D5366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3D81-181C-448F-9167-AA6A6D13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0A448-B50B-42F3-918C-D736D13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6899-5098-4218-A7A9-A669FAA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E8AC-33FA-414B-9747-BA63E7F6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6CA3-732C-48F5-85AC-12404212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EC0C-B8ED-4270-95E9-96A2EF1C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6B9C-760E-43C1-8153-3B745B0C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161-3AD0-4F88-B4D7-C7EC7E9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EC5E-CA4F-4C98-A774-D3709D6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0959-AFEC-42CE-B3D3-33BB97E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7293-84FD-4475-80FF-1AB52E8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BA4D-60BF-4B0A-9D84-156DB05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B78B-6CE0-4FE2-AE6C-D78A88CE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4FCB-E1C5-4F94-B888-B593422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2912-C14F-450A-9329-88C6998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2CEC-3287-4569-9AA5-C8F3B60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5569-DCA2-412E-B315-3AEB753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AF06-3DAD-488D-9EBE-9C4C63E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274-8EA4-44F6-9D55-4E2C87A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E8ACD-0AA1-4199-B10A-BFF57807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5290-1AE5-42B4-9C63-C1483CAD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9EE6-A352-4449-8B55-CAC6DC8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57AC4-A3F6-4A62-A089-ABE79AE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04C1-AF3D-4902-B98F-59955FC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78D22-FAF7-4DD6-99D5-F2E79A9A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A1B2-654A-4EB0-903C-62FF75E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52AFC-D599-4B17-A6DB-6D1531F0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F53FE-246C-4671-9D49-1A35CE6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86F5-6DDA-481C-B04C-11CAC27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61B-2336-45B5-A676-903CFDD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C6FE5-870E-49CF-87C9-6F03A64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1402B-4500-4557-AE0B-46DF67B0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EDA9-31FB-4F80-A469-317C6D11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C1B4-7504-4244-8B7C-FE8FA31F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9423-889C-47CB-920F-60A44CD3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6B1AD-35BA-403C-A9DF-162FFA3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533F-3EB3-47C6-9855-9054E443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E7FB-0D68-4770-B8A2-D90A04D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6A7B-773D-432D-9AC6-215B1D1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ADB75-87D8-4232-B25E-3C3D67E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16A-0A63-4A4A-A548-C573F2C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13434-32D4-42FB-8A9B-022128A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4DDC-CD20-4868-8B56-5227E08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648B-BAFC-49A0-B4B7-BDF8652C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B3CA0-6179-44D7-8691-BA1E40B6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2F1A-94E0-47F3-BB11-C921221D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8CA3-E4EC-46B4-BEA5-FBFA4507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75E41-60D8-4A73-B24E-982CFFE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9D88-6852-40AE-B3D0-D7F8DFA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549E-CED2-45C0-B70A-EB7E0F1E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4048-B0C8-49AA-9330-29BB29B2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1D2-BF06-428B-A1B8-24B9589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C0E7-5E99-4C2E-BAB1-02D021F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CD0F8-D2BC-4A28-BC06-28A171A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8020-C370-4398-A988-D0D4D06E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A0D4-F7A9-438E-B532-38E11BB6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8DE96-E408-404B-BDF0-C9CC4380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BCB6-56D5-4304-85FE-CDCC8E13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272C7-FC14-44E3-A8D2-95225887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85435-16B6-479C-9B0D-4F276696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6ED65-C03F-4F03-8E0A-2670CA9A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89511-32E4-413B-B547-B8807B7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38B3-67BB-4892-B6AA-29EB2D33C23E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4DB8-23CC-4084-A89B-A82F556488E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1" descr=""/>
          <p:cNvPicPr/>
          <p:nvPr/>
        </p:nvPicPr>
        <p:blipFill>
          <a:blip r:embed="rId2"/>
          <a:srcRect l="13509" t="1450" r="48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E66-DA05-4191-A127-4ECCEC9B76A8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F94B-F68C-4C74-ABBF-AEAB4544FCE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任意多边形 65"/>
          <p:cNvSpPr/>
          <p:nvPr/>
        </p:nvSpPr>
        <p:spPr>
          <a:xfrm>
            <a:off x="2962440" y="414360"/>
            <a:ext cx="4755960" cy="5167440"/>
          </a:xfrm>
          <a:custGeom>
            <a:avLst/>
            <a:gdLst/>
            <a:ahLst/>
            <a:rect l="l" t="t" r="r" b="b"/>
            <a:pathLst>
              <a:path w="4757024" h="5166475">
                <a:moveTo>
                  <a:pt x="3800615" y="3920919"/>
                </a:moveTo>
                <a:cubicBezTo>
                  <a:pt x="3978552" y="3927407"/>
                  <a:pt x="3978552" y="3927407"/>
                  <a:pt x="3978552" y="3927407"/>
                </a:cubicBezTo>
                <a:cubicBezTo>
                  <a:pt x="3978552" y="3927407"/>
                  <a:pt x="3866518" y="3959843"/>
                  <a:pt x="3800615" y="3920919"/>
                </a:cubicBezTo>
                <a:close/>
                <a:moveTo>
                  <a:pt x="3505907" y="3901458"/>
                </a:moveTo>
                <a:cubicBezTo>
                  <a:pt x="3505907" y="3901458"/>
                  <a:pt x="3578340" y="3908033"/>
                  <a:pt x="3598095" y="3914607"/>
                </a:cubicBezTo>
                <a:cubicBezTo>
                  <a:pt x="3598095" y="3914607"/>
                  <a:pt x="3598095" y="3914607"/>
                  <a:pt x="3644189" y="3927756"/>
                </a:cubicBezTo>
                <a:cubicBezTo>
                  <a:pt x="3644189" y="3927756"/>
                  <a:pt x="3644189" y="3927756"/>
                  <a:pt x="3683698" y="3947480"/>
                </a:cubicBezTo>
                <a:cubicBezTo>
                  <a:pt x="3683698" y="3947480"/>
                  <a:pt x="3683698" y="3947480"/>
                  <a:pt x="3716622" y="3973778"/>
                </a:cubicBezTo>
                <a:cubicBezTo>
                  <a:pt x="3716622" y="3973778"/>
                  <a:pt x="3716622" y="3973778"/>
                  <a:pt x="3756131" y="3986927"/>
                </a:cubicBezTo>
                <a:cubicBezTo>
                  <a:pt x="3756131" y="3986927"/>
                  <a:pt x="3756131" y="3986927"/>
                  <a:pt x="3828564" y="4006650"/>
                </a:cubicBezTo>
                <a:cubicBezTo>
                  <a:pt x="3828564" y="4006650"/>
                  <a:pt x="3828564" y="4006650"/>
                  <a:pt x="3933921" y="4052672"/>
                </a:cubicBezTo>
                <a:cubicBezTo>
                  <a:pt x="3933921" y="4052672"/>
                  <a:pt x="3933921" y="4052672"/>
                  <a:pt x="3980015" y="4065821"/>
                </a:cubicBezTo>
                <a:cubicBezTo>
                  <a:pt x="3980015" y="4065821"/>
                  <a:pt x="4105126" y="4131566"/>
                  <a:pt x="4124881" y="4138140"/>
                </a:cubicBezTo>
                <a:cubicBezTo>
                  <a:pt x="4151220" y="4144715"/>
                  <a:pt x="4157805" y="4164438"/>
                  <a:pt x="4157805" y="4164438"/>
                </a:cubicBezTo>
                <a:cubicBezTo>
                  <a:pt x="4157805" y="4164438"/>
                  <a:pt x="4190729" y="4184162"/>
                  <a:pt x="4203899" y="4190736"/>
                </a:cubicBezTo>
                <a:cubicBezTo>
                  <a:pt x="4217068" y="4197311"/>
                  <a:pt x="4236823" y="4203886"/>
                  <a:pt x="4256577" y="4210460"/>
                </a:cubicBezTo>
                <a:cubicBezTo>
                  <a:pt x="4276332" y="4223609"/>
                  <a:pt x="4296086" y="4236758"/>
                  <a:pt x="4315841" y="4243333"/>
                </a:cubicBezTo>
                <a:cubicBezTo>
                  <a:pt x="4342180" y="4249907"/>
                  <a:pt x="4401444" y="4276205"/>
                  <a:pt x="4401444" y="4276205"/>
                </a:cubicBezTo>
                <a:cubicBezTo>
                  <a:pt x="4401444" y="4276205"/>
                  <a:pt x="4401444" y="4276205"/>
                  <a:pt x="4467292" y="4309078"/>
                </a:cubicBezTo>
                <a:cubicBezTo>
                  <a:pt x="4467292" y="4309078"/>
                  <a:pt x="4658252" y="4394546"/>
                  <a:pt x="4671421" y="4394546"/>
                </a:cubicBezTo>
                <a:cubicBezTo>
                  <a:pt x="4684591" y="4394546"/>
                  <a:pt x="4704346" y="4414270"/>
                  <a:pt x="4704346" y="4414270"/>
                </a:cubicBezTo>
                <a:cubicBezTo>
                  <a:pt x="4704346" y="4414270"/>
                  <a:pt x="4717515" y="4420844"/>
                  <a:pt x="4737270" y="4433993"/>
                </a:cubicBezTo>
                <a:cubicBezTo>
                  <a:pt x="4737270" y="4433993"/>
                  <a:pt x="4737270" y="4433993"/>
                  <a:pt x="4757024" y="4453717"/>
                </a:cubicBezTo>
                <a:cubicBezTo>
                  <a:pt x="4757024" y="4453717"/>
                  <a:pt x="4757024" y="4453717"/>
                  <a:pt x="4717515" y="4453717"/>
                </a:cubicBezTo>
                <a:cubicBezTo>
                  <a:pt x="4691176" y="4460291"/>
                  <a:pt x="4664837" y="4414270"/>
                  <a:pt x="4664837" y="4414270"/>
                </a:cubicBezTo>
                <a:cubicBezTo>
                  <a:pt x="4664837" y="4414270"/>
                  <a:pt x="4664837" y="4414270"/>
                  <a:pt x="4467292" y="4328801"/>
                </a:cubicBezTo>
                <a:cubicBezTo>
                  <a:pt x="4467292" y="4328801"/>
                  <a:pt x="4467292" y="4328801"/>
                  <a:pt x="4151220" y="4190736"/>
                </a:cubicBezTo>
                <a:cubicBezTo>
                  <a:pt x="4151220" y="4190736"/>
                  <a:pt x="4151220" y="4190736"/>
                  <a:pt x="4032693" y="4105268"/>
                </a:cubicBezTo>
                <a:cubicBezTo>
                  <a:pt x="4032693" y="4105268"/>
                  <a:pt x="4032693" y="4105268"/>
                  <a:pt x="3953675" y="4072395"/>
                </a:cubicBezTo>
                <a:cubicBezTo>
                  <a:pt x="3953675" y="4072395"/>
                  <a:pt x="3953675" y="4072395"/>
                  <a:pt x="3828564" y="4046097"/>
                </a:cubicBezTo>
                <a:cubicBezTo>
                  <a:pt x="3828564" y="4046097"/>
                  <a:pt x="3828564" y="4046097"/>
                  <a:pt x="3742961" y="4026374"/>
                </a:cubicBezTo>
                <a:cubicBezTo>
                  <a:pt x="3742961" y="4026374"/>
                  <a:pt x="3742961" y="4026374"/>
                  <a:pt x="3657358" y="3980352"/>
                </a:cubicBezTo>
                <a:cubicBezTo>
                  <a:pt x="3657358" y="3980352"/>
                  <a:pt x="3657358" y="3980352"/>
                  <a:pt x="3505907" y="3901458"/>
                </a:cubicBezTo>
                <a:close/>
                <a:moveTo>
                  <a:pt x="3795055" y="3815269"/>
                </a:moveTo>
                <a:lnTo>
                  <a:pt x="3920167" y="3840292"/>
                </a:lnTo>
                <a:lnTo>
                  <a:pt x="3697746" y="3829170"/>
                </a:lnTo>
                <a:lnTo>
                  <a:pt x="3795055" y="3815269"/>
                </a:lnTo>
                <a:close/>
                <a:moveTo>
                  <a:pt x="4425720" y="1620817"/>
                </a:moveTo>
                <a:cubicBezTo>
                  <a:pt x="4481777" y="1618505"/>
                  <a:pt x="4548787" y="1627756"/>
                  <a:pt x="4507550" y="1693542"/>
                </a:cubicBezTo>
                <a:cubicBezTo>
                  <a:pt x="4349199" y="1746171"/>
                  <a:pt x="4349199" y="1746171"/>
                  <a:pt x="4349199" y="1746171"/>
                </a:cubicBezTo>
                <a:cubicBezTo>
                  <a:pt x="4250230" y="1746171"/>
                  <a:pt x="4250230" y="1746171"/>
                  <a:pt x="4250230" y="1746171"/>
                </a:cubicBezTo>
                <a:cubicBezTo>
                  <a:pt x="3973117" y="1864587"/>
                  <a:pt x="3973117" y="1864587"/>
                  <a:pt x="3973117" y="1864587"/>
                </a:cubicBezTo>
                <a:lnTo>
                  <a:pt x="3247344" y="2055367"/>
                </a:lnTo>
                <a:cubicBezTo>
                  <a:pt x="3379303" y="2015895"/>
                  <a:pt x="3379303" y="2015895"/>
                  <a:pt x="3379303" y="2015895"/>
                </a:cubicBezTo>
                <a:cubicBezTo>
                  <a:pt x="3913736" y="1838272"/>
                  <a:pt x="3913736" y="1838272"/>
                  <a:pt x="3913736" y="1838272"/>
                </a:cubicBezTo>
                <a:cubicBezTo>
                  <a:pt x="4091880" y="1759329"/>
                  <a:pt x="4091880" y="1759329"/>
                  <a:pt x="4091880" y="1759329"/>
                </a:cubicBezTo>
                <a:cubicBezTo>
                  <a:pt x="4091880" y="1759329"/>
                  <a:pt x="4303014" y="1634335"/>
                  <a:pt x="4362395" y="1627756"/>
                </a:cubicBezTo>
                <a:cubicBezTo>
                  <a:pt x="4362395" y="1627756"/>
                  <a:pt x="4392086" y="1622205"/>
                  <a:pt x="4425720" y="1620817"/>
                </a:cubicBezTo>
                <a:close/>
                <a:moveTo>
                  <a:pt x="2833481" y="1554921"/>
                </a:moveTo>
                <a:cubicBezTo>
                  <a:pt x="2833481" y="1554921"/>
                  <a:pt x="2846986" y="1568425"/>
                  <a:pt x="2840234" y="1581930"/>
                </a:cubicBezTo>
                <a:cubicBezTo>
                  <a:pt x="2826729" y="1595434"/>
                  <a:pt x="2799721" y="1602186"/>
                  <a:pt x="2799721" y="1602186"/>
                </a:cubicBezTo>
                <a:lnTo>
                  <a:pt x="2813225" y="1568425"/>
                </a:lnTo>
                <a:cubicBezTo>
                  <a:pt x="2813225" y="1568425"/>
                  <a:pt x="2813225" y="1568425"/>
                  <a:pt x="2833481" y="1554921"/>
                </a:cubicBezTo>
                <a:close/>
                <a:moveTo>
                  <a:pt x="1461755" y="1526595"/>
                </a:moveTo>
                <a:lnTo>
                  <a:pt x="1461715" y="1526922"/>
                </a:lnTo>
                <a:lnTo>
                  <a:pt x="1461549" y="1527110"/>
                </a:lnTo>
                <a:cubicBezTo>
                  <a:pt x="1453516" y="1537303"/>
                  <a:pt x="1446924" y="1547187"/>
                  <a:pt x="1443628" y="1555424"/>
                </a:cubicBezTo>
                <a:cubicBezTo>
                  <a:pt x="1437036" y="1568603"/>
                  <a:pt x="1443628" y="1555424"/>
                  <a:pt x="1450219" y="1542245"/>
                </a:cubicBezTo>
                <a:cubicBezTo>
                  <a:pt x="1453515" y="1532361"/>
                  <a:pt x="1460107" y="1522477"/>
                  <a:pt x="1461755" y="1526595"/>
                </a:cubicBezTo>
                <a:close/>
                <a:moveTo>
                  <a:pt x="1522730" y="1463171"/>
                </a:moveTo>
                <a:cubicBezTo>
                  <a:pt x="1522730" y="1463171"/>
                  <a:pt x="1588649" y="1463171"/>
                  <a:pt x="1582058" y="1496119"/>
                </a:cubicBezTo>
                <a:cubicBezTo>
                  <a:pt x="1575466" y="1529066"/>
                  <a:pt x="1562282" y="1614730"/>
                  <a:pt x="1562282" y="1614730"/>
                </a:cubicBezTo>
                <a:cubicBezTo>
                  <a:pt x="1582058" y="1674035"/>
                  <a:pt x="1582058" y="1674035"/>
                  <a:pt x="1582058" y="1674035"/>
                </a:cubicBezTo>
                <a:cubicBezTo>
                  <a:pt x="1601833" y="1739931"/>
                  <a:pt x="1601833" y="1739931"/>
                  <a:pt x="1601833" y="1739931"/>
                </a:cubicBezTo>
                <a:cubicBezTo>
                  <a:pt x="1568874" y="1779468"/>
                  <a:pt x="1568874" y="1779468"/>
                  <a:pt x="1568874" y="1779468"/>
                </a:cubicBezTo>
                <a:cubicBezTo>
                  <a:pt x="1549098" y="1851952"/>
                  <a:pt x="1549098" y="1851952"/>
                  <a:pt x="1549098" y="1851952"/>
                </a:cubicBezTo>
                <a:cubicBezTo>
                  <a:pt x="1549098" y="1851952"/>
                  <a:pt x="1601833" y="1917847"/>
                  <a:pt x="1661160" y="1891489"/>
                </a:cubicBezTo>
                <a:cubicBezTo>
                  <a:pt x="1661160" y="1891489"/>
                  <a:pt x="1740263" y="1983742"/>
                  <a:pt x="1812774" y="1911258"/>
                </a:cubicBezTo>
                <a:cubicBezTo>
                  <a:pt x="1812774" y="1911258"/>
                  <a:pt x="1891877" y="1812415"/>
                  <a:pt x="1924837" y="1891489"/>
                </a:cubicBezTo>
                <a:cubicBezTo>
                  <a:pt x="2010532" y="1838773"/>
                  <a:pt x="2010532" y="1838773"/>
                  <a:pt x="2010532" y="1838773"/>
                </a:cubicBezTo>
                <a:cubicBezTo>
                  <a:pt x="2135778" y="1799236"/>
                  <a:pt x="2135778" y="1799236"/>
                  <a:pt x="2135778" y="1799236"/>
                </a:cubicBezTo>
                <a:cubicBezTo>
                  <a:pt x="2135778" y="1799236"/>
                  <a:pt x="2181921" y="1812415"/>
                  <a:pt x="2188513" y="1772878"/>
                </a:cubicBezTo>
                <a:cubicBezTo>
                  <a:pt x="2188513" y="1772878"/>
                  <a:pt x="2155554" y="1700393"/>
                  <a:pt x="2228065" y="1687214"/>
                </a:cubicBezTo>
                <a:cubicBezTo>
                  <a:pt x="2261024" y="1634498"/>
                  <a:pt x="2261024" y="1634498"/>
                  <a:pt x="2261024" y="1634498"/>
                </a:cubicBezTo>
                <a:cubicBezTo>
                  <a:pt x="2261024" y="1634498"/>
                  <a:pt x="2392862" y="1555424"/>
                  <a:pt x="2465373" y="1634498"/>
                </a:cubicBezTo>
                <a:cubicBezTo>
                  <a:pt x="2498333" y="1746520"/>
                  <a:pt x="2498333" y="1746520"/>
                  <a:pt x="2498333" y="1746520"/>
                </a:cubicBezTo>
                <a:cubicBezTo>
                  <a:pt x="2498333" y="1746520"/>
                  <a:pt x="2584028" y="1792647"/>
                  <a:pt x="2518109" y="1838773"/>
                </a:cubicBezTo>
                <a:cubicBezTo>
                  <a:pt x="2491741" y="1898079"/>
                  <a:pt x="2491741" y="1898079"/>
                  <a:pt x="2491741" y="1898079"/>
                </a:cubicBezTo>
                <a:cubicBezTo>
                  <a:pt x="2491741" y="1898079"/>
                  <a:pt x="2544476" y="1957384"/>
                  <a:pt x="2478557" y="2010100"/>
                </a:cubicBezTo>
                <a:cubicBezTo>
                  <a:pt x="2478557" y="2010100"/>
                  <a:pt x="2419230" y="2082585"/>
                  <a:pt x="2491741" y="2082585"/>
                </a:cubicBezTo>
                <a:cubicBezTo>
                  <a:pt x="2524701" y="2148480"/>
                  <a:pt x="2524701" y="2148480"/>
                  <a:pt x="2524701" y="2148480"/>
                </a:cubicBezTo>
                <a:cubicBezTo>
                  <a:pt x="2524701" y="2148480"/>
                  <a:pt x="2577436" y="2188017"/>
                  <a:pt x="2570844" y="2260502"/>
                </a:cubicBezTo>
                <a:cubicBezTo>
                  <a:pt x="2696090" y="2339576"/>
                  <a:pt x="2696090" y="2339576"/>
                  <a:pt x="2696090" y="2339576"/>
                </a:cubicBezTo>
                <a:cubicBezTo>
                  <a:pt x="2788377" y="2379113"/>
                  <a:pt x="2788377" y="2379113"/>
                  <a:pt x="2788377" y="2379113"/>
                </a:cubicBezTo>
                <a:cubicBezTo>
                  <a:pt x="2887256" y="2425239"/>
                  <a:pt x="2887256" y="2425239"/>
                  <a:pt x="2887256" y="2425239"/>
                </a:cubicBezTo>
                <a:cubicBezTo>
                  <a:pt x="2979542" y="2359344"/>
                  <a:pt x="2979542" y="2359344"/>
                  <a:pt x="2979542" y="2359344"/>
                </a:cubicBezTo>
                <a:cubicBezTo>
                  <a:pt x="3085013" y="2326397"/>
                  <a:pt x="3085013" y="2326397"/>
                  <a:pt x="3085013" y="2326397"/>
                </a:cubicBezTo>
                <a:cubicBezTo>
                  <a:pt x="3085013" y="2372523"/>
                  <a:pt x="3085013" y="2372523"/>
                  <a:pt x="3085013" y="2372523"/>
                </a:cubicBezTo>
                <a:cubicBezTo>
                  <a:pt x="3019094" y="2405471"/>
                  <a:pt x="3019094" y="2405471"/>
                  <a:pt x="3019094" y="2405471"/>
                </a:cubicBezTo>
                <a:cubicBezTo>
                  <a:pt x="2966358" y="2471366"/>
                  <a:pt x="2966358" y="2471366"/>
                  <a:pt x="2966358" y="2471366"/>
                </a:cubicBezTo>
                <a:cubicBezTo>
                  <a:pt x="2900439" y="2517493"/>
                  <a:pt x="2900439" y="2517493"/>
                  <a:pt x="2900439" y="2517493"/>
                </a:cubicBezTo>
                <a:cubicBezTo>
                  <a:pt x="2893847" y="2596567"/>
                  <a:pt x="2893847" y="2596567"/>
                  <a:pt x="2893847" y="2596567"/>
                </a:cubicBezTo>
                <a:cubicBezTo>
                  <a:pt x="2900439" y="2616335"/>
                  <a:pt x="2920215" y="2609746"/>
                  <a:pt x="2926807" y="2603156"/>
                </a:cubicBezTo>
                <a:cubicBezTo>
                  <a:pt x="2939991" y="2596567"/>
                  <a:pt x="2939991" y="2589977"/>
                  <a:pt x="2913623" y="2636104"/>
                </a:cubicBezTo>
                <a:cubicBezTo>
                  <a:pt x="2860888" y="2721767"/>
                  <a:pt x="2887256" y="2754715"/>
                  <a:pt x="2887256" y="2754715"/>
                </a:cubicBezTo>
                <a:cubicBezTo>
                  <a:pt x="2880664" y="2807431"/>
                  <a:pt x="2880664" y="2807431"/>
                  <a:pt x="2880664" y="2807431"/>
                </a:cubicBezTo>
                <a:cubicBezTo>
                  <a:pt x="2966358" y="2820610"/>
                  <a:pt x="2966358" y="2820610"/>
                  <a:pt x="2966358" y="2820610"/>
                </a:cubicBezTo>
                <a:cubicBezTo>
                  <a:pt x="2966358" y="2820610"/>
                  <a:pt x="3019094" y="2820610"/>
                  <a:pt x="3005910" y="2886505"/>
                </a:cubicBezTo>
                <a:cubicBezTo>
                  <a:pt x="3012502" y="2965579"/>
                  <a:pt x="3012502" y="2965579"/>
                  <a:pt x="3012502" y="2965579"/>
                </a:cubicBezTo>
                <a:cubicBezTo>
                  <a:pt x="3065237" y="2945811"/>
                  <a:pt x="3065237" y="2945811"/>
                  <a:pt x="3065237" y="2945811"/>
                </a:cubicBezTo>
                <a:cubicBezTo>
                  <a:pt x="3078421" y="3044653"/>
                  <a:pt x="3078421" y="3044653"/>
                  <a:pt x="3078421" y="3044653"/>
                </a:cubicBezTo>
                <a:cubicBezTo>
                  <a:pt x="3078421" y="3044653"/>
                  <a:pt x="3078421" y="3084190"/>
                  <a:pt x="3058645" y="3110548"/>
                </a:cubicBezTo>
                <a:cubicBezTo>
                  <a:pt x="3032277" y="3130317"/>
                  <a:pt x="3032277" y="3130317"/>
                  <a:pt x="3032277" y="3130317"/>
                </a:cubicBezTo>
                <a:cubicBezTo>
                  <a:pt x="3111380" y="3189623"/>
                  <a:pt x="3111380" y="3189623"/>
                  <a:pt x="3111380" y="3189623"/>
                </a:cubicBezTo>
                <a:cubicBezTo>
                  <a:pt x="3157524" y="3262107"/>
                  <a:pt x="3157524" y="3262107"/>
                  <a:pt x="3157524" y="3262107"/>
                </a:cubicBezTo>
                <a:cubicBezTo>
                  <a:pt x="3150932" y="3301644"/>
                  <a:pt x="3131156" y="3341181"/>
                  <a:pt x="3131156" y="3341181"/>
                </a:cubicBezTo>
                <a:cubicBezTo>
                  <a:pt x="3170708" y="3387308"/>
                  <a:pt x="3170708" y="3387308"/>
                  <a:pt x="3170708" y="3387308"/>
                </a:cubicBezTo>
                <a:cubicBezTo>
                  <a:pt x="3164116" y="3492740"/>
                  <a:pt x="3164116" y="3492740"/>
                  <a:pt x="3164116" y="3492740"/>
                </a:cubicBezTo>
                <a:cubicBezTo>
                  <a:pt x="3269586" y="3604762"/>
                  <a:pt x="3269586" y="3604762"/>
                  <a:pt x="3269586" y="3604762"/>
                </a:cubicBezTo>
                <a:cubicBezTo>
                  <a:pt x="3144340" y="3677246"/>
                  <a:pt x="3144340" y="3677246"/>
                  <a:pt x="3144340" y="3677246"/>
                </a:cubicBezTo>
                <a:cubicBezTo>
                  <a:pt x="3104788" y="3716783"/>
                  <a:pt x="3104788" y="3716783"/>
                  <a:pt x="3104788" y="3716783"/>
                </a:cubicBezTo>
                <a:cubicBezTo>
                  <a:pt x="3078421" y="3789268"/>
                  <a:pt x="3078421" y="3789268"/>
                  <a:pt x="3078421" y="3789268"/>
                </a:cubicBezTo>
                <a:cubicBezTo>
                  <a:pt x="3065237" y="3868342"/>
                  <a:pt x="3065237" y="3868342"/>
                  <a:pt x="3065237" y="3868342"/>
                </a:cubicBezTo>
                <a:cubicBezTo>
                  <a:pt x="2986134" y="3901289"/>
                  <a:pt x="2986134" y="3901289"/>
                  <a:pt x="2986134" y="3901289"/>
                </a:cubicBezTo>
                <a:cubicBezTo>
                  <a:pt x="2939991" y="3901289"/>
                  <a:pt x="2939991" y="3901289"/>
                  <a:pt x="2939991" y="3901289"/>
                </a:cubicBezTo>
                <a:cubicBezTo>
                  <a:pt x="2939991" y="3901289"/>
                  <a:pt x="2933399" y="3934237"/>
                  <a:pt x="2926807" y="3960595"/>
                </a:cubicBezTo>
                <a:cubicBezTo>
                  <a:pt x="2920215" y="3986953"/>
                  <a:pt x="2913623" y="4033080"/>
                  <a:pt x="2913623" y="4033080"/>
                </a:cubicBezTo>
                <a:cubicBezTo>
                  <a:pt x="2847704" y="4079206"/>
                  <a:pt x="2847704" y="4079206"/>
                  <a:pt x="2847704" y="4079206"/>
                </a:cubicBezTo>
                <a:cubicBezTo>
                  <a:pt x="2748825" y="4085796"/>
                  <a:pt x="2748825" y="4085796"/>
                  <a:pt x="2748825" y="4085796"/>
                </a:cubicBezTo>
                <a:cubicBezTo>
                  <a:pt x="2748825" y="4085796"/>
                  <a:pt x="2729050" y="4098975"/>
                  <a:pt x="2702682" y="4098975"/>
                </a:cubicBezTo>
                <a:cubicBezTo>
                  <a:pt x="2676314" y="4105564"/>
                  <a:pt x="2656539" y="4164870"/>
                  <a:pt x="2656539" y="4164870"/>
                </a:cubicBezTo>
                <a:cubicBezTo>
                  <a:pt x="2597212" y="4197817"/>
                  <a:pt x="2597212" y="4230765"/>
                  <a:pt x="2610395" y="4257123"/>
                </a:cubicBezTo>
                <a:cubicBezTo>
                  <a:pt x="2623579" y="4283481"/>
                  <a:pt x="2623579" y="4309839"/>
                  <a:pt x="2610395" y="4336197"/>
                </a:cubicBezTo>
                <a:cubicBezTo>
                  <a:pt x="2597212" y="4355966"/>
                  <a:pt x="2630171" y="4388913"/>
                  <a:pt x="2584028" y="4395503"/>
                </a:cubicBezTo>
                <a:cubicBezTo>
                  <a:pt x="2537884" y="4402092"/>
                  <a:pt x="2524701" y="4408682"/>
                  <a:pt x="2498333" y="4415271"/>
                </a:cubicBezTo>
                <a:cubicBezTo>
                  <a:pt x="2471965" y="4415271"/>
                  <a:pt x="2471965" y="4415271"/>
                  <a:pt x="2471965" y="4415271"/>
                </a:cubicBezTo>
                <a:cubicBezTo>
                  <a:pt x="2386271" y="4448219"/>
                  <a:pt x="2386271" y="4448219"/>
                  <a:pt x="2386271" y="4448219"/>
                </a:cubicBezTo>
                <a:cubicBezTo>
                  <a:pt x="2386271" y="4448219"/>
                  <a:pt x="2359903" y="4514114"/>
                  <a:pt x="2412638" y="4566830"/>
                </a:cubicBezTo>
                <a:cubicBezTo>
                  <a:pt x="2478557" y="4639314"/>
                  <a:pt x="2478557" y="4639314"/>
                  <a:pt x="2478557" y="4639314"/>
                </a:cubicBezTo>
                <a:cubicBezTo>
                  <a:pt x="2478557" y="4639314"/>
                  <a:pt x="2544476" y="4678851"/>
                  <a:pt x="2518109" y="4678851"/>
                </a:cubicBezTo>
                <a:cubicBezTo>
                  <a:pt x="2485149" y="4678851"/>
                  <a:pt x="2419230" y="4685441"/>
                  <a:pt x="2419230" y="4685441"/>
                </a:cubicBezTo>
                <a:cubicBezTo>
                  <a:pt x="2392862" y="4626135"/>
                  <a:pt x="2392862" y="4626135"/>
                  <a:pt x="2392862" y="4626135"/>
                </a:cubicBezTo>
                <a:cubicBezTo>
                  <a:pt x="2346719" y="4560240"/>
                  <a:pt x="2346719" y="4560240"/>
                  <a:pt x="2346719" y="4560240"/>
                </a:cubicBezTo>
                <a:cubicBezTo>
                  <a:pt x="2346719" y="4507524"/>
                  <a:pt x="2346719" y="4507524"/>
                  <a:pt x="2346719" y="4507524"/>
                </a:cubicBezTo>
                <a:cubicBezTo>
                  <a:pt x="2300576" y="4454808"/>
                  <a:pt x="2300576" y="4454808"/>
                  <a:pt x="2300576" y="4454808"/>
                </a:cubicBezTo>
                <a:cubicBezTo>
                  <a:pt x="2267616" y="4415271"/>
                  <a:pt x="2267616" y="4415271"/>
                  <a:pt x="2267616" y="4415271"/>
                </a:cubicBezTo>
                <a:cubicBezTo>
                  <a:pt x="2267616" y="4415271"/>
                  <a:pt x="2188513" y="4369145"/>
                  <a:pt x="2181921" y="4402092"/>
                </a:cubicBezTo>
                <a:cubicBezTo>
                  <a:pt x="2168737" y="4421861"/>
                  <a:pt x="2168737" y="4421861"/>
                  <a:pt x="2162145" y="4421861"/>
                </a:cubicBezTo>
                <a:cubicBezTo>
                  <a:pt x="2162145" y="4421861"/>
                  <a:pt x="2162145" y="4421861"/>
                  <a:pt x="2162145" y="4448219"/>
                </a:cubicBezTo>
                <a:cubicBezTo>
                  <a:pt x="2162145" y="4494345"/>
                  <a:pt x="2195105" y="4487756"/>
                  <a:pt x="2162145" y="4494345"/>
                </a:cubicBezTo>
                <a:cubicBezTo>
                  <a:pt x="2122594" y="4507524"/>
                  <a:pt x="2122594" y="4507524"/>
                  <a:pt x="2122594" y="4507524"/>
                </a:cubicBezTo>
                <a:cubicBezTo>
                  <a:pt x="2056675" y="4435040"/>
                  <a:pt x="2056675" y="4435040"/>
                  <a:pt x="2056675" y="4435040"/>
                </a:cubicBezTo>
                <a:cubicBezTo>
                  <a:pt x="2030307" y="4435040"/>
                  <a:pt x="2003940" y="4474577"/>
                  <a:pt x="2003940" y="4474577"/>
                </a:cubicBezTo>
                <a:cubicBezTo>
                  <a:pt x="2003940" y="4474577"/>
                  <a:pt x="1957796" y="4481166"/>
                  <a:pt x="1938021" y="4500935"/>
                </a:cubicBezTo>
                <a:cubicBezTo>
                  <a:pt x="1918245" y="4520703"/>
                  <a:pt x="1918245" y="4520703"/>
                  <a:pt x="1918245" y="4520703"/>
                </a:cubicBezTo>
                <a:cubicBezTo>
                  <a:pt x="1918245" y="4520703"/>
                  <a:pt x="1852326" y="4553651"/>
                  <a:pt x="1839142" y="4573419"/>
                </a:cubicBezTo>
                <a:cubicBezTo>
                  <a:pt x="1825958" y="4599777"/>
                  <a:pt x="1819366" y="4632725"/>
                  <a:pt x="1819366" y="4632725"/>
                </a:cubicBezTo>
                <a:cubicBezTo>
                  <a:pt x="1839142" y="5159886"/>
                  <a:pt x="1839142" y="5159886"/>
                  <a:pt x="1839142" y="5159886"/>
                </a:cubicBezTo>
                <a:cubicBezTo>
                  <a:pt x="1792999" y="5166475"/>
                  <a:pt x="1792999" y="5166475"/>
                  <a:pt x="1792999" y="5166475"/>
                </a:cubicBezTo>
                <a:cubicBezTo>
                  <a:pt x="1792999" y="5074222"/>
                  <a:pt x="1792999" y="5074222"/>
                  <a:pt x="1792999" y="5074222"/>
                </a:cubicBezTo>
                <a:cubicBezTo>
                  <a:pt x="1792999" y="5074222"/>
                  <a:pt x="1766631" y="4988558"/>
                  <a:pt x="1773223" y="4968790"/>
                </a:cubicBezTo>
                <a:cubicBezTo>
                  <a:pt x="1773223" y="4942432"/>
                  <a:pt x="1753447" y="4843589"/>
                  <a:pt x="1753447" y="4843589"/>
                </a:cubicBezTo>
                <a:cubicBezTo>
                  <a:pt x="1773223" y="4738157"/>
                  <a:pt x="1773223" y="4738157"/>
                  <a:pt x="1773223" y="4738157"/>
                </a:cubicBezTo>
                <a:cubicBezTo>
                  <a:pt x="1766631" y="4678851"/>
                  <a:pt x="1766631" y="4678851"/>
                  <a:pt x="1766631" y="4678851"/>
                </a:cubicBezTo>
                <a:cubicBezTo>
                  <a:pt x="1694120" y="4639314"/>
                  <a:pt x="1694120" y="4639314"/>
                  <a:pt x="1694120" y="4639314"/>
                </a:cubicBezTo>
                <a:cubicBezTo>
                  <a:pt x="1694120" y="4639314"/>
                  <a:pt x="1634793" y="4599777"/>
                  <a:pt x="1641385" y="4652493"/>
                </a:cubicBezTo>
                <a:cubicBezTo>
                  <a:pt x="1647977" y="4705210"/>
                  <a:pt x="1628201" y="4738157"/>
                  <a:pt x="1628201" y="4738157"/>
                </a:cubicBezTo>
                <a:cubicBezTo>
                  <a:pt x="1582058" y="4757926"/>
                  <a:pt x="1549098" y="4738157"/>
                  <a:pt x="1562282" y="4711799"/>
                </a:cubicBezTo>
                <a:cubicBezTo>
                  <a:pt x="1575466" y="4692030"/>
                  <a:pt x="1575466" y="4692030"/>
                  <a:pt x="1575466" y="4692030"/>
                </a:cubicBezTo>
                <a:cubicBezTo>
                  <a:pt x="1582058" y="4612956"/>
                  <a:pt x="1582058" y="4612956"/>
                  <a:pt x="1582058" y="4612956"/>
                </a:cubicBezTo>
                <a:cubicBezTo>
                  <a:pt x="1535914" y="4580009"/>
                  <a:pt x="1535914" y="4580009"/>
                  <a:pt x="1535914" y="4580009"/>
                </a:cubicBezTo>
                <a:cubicBezTo>
                  <a:pt x="1535914" y="4580009"/>
                  <a:pt x="1529322" y="4553651"/>
                  <a:pt x="1502955" y="4533882"/>
                </a:cubicBezTo>
                <a:cubicBezTo>
                  <a:pt x="1483179" y="4507524"/>
                  <a:pt x="1483179" y="4507524"/>
                  <a:pt x="1483179" y="4507524"/>
                </a:cubicBezTo>
                <a:cubicBezTo>
                  <a:pt x="1390892" y="4461398"/>
                  <a:pt x="1390892" y="4461398"/>
                  <a:pt x="1390892" y="4461398"/>
                </a:cubicBezTo>
                <a:cubicBezTo>
                  <a:pt x="1390892" y="4461398"/>
                  <a:pt x="1357933" y="4494345"/>
                  <a:pt x="1344749" y="4514114"/>
                </a:cubicBezTo>
                <a:cubicBezTo>
                  <a:pt x="1331565" y="4540472"/>
                  <a:pt x="1285422" y="4553651"/>
                  <a:pt x="1285422" y="4553651"/>
                </a:cubicBezTo>
                <a:cubicBezTo>
                  <a:pt x="1206319" y="4553651"/>
                  <a:pt x="1206319" y="4553651"/>
                  <a:pt x="1206319" y="4553651"/>
                </a:cubicBezTo>
                <a:cubicBezTo>
                  <a:pt x="1160175" y="4527293"/>
                  <a:pt x="1160175" y="4527293"/>
                  <a:pt x="1160175" y="4527293"/>
                </a:cubicBezTo>
                <a:cubicBezTo>
                  <a:pt x="1140400" y="4448219"/>
                  <a:pt x="1140400" y="4448219"/>
                  <a:pt x="1140400" y="4448219"/>
                </a:cubicBezTo>
                <a:cubicBezTo>
                  <a:pt x="1140400" y="4448219"/>
                  <a:pt x="1127216" y="4421861"/>
                  <a:pt x="1100848" y="4402092"/>
                </a:cubicBezTo>
                <a:cubicBezTo>
                  <a:pt x="1081073" y="4375734"/>
                  <a:pt x="988786" y="4316428"/>
                  <a:pt x="988786" y="4316428"/>
                </a:cubicBezTo>
                <a:cubicBezTo>
                  <a:pt x="942643" y="4283481"/>
                  <a:pt x="942643" y="4283481"/>
                  <a:pt x="942643" y="4283481"/>
                </a:cubicBezTo>
                <a:cubicBezTo>
                  <a:pt x="942643" y="4283481"/>
                  <a:pt x="949234" y="4224175"/>
                  <a:pt x="949234" y="4197817"/>
                </a:cubicBezTo>
                <a:cubicBezTo>
                  <a:pt x="949234" y="4184638"/>
                  <a:pt x="955826" y="4184638"/>
                  <a:pt x="962418" y="4184638"/>
                </a:cubicBezTo>
                <a:cubicBezTo>
                  <a:pt x="969010" y="4184638"/>
                  <a:pt x="969010" y="4184638"/>
                  <a:pt x="942643" y="4171459"/>
                </a:cubicBezTo>
                <a:cubicBezTo>
                  <a:pt x="896499" y="4145101"/>
                  <a:pt x="955826" y="4164870"/>
                  <a:pt x="896499" y="4145101"/>
                </a:cubicBezTo>
                <a:cubicBezTo>
                  <a:pt x="837172" y="4125333"/>
                  <a:pt x="771253" y="4118743"/>
                  <a:pt x="804213" y="4079206"/>
                </a:cubicBezTo>
                <a:cubicBezTo>
                  <a:pt x="837172" y="4033080"/>
                  <a:pt x="837172" y="4033080"/>
                  <a:pt x="837172" y="4033080"/>
                </a:cubicBezTo>
                <a:cubicBezTo>
                  <a:pt x="837172" y="4033080"/>
                  <a:pt x="817396" y="3960595"/>
                  <a:pt x="791029" y="3973774"/>
                </a:cubicBezTo>
                <a:cubicBezTo>
                  <a:pt x="777845" y="3973774"/>
                  <a:pt x="771253" y="3973774"/>
                  <a:pt x="764661" y="3967185"/>
                </a:cubicBezTo>
                <a:cubicBezTo>
                  <a:pt x="758069" y="3960595"/>
                  <a:pt x="744885" y="3960595"/>
                  <a:pt x="725110" y="3986953"/>
                </a:cubicBezTo>
                <a:cubicBezTo>
                  <a:pt x="692150" y="4026490"/>
                  <a:pt x="731702" y="4000132"/>
                  <a:pt x="692150" y="4026490"/>
                </a:cubicBezTo>
                <a:cubicBezTo>
                  <a:pt x="646007" y="4052848"/>
                  <a:pt x="619639" y="4039669"/>
                  <a:pt x="619639" y="4039669"/>
                </a:cubicBezTo>
                <a:cubicBezTo>
                  <a:pt x="573496" y="3986953"/>
                  <a:pt x="573496" y="3986953"/>
                  <a:pt x="573496" y="3986953"/>
                </a:cubicBezTo>
                <a:cubicBezTo>
                  <a:pt x="593271" y="3934237"/>
                  <a:pt x="593271" y="3934237"/>
                  <a:pt x="593271" y="3934237"/>
                </a:cubicBezTo>
                <a:cubicBezTo>
                  <a:pt x="553720" y="3881521"/>
                  <a:pt x="566904" y="3848573"/>
                  <a:pt x="533944" y="3841984"/>
                </a:cubicBezTo>
                <a:cubicBezTo>
                  <a:pt x="494393" y="3835394"/>
                  <a:pt x="461433" y="3802447"/>
                  <a:pt x="461433" y="3802447"/>
                </a:cubicBezTo>
                <a:cubicBezTo>
                  <a:pt x="441658" y="3756320"/>
                  <a:pt x="441658" y="3756320"/>
                  <a:pt x="441658" y="3756320"/>
                </a:cubicBezTo>
                <a:cubicBezTo>
                  <a:pt x="441658" y="3756320"/>
                  <a:pt x="408698" y="3631120"/>
                  <a:pt x="375739" y="3637709"/>
                </a:cubicBezTo>
                <a:cubicBezTo>
                  <a:pt x="362555" y="3637709"/>
                  <a:pt x="355963" y="3631120"/>
                  <a:pt x="342779" y="3624530"/>
                </a:cubicBezTo>
                <a:cubicBezTo>
                  <a:pt x="336187" y="3617941"/>
                  <a:pt x="323003" y="3611351"/>
                  <a:pt x="309820" y="3611351"/>
                </a:cubicBezTo>
                <a:cubicBezTo>
                  <a:pt x="283452" y="3617941"/>
                  <a:pt x="204349" y="3611351"/>
                  <a:pt x="204349" y="3611351"/>
                </a:cubicBezTo>
                <a:cubicBezTo>
                  <a:pt x="138430" y="3558635"/>
                  <a:pt x="138430" y="3558635"/>
                  <a:pt x="138430" y="3558635"/>
                </a:cubicBezTo>
                <a:cubicBezTo>
                  <a:pt x="138430" y="3558635"/>
                  <a:pt x="138430" y="3538866"/>
                  <a:pt x="151614" y="3512508"/>
                </a:cubicBezTo>
                <a:cubicBezTo>
                  <a:pt x="164798" y="3492740"/>
                  <a:pt x="164798" y="3492740"/>
                  <a:pt x="164798" y="3492740"/>
                </a:cubicBezTo>
                <a:cubicBezTo>
                  <a:pt x="164798" y="3492740"/>
                  <a:pt x="158206" y="3505919"/>
                  <a:pt x="105470" y="3492740"/>
                </a:cubicBezTo>
                <a:cubicBezTo>
                  <a:pt x="52735" y="3486150"/>
                  <a:pt x="39551" y="3433434"/>
                  <a:pt x="39551" y="3433434"/>
                </a:cubicBezTo>
                <a:cubicBezTo>
                  <a:pt x="39551" y="3433434"/>
                  <a:pt x="59327" y="3400487"/>
                  <a:pt x="39551" y="3360950"/>
                </a:cubicBezTo>
                <a:cubicBezTo>
                  <a:pt x="26368" y="3328002"/>
                  <a:pt x="0" y="3229160"/>
                  <a:pt x="0" y="3229160"/>
                </a:cubicBezTo>
                <a:cubicBezTo>
                  <a:pt x="32959" y="3176444"/>
                  <a:pt x="32959" y="3176444"/>
                  <a:pt x="32959" y="3176444"/>
                </a:cubicBezTo>
                <a:cubicBezTo>
                  <a:pt x="112062" y="3117138"/>
                  <a:pt x="112062" y="3117138"/>
                  <a:pt x="112062" y="3117138"/>
                </a:cubicBezTo>
                <a:cubicBezTo>
                  <a:pt x="145022" y="3071011"/>
                  <a:pt x="158206" y="2978758"/>
                  <a:pt x="158206" y="2978758"/>
                </a:cubicBezTo>
                <a:cubicBezTo>
                  <a:pt x="210941" y="2965579"/>
                  <a:pt x="224125" y="2952400"/>
                  <a:pt x="257084" y="2952400"/>
                </a:cubicBezTo>
                <a:cubicBezTo>
                  <a:pt x="296636" y="2952400"/>
                  <a:pt x="296636" y="2932632"/>
                  <a:pt x="336187" y="2939221"/>
                </a:cubicBezTo>
                <a:cubicBezTo>
                  <a:pt x="369147" y="2945811"/>
                  <a:pt x="382330" y="2919453"/>
                  <a:pt x="382330" y="2919453"/>
                </a:cubicBezTo>
                <a:cubicBezTo>
                  <a:pt x="355963" y="2879916"/>
                  <a:pt x="342779" y="2853558"/>
                  <a:pt x="316411" y="2840379"/>
                </a:cubicBezTo>
                <a:cubicBezTo>
                  <a:pt x="296636" y="2827200"/>
                  <a:pt x="276860" y="2787662"/>
                  <a:pt x="276860" y="2787662"/>
                </a:cubicBezTo>
                <a:cubicBezTo>
                  <a:pt x="276860" y="2701999"/>
                  <a:pt x="276860" y="2701999"/>
                  <a:pt x="276860" y="2701999"/>
                </a:cubicBezTo>
                <a:cubicBezTo>
                  <a:pt x="276860" y="2701999"/>
                  <a:pt x="250492" y="2649283"/>
                  <a:pt x="263676" y="2622925"/>
                </a:cubicBezTo>
                <a:cubicBezTo>
                  <a:pt x="276860" y="2603156"/>
                  <a:pt x="210941" y="2622925"/>
                  <a:pt x="276860" y="2603156"/>
                </a:cubicBezTo>
                <a:cubicBezTo>
                  <a:pt x="342779" y="2583388"/>
                  <a:pt x="342779" y="2583388"/>
                  <a:pt x="342779" y="2583388"/>
                </a:cubicBezTo>
                <a:cubicBezTo>
                  <a:pt x="355963" y="2517493"/>
                  <a:pt x="355963" y="2517493"/>
                  <a:pt x="355963" y="2517493"/>
                </a:cubicBezTo>
                <a:cubicBezTo>
                  <a:pt x="355963" y="2431829"/>
                  <a:pt x="355963" y="2431829"/>
                  <a:pt x="355963" y="2431829"/>
                </a:cubicBezTo>
                <a:cubicBezTo>
                  <a:pt x="408698" y="2398881"/>
                  <a:pt x="408698" y="2398881"/>
                  <a:pt x="408698" y="2398881"/>
                </a:cubicBezTo>
                <a:cubicBezTo>
                  <a:pt x="474617" y="2372523"/>
                  <a:pt x="474617" y="2372523"/>
                  <a:pt x="474617" y="2372523"/>
                </a:cubicBezTo>
                <a:cubicBezTo>
                  <a:pt x="547128" y="2332986"/>
                  <a:pt x="547128" y="2332986"/>
                  <a:pt x="547128" y="2332986"/>
                </a:cubicBezTo>
                <a:cubicBezTo>
                  <a:pt x="553720" y="2240733"/>
                  <a:pt x="553720" y="2240733"/>
                  <a:pt x="553720" y="2240733"/>
                </a:cubicBezTo>
                <a:cubicBezTo>
                  <a:pt x="487801" y="2214375"/>
                  <a:pt x="487801" y="2214375"/>
                  <a:pt x="487801" y="2214375"/>
                </a:cubicBezTo>
                <a:cubicBezTo>
                  <a:pt x="487801" y="2214375"/>
                  <a:pt x="481209" y="2122122"/>
                  <a:pt x="507577" y="2115533"/>
                </a:cubicBezTo>
                <a:cubicBezTo>
                  <a:pt x="540536" y="2115533"/>
                  <a:pt x="586680" y="2082585"/>
                  <a:pt x="586680" y="2082585"/>
                </a:cubicBezTo>
                <a:cubicBezTo>
                  <a:pt x="586680" y="2082585"/>
                  <a:pt x="652599" y="2108943"/>
                  <a:pt x="659191" y="2075995"/>
                </a:cubicBezTo>
                <a:cubicBezTo>
                  <a:pt x="665782" y="2049637"/>
                  <a:pt x="672374" y="2023279"/>
                  <a:pt x="678966" y="1990332"/>
                </a:cubicBezTo>
                <a:cubicBezTo>
                  <a:pt x="685558" y="1957384"/>
                  <a:pt x="725110" y="1884900"/>
                  <a:pt x="725110" y="1884900"/>
                </a:cubicBezTo>
                <a:cubicBezTo>
                  <a:pt x="725110" y="1884900"/>
                  <a:pt x="777845" y="1851952"/>
                  <a:pt x="804213" y="1865131"/>
                </a:cubicBezTo>
                <a:cubicBezTo>
                  <a:pt x="823988" y="1878310"/>
                  <a:pt x="856948" y="1884900"/>
                  <a:pt x="896499" y="1891489"/>
                </a:cubicBezTo>
                <a:cubicBezTo>
                  <a:pt x="929459" y="1898079"/>
                  <a:pt x="922867" y="1911258"/>
                  <a:pt x="969010" y="1911258"/>
                </a:cubicBezTo>
                <a:cubicBezTo>
                  <a:pt x="1015154" y="1917847"/>
                  <a:pt x="1074481" y="1937616"/>
                  <a:pt x="1074481" y="1911258"/>
                </a:cubicBezTo>
                <a:cubicBezTo>
                  <a:pt x="1081073" y="1884900"/>
                  <a:pt x="1114032" y="1851952"/>
                  <a:pt x="1114032" y="1825594"/>
                </a:cubicBezTo>
                <a:cubicBezTo>
                  <a:pt x="1107440" y="1799236"/>
                  <a:pt x="1146992" y="1733341"/>
                  <a:pt x="1146992" y="1733341"/>
                </a:cubicBezTo>
                <a:cubicBezTo>
                  <a:pt x="1239278" y="1739931"/>
                  <a:pt x="1239278" y="1739931"/>
                  <a:pt x="1239278" y="1739931"/>
                </a:cubicBezTo>
                <a:cubicBezTo>
                  <a:pt x="1245870" y="1786057"/>
                  <a:pt x="1245870" y="1786057"/>
                  <a:pt x="1245870" y="1786057"/>
                </a:cubicBezTo>
                <a:cubicBezTo>
                  <a:pt x="1245870" y="1786057"/>
                  <a:pt x="1259054" y="1845363"/>
                  <a:pt x="1239278" y="1865131"/>
                </a:cubicBezTo>
                <a:cubicBezTo>
                  <a:pt x="1212911" y="1884900"/>
                  <a:pt x="1206319" y="1931026"/>
                  <a:pt x="1232686" y="1931026"/>
                </a:cubicBezTo>
                <a:cubicBezTo>
                  <a:pt x="1259054" y="1937616"/>
                  <a:pt x="1456811" y="1937616"/>
                  <a:pt x="1437036" y="1924437"/>
                </a:cubicBezTo>
                <a:cubicBezTo>
                  <a:pt x="1423852" y="1911258"/>
                  <a:pt x="1423852" y="1911258"/>
                  <a:pt x="1423852" y="1911258"/>
                </a:cubicBezTo>
                <a:cubicBezTo>
                  <a:pt x="1509547" y="1759699"/>
                  <a:pt x="1509547" y="1759699"/>
                  <a:pt x="1509547" y="1759699"/>
                </a:cubicBezTo>
                <a:cubicBezTo>
                  <a:pt x="1509547" y="1759699"/>
                  <a:pt x="1397484" y="1746520"/>
                  <a:pt x="1443628" y="1594961"/>
                </a:cubicBezTo>
                <a:cubicBezTo>
                  <a:pt x="1451868" y="1571898"/>
                  <a:pt x="1456811" y="1555836"/>
                  <a:pt x="1459489" y="1545025"/>
                </a:cubicBezTo>
                <a:lnTo>
                  <a:pt x="1461715" y="1526922"/>
                </a:lnTo>
                <a:lnTo>
                  <a:pt x="1488123" y="1496942"/>
                </a:lnTo>
                <a:cubicBezTo>
                  <a:pt x="1506251" y="1477998"/>
                  <a:pt x="1522730" y="1463171"/>
                  <a:pt x="1522730" y="1463171"/>
                </a:cubicBezTo>
                <a:close/>
                <a:moveTo>
                  <a:pt x="2832694" y="1433993"/>
                </a:moveTo>
                <a:cubicBezTo>
                  <a:pt x="2837256" y="1432473"/>
                  <a:pt x="2842121" y="1433283"/>
                  <a:pt x="2846987" y="1438149"/>
                </a:cubicBezTo>
                <a:cubicBezTo>
                  <a:pt x="2834012" y="1470586"/>
                  <a:pt x="2834012" y="1470586"/>
                  <a:pt x="2834012" y="1470586"/>
                </a:cubicBezTo>
                <a:cubicBezTo>
                  <a:pt x="2821037" y="1477073"/>
                  <a:pt x="2808063" y="1464098"/>
                  <a:pt x="2808063" y="1464098"/>
                </a:cubicBezTo>
                <a:cubicBezTo>
                  <a:pt x="2808063" y="1464098"/>
                  <a:pt x="2819010" y="1438554"/>
                  <a:pt x="2832694" y="1433993"/>
                </a:cubicBezTo>
                <a:close/>
                <a:moveTo>
                  <a:pt x="3278763" y="1399123"/>
                </a:moveTo>
                <a:cubicBezTo>
                  <a:pt x="3284934" y="1398814"/>
                  <a:pt x="3289047" y="1401697"/>
                  <a:pt x="3289047" y="1409935"/>
                </a:cubicBezTo>
                <a:cubicBezTo>
                  <a:pt x="3289047" y="1409935"/>
                  <a:pt x="3282465" y="1449477"/>
                  <a:pt x="3242974" y="1436296"/>
                </a:cubicBezTo>
                <a:cubicBezTo>
                  <a:pt x="3190319" y="1469248"/>
                  <a:pt x="3190319" y="1469248"/>
                  <a:pt x="3190319" y="1469248"/>
                </a:cubicBezTo>
                <a:cubicBezTo>
                  <a:pt x="3104755" y="1495609"/>
                  <a:pt x="3104755" y="1495609"/>
                  <a:pt x="3104755" y="1495609"/>
                </a:cubicBezTo>
                <a:cubicBezTo>
                  <a:pt x="3038937" y="1508789"/>
                  <a:pt x="3038937" y="1508789"/>
                  <a:pt x="3038937" y="1508789"/>
                </a:cubicBezTo>
                <a:lnTo>
                  <a:pt x="2966537" y="1554921"/>
                </a:lnTo>
                <a:cubicBezTo>
                  <a:pt x="2966537" y="1554921"/>
                  <a:pt x="2992864" y="1508789"/>
                  <a:pt x="3025773" y="1502199"/>
                </a:cubicBezTo>
                <a:cubicBezTo>
                  <a:pt x="3078428" y="1489018"/>
                  <a:pt x="3078428" y="1489018"/>
                  <a:pt x="3078428" y="1489018"/>
                </a:cubicBezTo>
                <a:cubicBezTo>
                  <a:pt x="3157410" y="1462657"/>
                  <a:pt x="3157410" y="1462657"/>
                  <a:pt x="3157410" y="1462657"/>
                </a:cubicBezTo>
                <a:cubicBezTo>
                  <a:pt x="3223228" y="1429706"/>
                  <a:pt x="3223228" y="1429706"/>
                  <a:pt x="3223228" y="1429706"/>
                </a:cubicBezTo>
                <a:cubicBezTo>
                  <a:pt x="3223228" y="1429706"/>
                  <a:pt x="3260252" y="1400050"/>
                  <a:pt x="3278763" y="1399123"/>
                </a:cubicBezTo>
                <a:close/>
                <a:moveTo>
                  <a:pt x="3040257" y="1218887"/>
                </a:moveTo>
                <a:cubicBezTo>
                  <a:pt x="3042733" y="1219819"/>
                  <a:pt x="3044384" y="1222305"/>
                  <a:pt x="3044384" y="1227278"/>
                </a:cubicBezTo>
                <a:lnTo>
                  <a:pt x="2938734" y="1293577"/>
                </a:lnTo>
                <a:cubicBezTo>
                  <a:pt x="2938734" y="1293577"/>
                  <a:pt x="2938734" y="1293577"/>
                  <a:pt x="2984956" y="1253797"/>
                </a:cubicBezTo>
                <a:cubicBezTo>
                  <a:pt x="2984956" y="1253797"/>
                  <a:pt x="2984956" y="1253797"/>
                  <a:pt x="3017971" y="1227278"/>
                </a:cubicBezTo>
                <a:cubicBezTo>
                  <a:pt x="3017971" y="1227278"/>
                  <a:pt x="3032828" y="1216090"/>
                  <a:pt x="3040257" y="1218887"/>
                </a:cubicBezTo>
                <a:close/>
                <a:moveTo>
                  <a:pt x="3577972" y="974958"/>
                </a:moveTo>
                <a:cubicBezTo>
                  <a:pt x="3577972" y="974958"/>
                  <a:pt x="3597656" y="1001648"/>
                  <a:pt x="3571410" y="1008321"/>
                </a:cubicBezTo>
                <a:cubicBezTo>
                  <a:pt x="3532042" y="1035011"/>
                  <a:pt x="3532042" y="1035011"/>
                  <a:pt x="3532042" y="1035011"/>
                </a:cubicBezTo>
                <a:cubicBezTo>
                  <a:pt x="3532042" y="1035011"/>
                  <a:pt x="3453305" y="1101737"/>
                  <a:pt x="3433620" y="1081719"/>
                </a:cubicBezTo>
                <a:cubicBezTo>
                  <a:pt x="3538603" y="1008321"/>
                  <a:pt x="3538603" y="1008321"/>
                  <a:pt x="3538603" y="1008321"/>
                </a:cubicBezTo>
                <a:cubicBezTo>
                  <a:pt x="3538603" y="1008321"/>
                  <a:pt x="3564849" y="968285"/>
                  <a:pt x="3577972" y="974958"/>
                </a:cubicBezTo>
                <a:close/>
                <a:moveTo>
                  <a:pt x="3116672" y="937703"/>
                </a:moveTo>
                <a:cubicBezTo>
                  <a:pt x="3116672" y="937703"/>
                  <a:pt x="3077351" y="1016345"/>
                  <a:pt x="3024923" y="1029452"/>
                </a:cubicBezTo>
                <a:cubicBezTo>
                  <a:pt x="3116672" y="937703"/>
                  <a:pt x="3116672" y="937703"/>
                  <a:pt x="3116672" y="937703"/>
                </a:cubicBezTo>
                <a:close/>
                <a:moveTo>
                  <a:pt x="3049945" y="929362"/>
                </a:moveTo>
                <a:lnTo>
                  <a:pt x="2944295" y="1040572"/>
                </a:lnTo>
                <a:lnTo>
                  <a:pt x="2985999" y="990527"/>
                </a:lnTo>
                <a:lnTo>
                  <a:pt x="3049945" y="929362"/>
                </a:lnTo>
                <a:close/>
                <a:moveTo>
                  <a:pt x="3873636" y="467839"/>
                </a:moveTo>
                <a:cubicBezTo>
                  <a:pt x="3873636" y="467839"/>
                  <a:pt x="3873636" y="467839"/>
                  <a:pt x="3886803" y="467839"/>
                </a:cubicBezTo>
                <a:cubicBezTo>
                  <a:pt x="3886803" y="467839"/>
                  <a:pt x="3886803" y="467839"/>
                  <a:pt x="3873636" y="494178"/>
                </a:cubicBezTo>
                <a:cubicBezTo>
                  <a:pt x="3867053" y="507348"/>
                  <a:pt x="3840719" y="513933"/>
                  <a:pt x="3840719" y="513933"/>
                </a:cubicBezTo>
                <a:cubicBezTo>
                  <a:pt x="3840719" y="513933"/>
                  <a:pt x="3840719" y="513933"/>
                  <a:pt x="3728800" y="612705"/>
                </a:cubicBezTo>
                <a:cubicBezTo>
                  <a:pt x="3728800" y="612705"/>
                  <a:pt x="3728800" y="612705"/>
                  <a:pt x="3551047" y="770741"/>
                </a:cubicBezTo>
                <a:cubicBezTo>
                  <a:pt x="3551047" y="770741"/>
                  <a:pt x="3551047" y="770741"/>
                  <a:pt x="3472046" y="816835"/>
                </a:cubicBezTo>
                <a:cubicBezTo>
                  <a:pt x="3472046" y="816835"/>
                  <a:pt x="3472046" y="816835"/>
                  <a:pt x="3425962" y="862929"/>
                </a:cubicBezTo>
                <a:cubicBezTo>
                  <a:pt x="3425962" y="862929"/>
                  <a:pt x="3425962" y="862929"/>
                  <a:pt x="3366710" y="935362"/>
                </a:cubicBezTo>
                <a:cubicBezTo>
                  <a:pt x="3366710" y="935362"/>
                  <a:pt x="3366710" y="935362"/>
                  <a:pt x="3327210" y="981456"/>
                </a:cubicBezTo>
                <a:cubicBezTo>
                  <a:pt x="3327210" y="981456"/>
                  <a:pt x="3327210" y="981456"/>
                  <a:pt x="3281126" y="1020965"/>
                </a:cubicBezTo>
                <a:cubicBezTo>
                  <a:pt x="3281126" y="1020965"/>
                  <a:pt x="3281126" y="1020965"/>
                  <a:pt x="3188957" y="1093398"/>
                </a:cubicBezTo>
                <a:cubicBezTo>
                  <a:pt x="3188957" y="1093398"/>
                  <a:pt x="3215291" y="1047304"/>
                  <a:pt x="3221874" y="1040719"/>
                </a:cubicBezTo>
                <a:cubicBezTo>
                  <a:pt x="3221874" y="1040719"/>
                  <a:pt x="3221874" y="1040719"/>
                  <a:pt x="3248208" y="1014380"/>
                </a:cubicBezTo>
                <a:cubicBezTo>
                  <a:pt x="3248208" y="1014380"/>
                  <a:pt x="3248208" y="1014380"/>
                  <a:pt x="3267959" y="994625"/>
                </a:cubicBezTo>
                <a:cubicBezTo>
                  <a:pt x="3267959" y="994625"/>
                  <a:pt x="3267959" y="994625"/>
                  <a:pt x="3294292" y="974871"/>
                </a:cubicBezTo>
                <a:cubicBezTo>
                  <a:pt x="3294292" y="974871"/>
                  <a:pt x="3294292" y="974871"/>
                  <a:pt x="3314043" y="961701"/>
                </a:cubicBezTo>
                <a:cubicBezTo>
                  <a:pt x="3314043" y="961701"/>
                  <a:pt x="3314043" y="961701"/>
                  <a:pt x="3346960" y="922192"/>
                </a:cubicBezTo>
                <a:cubicBezTo>
                  <a:pt x="3346960" y="922192"/>
                  <a:pt x="3346960" y="922192"/>
                  <a:pt x="3406211" y="862929"/>
                </a:cubicBezTo>
                <a:cubicBezTo>
                  <a:pt x="3406211" y="862929"/>
                  <a:pt x="3406211" y="862929"/>
                  <a:pt x="3432545" y="843174"/>
                </a:cubicBezTo>
                <a:cubicBezTo>
                  <a:pt x="3432545" y="843174"/>
                  <a:pt x="3504963" y="783911"/>
                  <a:pt x="3518130" y="770741"/>
                </a:cubicBezTo>
                <a:cubicBezTo>
                  <a:pt x="3531297" y="757572"/>
                  <a:pt x="3537880" y="757572"/>
                  <a:pt x="3537880" y="757572"/>
                </a:cubicBezTo>
                <a:cubicBezTo>
                  <a:pt x="3537880" y="757572"/>
                  <a:pt x="3564214" y="744402"/>
                  <a:pt x="3570797" y="737817"/>
                </a:cubicBezTo>
                <a:cubicBezTo>
                  <a:pt x="3577381" y="731232"/>
                  <a:pt x="3583964" y="724647"/>
                  <a:pt x="3597131" y="711478"/>
                </a:cubicBezTo>
                <a:cubicBezTo>
                  <a:pt x="3610298" y="698308"/>
                  <a:pt x="3623465" y="691723"/>
                  <a:pt x="3636632" y="678554"/>
                </a:cubicBezTo>
                <a:cubicBezTo>
                  <a:pt x="3643215" y="665384"/>
                  <a:pt x="3682716" y="639045"/>
                  <a:pt x="3682716" y="639045"/>
                </a:cubicBezTo>
                <a:cubicBezTo>
                  <a:pt x="3682716" y="639045"/>
                  <a:pt x="3682716" y="639045"/>
                  <a:pt x="3722217" y="606120"/>
                </a:cubicBezTo>
                <a:cubicBezTo>
                  <a:pt x="3722217" y="606120"/>
                  <a:pt x="3827552" y="507348"/>
                  <a:pt x="3834136" y="500763"/>
                </a:cubicBezTo>
                <a:cubicBezTo>
                  <a:pt x="3834136" y="494178"/>
                  <a:pt x="3853886" y="487593"/>
                  <a:pt x="3853886" y="487593"/>
                </a:cubicBezTo>
                <a:cubicBezTo>
                  <a:pt x="3853886" y="487593"/>
                  <a:pt x="3860469" y="481009"/>
                  <a:pt x="3873636" y="467839"/>
                </a:cubicBezTo>
                <a:close/>
                <a:moveTo>
                  <a:pt x="2746897" y="423355"/>
                </a:moveTo>
                <a:lnTo>
                  <a:pt x="2760799" y="437257"/>
                </a:lnTo>
                <a:lnTo>
                  <a:pt x="2741336" y="448378"/>
                </a:lnTo>
                <a:lnTo>
                  <a:pt x="2741336" y="428916"/>
                </a:lnTo>
                <a:lnTo>
                  <a:pt x="2746897" y="423355"/>
                </a:lnTo>
                <a:close/>
                <a:moveTo>
                  <a:pt x="2272464" y="95"/>
                </a:moveTo>
                <a:cubicBezTo>
                  <a:pt x="2284975" y="1034"/>
                  <a:pt x="2299274" y="8540"/>
                  <a:pt x="2299274" y="8540"/>
                </a:cubicBezTo>
                <a:lnTo>
                  <a:pt x="2273854" y="28558"/>
                </a:lnTo>
                <a:cubicBezTo>
                  <a:pt x="2273854" y="28558"/>
                  <a:pt x="2273854" y="28558"/>
                  <a:pt x="2254790" y="28558"/>
                </a:cubicBezTo>
                <a:cubicBezTo>
                  <a:pt x="2254790" y="28558"/>
                  <a:pt x="2254790" y="8540"/>
                  <a:pt x="2261145" y="1868"/>
                </a:cubicBezTo>
                <a:cubicBezTo>
                  <a:pt x="2264322" y="200"/>
                  <a:pt x="2268294" y="-217"/>
                  <a:pt x="2272464" y="9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5"/>
          <p:cNvSpPr/>
          <p:nvPr/>
        </p:nvSpPr>
        <p:spPr>
          <a:xfrm>
            <a:off x="3714840" y="5378400"/>
            <a:ext cx="533160" cy="44136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29"/>
                </a:moveTo>
                <a:cubicBezTo>
                  <a:pt x="78" y="29"/>
                  <a:pt x="78" y="29"/>
                  <a:pt x="78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moveTo>
                  <a:pt x="40" y="0"/>
                </a:moveTo>
                <a:cubicBezTo>
                  <a:pt x="40" y="0"/>
                  <a:pt x="38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5" y="2"/>
                  <a:pt x="35" y="3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4"/>
                  <a:pt x="35" y="4"/>
                  <a:pt x="34" y="4"/>
                </a:cubicBezTo>
                <a:cubicBezTo>
                  <a:pt x="34" y="3"/>
                  <a:pt x="33" y="3"/>
                  <a:pt x="33" y="3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6"/>
                  <a:pt x="32" y="7"/>
                </a:cubicBezTo>
                <a:cubicBezTo>
                  <a:pt x="32" y="7"/>
                  <a:pt x="32" y="8"/>
                  <a:pt x="32" y="8"/>
                </a:cubicBezTo>
                <a:cubicBezTo>
                  <a:pt x="32" y="9"/>
                  <a:pt x="29" y="10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8" y="11"/>
                  <a:pt x="27" y="11"/>
                </a:cubicBezTo>
                <a:cubicBezTo>
                  <a:pt x="27" y="12"/>
                  <a:pt x="27" y="12"/>
                  <a:pt x="26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3"/>
                  <a:pt x="23" y="14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6"/>
                  <a:pt x="25" y="16"/>
                  <a:pt x="25" y="17"/>
                </a:cubicBezTo>
                <a:cubicBezTo>
                  <a:pt x="25" y="17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3" y="17"/>
                  <a:pt x="22" y="17"/>
                  <a:pt x="22" y="17"/>
                </a:cubicBezTo>
                <a:cubicBezTo>
                  <a:pt x="22" y="17"/>
                  <a:pt x="22" y="18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20"/>
                  <a:pt x="21" y="20"/>
                </a:cubicBezTo>
                <a:cubicBezTo>
                  <a:pt x="21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0"/>
                  <a:pt x="18" y="20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6" y="23"/>
                  <a:pt x="16" y="23"/>
                </a:cubicBezTo>
                <a:cubicBezTo>
                  <a:pt x="15" y="24"/>
                  <a:pt x="15" y="24"/>
                  <a:pt x="15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8"/>
                  <a:pt x="14" y="28"/>
                </a:cubicBezTo>
                <a:cubicBezTo>
                  <a:pt x="14" y="28"/>
                  <a:pt x="15" y="29"/>
                  <a:pt x="15" y="29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3" y="31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3"/>
                  <a:pt x="12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9" y="33"/>
                  <a:pt x="9" y="33"/>
                  <a:pt x="9" y="34"/>
                </a:cubicBezTo>
                <a:cubicBezTo>
                  <a:pt x="9" y="34"/>
                  <a:pt x="10" y="34"/>
                  <a:pt x="10" y="34"/>
                </a:cubicBezTo>
                <a:cubicBezTo>
                  <a:pt x="10" y="34"/>
                  <a:pt x="11" y="34"/>
                  <a:pt x="11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2" y="34"/>
                  <a:pt x="11" y="35"/>
                  <a:pt x="11" y="35"/>
                </a:cubicBezTo>
                <a:cubicBezTo>
                  <a:pt x="11" y="37"/>
                  <a:pt x="11" y="37"/>
                  <a:pt x="11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5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3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8"/>
                  <a:pt x="0" y="38"/>
                  <a:pt x="0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8"/>
                  <a:pt x="13" y="38"/>
                </a:cubicBezTo>
                <a:cubicBezTo>
                  <a:pt x="13" y="38"/>
                  <a:pt x="14" y="40"/>
                  <a:pt x="14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6" y="42"/>
                  <a:pt x="16" y="42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5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6" y="45"/>
                </a:cubicBezTo>
                <a:cubicBezTo>
                  <a:pt x="17" y="45"/>
                  <a:pt x="16" y="45"/>
                  <a:pt x="17" y="45"/>
                </a:cubicBezTo>
                <a:cubicBezTo>
                  <a:pt x="18" y="45"/>
                  <a:pt x="17" y="47"/>
                  <a:pt x="17" y="47"/>
                </a:cubicBezTo>
                <a:cubicBezTo>
                  <a:pt x="17" y="47"/>
                  <a:pt x="17" y="47"/>
                  <a:pt x="16" y="47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2" y="49"/>
                  <a:pt x="12" y="49"/>
                  <a:pt x="11" y="50"/>
                </a:cubicBezTo>
                <a:cubicBezTo>
                  <a:pt x="11" y="50"/>
                  <a:pt x="11" y="51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2" y="52"/>
                  <a:pt x="12" y="51"/>
                  <a:pt x="12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9"/>
                  <a:pt x="15" y="49"/>
                  <a:pt x="15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2"/>
                  <a:pt x="17" y="52"/>
                  <a:pt x="18" y="53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9" y="54"/>
                  <a:pt x="20" y="54"/>
                </a:cubicBezTo>
                <a:cubicBezTo>
                  <a:pt x="20" y="54"/>
                  <a:pt x="20" y="54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4"/>
                  <a:pt x="23" y="54"/>
                </a:cubicBezTo>
                <a:cubicBezTo>
                  <a:pt x="23" y="54"/>
                  <a:pt x="24" y="55"/>
                  <a:pt x="24" y="55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8"/>
                  <a:pt x="25" y="58"/>
                  <a:pt x="25" y="58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60"/>
                  <a:pt x="27" y="60"/>
                  <a:pt x="27" y="60"/>
                </a:cubicBezTo>
                <a:cubicBezTo>
                  <a:pt x="28" y="60"/>
                  <a:pt x="29" y="60"/>
                  <a:pt x="29" y="60"/>
                </a:cubicBezTo>
                <a:cubicBezTo>
                  <a:pt x="29" y="61"/>
                  <a:pt x="29" y="61"/>
                  <a:pt x="29" y="61"/>
                </a:cubicBezTo>
                <a:cubicBezTo>
                  <a:pt x="30" y="63"/>
                  <a:pt x="30" y="63"/>
                  <a:pt x="30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4" y="64"/>
                  <a:pt x="34" y="64"/>
                  <a:pt x="34" y="64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38" y="65"/>
                  <a:pt x="38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2" y="64"/>
                  <a:pt x="43" y="64"/>
                </a:cubicBezTo>
                <a:cubicBezTo>
                  <a:pt x="44" y="63"/>
                  <a:pt x="44" y="63"/>
                  <a:pt x="44" y="63"/>
                </a:cubicBezTo>
                <a:cubicBezTo>
                  <a:pt x="46" y="62"/>
                  <a:pt x="46" y="62"/>
                  <a:pt x="46" y="62"/>
                </a:cubicBezTo>
                <a:cubicBezTo>
                  <a:pt x="46" y="62"/>
                  <a:pt x="46" y="62"/>
                  <a:pt x="46" y="62"/>
                </a:cubicBezTo>
                <a:cubicBezTo>
                  <a:pt x="47" y="63"/>
                  <a:pt x="47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1"/>
                  <a:pt x="49" y="61"/>
                  <a:pt x="49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2" y="61"/>
                  <a:pt x="52" y="60"/>
                  <a:pt x="52" y="60"/>
                </a:cubicBezTo>
                <a:cubicBezTo>
                  <a:pt x="52" y="58"/>
                  <a:pt x="52" y="58"/>
                  <a:pt x="52" y="58"/>
                </a:cubicBezTo>
                <a:cubicBezTo>
                  <a:pt x="54" y="59"/>
                  <a:pt x="54" y="59"/>
                  <a:pt x="54" y="59"/>
                </a:cubicBezTo>
                <a:cubicBezTo>
                  <a:pt x="54" y="59"/>
                  <a:pt x="54" y="58"/>
                  <a:pt x="54" y="58"/>
                </a:cubicBezTo>
                <a:cubicBezTo>
                  <a:pt x="55" y="58"/>
                  <a:pt x="55" y="59"/>
                  <a:pt x="56" y="59"/>
                </a:cubicBezTo>
                <a:cubicBezTo>
                  <a:pt x="57" y="59"/>
                  <a:pt x="57" y="60"/>
                  <a:pt x="57" y="60"/>
                </a:cubicBezTo>
                <a:cubicBezTo>
                  <a:pt x="57" y="60"/>
                  <a:pt x="57" y="59"/>
                  <a:pt x="57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61" y="61"/>
                  <a:pt x="61" y="61"/>
                  <a:pt x="61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63" y="62"/>
                  <a:pt x="63" y="62"/>
                  <a:pt x="63" y="62"/>
                </a:cubicBezTo>
                <a:cubicBezTo>
                  <a:pt x="62" y="60"/>
                  <a:pt x="62" y="60"/>
                  <a:pt x="62" y="60"/>
                </a:cubicBezTo>
                <a:cubicBezTo>
                  <a:pt x="61" y="58"/>
                  <a:pt x="61" y="58"/>
                  <a:pt x="61" y="58"/>
                </a:cubicBezTo>
                <a:cubicBezTo>
                  <a:pt x="62" y="56"/>
                  <a:pt x="62" y="56"/>
                  <a:pt x="62" y="56"/>
                </a:cubicBezTo>
                <a:cubicBezTo>
                  <a:pt x="63" y="55"/>
                  <a:pt x="63" y="55"/>
                  <a:pt x="63" y="55"/>
                </a:cubicBezTo>
                <a:cubicBezTo>
                  <a:pt x="64" y="52"/>
                  <a:pt x="64" y="52"/>
                  <a:pt x="64" y="52"/>
                </a:cubicBezTo>
                <a:cubicBezTo>
                  <a:pt x="64" y="52"/>
                  <a:pt x="64" y="52"/>
                  <a:pt x="64" y="52"/>
                </a:cubicBezTo>
                <a:cubicBezTo>
                  <a:pt x="66" y="52"/>
                  <a:pt x="67" y="51"/>
                  <a:pt x="67" y="51"/>
                </a:cubicBezTo>
                <a:cubicBezTo>
                  <a:pt x="68" y="50"/>
                  <a:pt x="68" y="50"/>
                  <a:pt x="68" y="50"/>
                </a:cubicBezTo>
                <a:cubicBezTo>
                  <a:pt x="68" y="50"/>
                  <a:pt x="68" y="50"/>
                  <a:pt x="68" y="50"/>
                </a:cubicBezTo>
                <a:cubicBezTo>
                  <a:pt x="69" y="50"/>
                  <a:pt x="70" y="50"/>
                  <a:pt x="70" y="50"/>
                </a:cubicBezTo>
                <a:cubicBezTo>
                  <a:pt x="70" y="51"/>
                  <a:pt x="71" y="51"/>
                  <a:pt x="71" y="51"/>
                </a:cubicBezTo>
                <a:cubicBezTo>
                  <a:pt x="72" y="51"/>
                  <a:pt x="72" y="50"/>
                  <a:pt x="72" y="50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5" y="51"/>
                  <a:pt x="75" y="50"/>
                  <a:pt x="75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9" y="48"/>
                  <a:pt x="77" y="46"/>
                  <a:pt x="77" y="46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4"/>
                  <a:pt x="76" y="44"/>
                  <a:pt x="75" y="44"/>
                </a:cubicBezTo>
                <a:cubicBezTo>
                  <a:pt x="75" y="44"/>
                  <a:pt x="74" y="44"/>
                  <a:pt x="74" y="44"/>
                </a:cubicBezTo>
                <a:cubicBezTo>
                  <a:pt x="74" y="44"/>
                  <a:pt x="74" y="43"/>
                  <a:pt x="74" y="43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38"/>
                  <a:pt x="71" y="37"/>
                  <a:pt x="71" y="37"/>
                </a:cubicBezTo>
                <a:cubicBezTo>
                  <a:pt x="69" y="35"/>
                  <a:pt x="71" y="33"/>
                  <a:pt x="71" y="33"/>
                </a:cubicBezTo>
                <a:cubicBezTo>
                  <a:pt x="71" y="32"/>
                  <a:pt x="72" y="31"/>
                  <a:pt x="72" y="31"/>
                </a:cubicBezTo>
                <a:cubicBezTo>
                  <a:pt x="74" y="32"/>
                  <a:pt x="74" y="32"/>
                  <a:pt x="74" y="32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9" y="32"/>
                  <a:pt x="80" y="32"/>
                </a:cubicBezTo>
                <a:cubicBezTo>
                  <a:pt x="80" y="32"/>
                  <a:pt x="80" y="32"/>
                  <a:pt x="80" y="32"/>
                </a:cubicBezTo>
                <a:cubicBezTo>
                  <a:pt x="81" y="32"/>
                  <a:pt x="81" y="31"/>
                  <a:pt x="81" y="31"/>
                </a:cubicBezTo>
                <a:cubicBezTo>
                  <a:pt x="81" y="31"/>
                  <a:pt x="80" y="30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cubicBezTo>
                  <a:pt x="77" y="29"/>
                  <a:pt x="77" y="29"/>
                  <a:pt x="76" y="29"/>
                </a:cubicBezTo>
                <a:cubicBezTo>
                  <a:pt x="74" y="29"/>
                  <a:pt x="74" y="30"/>
                  <a:pt x="74" y="30"/>
                </a:cubicBezTo>
                <a:cubicBezTo>
                  <a:pt x="71" y="29"/>
                  <a:pt x="71" y="29"/>
                  <a:pt x="71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5"/>
                  <a:pt x="70" y="25"/>
                </a:cubicBezTo>
                <a:cubicBezTo>
                  <a:pt x="70" y="25"/>
                  <a:pt x="70" y="25"/>
                  <a:pt x="70" y="25"/>
                </a:cubicBezTo>
                <a:cubicBezTo>
                  <a:pt x="71" y="25"/>
                  <a:pt x="71" y="25"/>
                  <a:pt x="71" y="25"/>
                </a:cubicBezTo>
                <a:cubicBezTo>
                  <a:pt x="72" y="25"/>
                  <a:pt x="72" y="25"/>
                  <a:pt x="72" y="25"/>
                </a:cubicBezTo>
                <a:cubicBezTo>
                  <a:pt x="73" y="25"/>
                  <a:pt x="73" y="25"/>
                  <a:pt x="73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3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1" y="22"/>
                  <a:pt x="70" y="22"/>
                </a:cubicBezTo>
                <a:cubicBezTo>
                  <a:pt x="70" y="22"/>
                  <a:pt x="70" y="20"/>
                  <a:pt x="70" y="20"/>
                </a:cubicBezTo>
                <a:cubicBezTo>
                  <a:pt x="70" y="19"/>
                  <a:pt x="70" y="19"/>
                  <a:pt x="71" y="18"/>
                </a:cubicBezTo>
                <a:cubicBezTo>
                  <a:pt x="71" y="17"/>
                  <a:pt x="71" y="17"/>
                  <a:pt x="71" y="16"/>
                </a:cubicBezTo>
                <a:cubicBezTo>
                  <a:pt x="71" y="16"/>
                  <a:pt x="71" y="15"/>
                  <a:pt x="71" y="15"/>
                </a:cubicBezTo>
                <a:cubicBezTo>
                  <a:pt x="71" y="15"/>
                  <a:pt x="69" y="14"/>
                  <a:pt x="68" y="14"/>
                </a:cubicBezTo>
                <a:cubicBezTo>
                  <a:pt x="67" y="14"/>
                  <a:pt x="67" y="13"/>
                  <a:pt x="66" y="13"/>
                </a:cubicBezTo>
                <a:cubicBezTo>
                  <a:pt x="65" y="13"/>
                  <a:pt x="66" y="12"/>
                  <a:pt x="66" y="12"/>
                </a:cubicBezTo>
                <a:cubicBezTo>
                  <a:pt x="66" y="12"/>
                  <a:pt x="65" y="11"/>
                  <a:pt x="65" y="10"/>
                </a:cubicBezTo>
                <a:cubicBezTo>
                  <a:pt x="65" y="10"/>
                  <a:pt x="64" y="10"/>
                  <a:pt x="64" y="10"/>
                </a:cubicBezTo>
                <a:cubicBezTo>
                  <a:pt x="63" y="10"/>
                  <a:pt x="63" y="10"/>
                  <a:pt x="63" y="10"/>
                </a:cubicBezTo>
                <a:cubicBezTo>
                  <a:pt x="62" y="11"/>
                  <a:pt x="62" y="11"/>
                  <a:pt x="62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8"/>
                  <a:pt x="59" y="8"/>
                  <a:pt x="59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56" y="7"/>
                  <a:pt x="56" y="7"/>
                  <a:pt x="56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7"/>
                  <a:pt x="55" y="7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3" y="5"/>
                  <a:pt x="52" y="6"/>
                  <a:pt x="52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49" y="7"/>
                </a:cubicBezTo>
                <a:cubicBezTo>
                  <a:pt x="49" y="7"/>
                  <a:pt x="48" y="7"/>
                  <a:pt x="48" y="8"/>
                </a:cubicBezTo>
                <a:cubicBezTo>
                  <a:pt x="48" y="8"/>
                  <a:pt x="47" y="8"/>
                  <a:pt x="47" y="7"/>
                </a:cubicBezTo>
                <a:cubicBezTo>
                  <a:pt x="47" y="6"/>
                  <a:pt x="47" y="6"/>
                  <a:pt x="47" y="6"/>
                </a:cubicBezTo>
                <a:cubicBezTo>
                  <a:pt x="47" y="5"/>
                  <a:pt x="46" y="5"/>
                  <a:pt x="46" y="3"/>
                </a:cubicBezTo>
                <a:cubicBezTo>
                  <a:pt x="46" y="3"/>
                  <a:pt x="44" y="3"/>
                  <a:pt x="43" y="3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51"/>
          <p:cNvSpPr/>
          <p:nvPr/>
        </p:nvSpPr>
        <p:spPr>
          <a:xfrm>
            <a:off x="3089160" y="3521160"/>
            <a:ext cx="792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1082"/>
          <p:cNvSpPr/>
          <p:nvPr/>
        </p:nvSpPr>
        <p:spPr>
          <a:xfrm>
            <a:off x="2554200" y="2448000"/>
            <a:ext cx="692280" cy="585720"/>
          </a:xfrm>
          <a:custGeom>
            <a:avLst/>
            <a:gdLst/>
            <a:ahLst/>
            <a:rect l="l" t="t" r="r" b="b"/>
            <a:pathLst>
              <a:path w="105" h="89">
                <a:moveTo>
                  <a:pt x="97" y="69"/>
                </a:moveTo>
                <a:cubicBezTo>
                  <a:pt x="97" y="72"/>
                  <a:pt x="97" y="75"/>
                  <a:pt x="98" y="78"/>
                </a:cubicBezTo>
                <a:cubicBezTo>
                  <a:pt x="99" y="78"/>
                  <a:pt x="101" y="78"/>
                  <a:pt x="104" y="79"/>
                </a:cubicBezTo>
                <a:cubicBezTo>
                  <a:pt x="104" y="78"/>
                  <a:pt x="104" y="78"/>
                  <a:pt x="104" y="77"/>
                </a:cubicBezTo>
                <a:cubicBezTo>
                  <a:pt x="105" y="77"/>
                  <a:pt x="105" y="76"/>
                  <a:pt x="105" y="75"/>
                </a:cubicBezTo>
                <a:cubicBezTo>
                  <a:pt x="103" y="73"/>
                  <a:pt x="100" y="71"/>
                  <a:pt x="97" y="69"/>
                </a:cubicBezTo>
                <a:moveTo>
                  <a:pt x="48" y="0"/>
                </a:moveTo>
                <a:cubicBezTo>
                  <a:pt x="29" y="8"/>
                  <a:pt x="0" y="23"/>
                  <a:pt x="25" y="51"/>
                </a:cubicBezTo>
                <a:cubicBezTo>
                  <a:pt x="41" y="69"/>
                  <a:pt x="70" y="79"/>
                  <a:pt x="92" y="87"/>
                </a:cubicBezTo>
                <a:cubicBezTo>
                  <a:pt x="95" y="88"/>
                  <a:pt x="97" y="88"/>
                  <a:pt x="99" y="89"/>
                </a:cubicBezTo>
                <a:cubicBezTo>
                  <a:pt x="99" y="89"/>
                  <a:pt x="99" y="89"/>
                  <a:pt x="99" y="89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99" y="83"/>
                  <a:pt x="98" y="82"/>
                  <a:pt x="98" y="82"/>
                </a:cubicBezTo>
                <a:cubicBezTo>
                  <a:pt x="98" y="82"/>
                  <a:pt x="99" y="83"/>
                  <a:pt x="100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0" y="79"/>
                  <a:pt x="99" y="79"/>
                  <a:pt x="99" y="79"/>
                </a:cubicBezTo>
                <a:cubicBezTo>
                  <a:pt x="99" y="79"/>
                  <a:pt x="100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99" y="78"/>
                  <a:pt x="98" y="78"/>
                  <a:pt x="98" y="78"/>
                </a:cubicBezTo>
                <a:cubicBezTo>
                  <a:pt x="98" y="78"/>
                  <a:pt x="98" y="78"/>
                  <a:pt x="98" y="79"/>
                </a:cubicBezTo>
                <a:cubicBezTo>
                  <a:pt x="93" y="77"/>
                  <a:pt x="87" y="73"/>
                  <a:pt x="83" y="70"/>
                </a:cubicBezTo>
                <a:cubicBezTo>
                  <a:pt x="83" y="71"/>
                  <a:pt x="84" y="72"/>
                  <a:pt x="84" y="73"/>
                </a:cubicBezTo>
                <a:cubicBezTo>
                  <a:pt x="82" y="72"/>
                  <a:pt x="78" y="70"/>
                  <a:pt x="76" y="69"/>
                </a:cubicBezTo>
                <a:cubicBezTo>
                  <a:pt x="77" y="71"/>
                  <a:pt x="76" y="72"/>
                  <a:pt x="76" y="74"/>
                </a:cubicBezTo>
                <a:cubicBezTo>
                  <a:pt x="58" y="68"/>
                  <a:pt x="27" y="51"/>
                  <a:pt x="21" y="35"/>
                </a:cubicBezTo>
                <a:cubicBezTo>
                  <a:pt x="13" y="13"/>
                  <a:pt x="41" y="13"/>
                  <a:pt x="48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120"/>
          <p:cNvSpPr/>
          <p:nvPr/>
        </p:nvSpPr>
        <p:spPr>
          <a:xfrm>
            <a:off x="3063960" y="4035600"/>
            <a:ext cx="25200" cy="187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3"/>
                  <a:pt x="4" y="2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任意多边形 29"/>
          <p:cNvSpPr/>
          <p:nvPr/>
        </p:nvSpPr>
        <p:spPr>
          <a:xfrm>
            <a:off x="1562040" y="3898800"/>
            <a:ext cx="1416240" cy="814320"/>
          </a:xfrm>
          <a:custGeom>
            <a:avLst/>
            <a:gdLst/>
            <a:ahLst/>
            <a:rect l="l" t="t" r="r" b="b"/>
            <a:pathLst>
              <a:path w="808038" h="465148">
                <a:moveTo>
                  <a:pt x="472836" y="449620"/>
                </a:moveTo>
                <a:lnTo>
                  <a:pt x="473086" y="450141"/>
                </a:lnTo>
                <a:cubicBezTo>
                  <a:pt x="475733" y="455968"/>
                  <a:pt x="478321" y="461382"/>
                  <a:pt x="481144" y="465148"/>
                </a:cubicBezTo>
                <a:cubicBezTo>
                  <a:pt x="473616" y="461382"/>
                  <a:pt x="473616" y="457615"/>
                  <a:pt x="469852" y="450083"/>
                </a:cubicBezTo>
                <a:lnTo>
                  <a:pt x="472836" y="449620"/>
                </a:lnTo>
                <a:close/>
                <a:moveTo>
                  <a:pt x="623888" y="300047"/>
                </a:moveTo>
                <a:lnTo>
                  <a:pt x="590551" y="314335"/>
                </a:lnTo>
                <a:lnTo>
                  <a:pt x="544513" y="322272"/>
                </a:lnTo>
                <a:lnTo>
                  <a:pt x="623888" y="300047"/>
                </a:lnTo>
                <a:close/>
                <a:moveTo>
                  <a:pt x="554931" y="279658"/>
                </a:moveTo>
                <a:cubicBezTo>
                  <a:pt x="562570" y="278617"/>
                  <a:pt x="570442" y="278617"/>
                  <a:pt x="577850" y="280469"/>
                </a:cubicBezTo>
                <a:cubicBezTo>
                  <a:pt x="511175" y="295285"/>
                  <a:pt x="511175" y="295285"/>
                  <a:pt x="511175" y="295285"/>
                </a:cubicBezTo>
                <a:cubicBezTo>
                  <a:pt x="511175" y="295285"/>
                  <a:pt x="532011" y="282784"/>
                  <a:pt x="554931" y="279658"/>
                </a:cubicBezTo>
                <a:close/>
                <a:moveTo>
                  <a:pt x="804863" y="273060"/>
                </a:moveTo>
                <a:cubicBezTo>
                  <a:pt x="748401" y="310725"/>
                  <a:pt x="684410" y="333323"/>
                  <a:pt x="627947" y="370987"/>
                </a:cubicBezTo>
                <a:cubicBezTo>
                  <a:pt x="594069" y="393586"/>
                  <a:pt x="553840" y="428896"/>
                  <a:pt x="512022" y="443550"/>
                </a:cubicBezTo>
                <a:lnTo>
                  <a:pt x="472836" y="449620"/>
                </a:lnTo>
                <a:lnTo>
                  <a:pt x="464676" y="432663"/>
                </a:lnTo>
                <a:cubicBezTo>
                  <a:pt x="458559" y="421834"/>
                  <a:pt x="451031" y="414302"/>
                  <a:pt x="439738" y="419951"/>
                </a:cubicBezTo>
                <a:cubicBezTo>
                  <a:pt x="443502" y="416185"/>
                  <a:pt x="447266" y="416185"/>
                  <a:pt x="454795" y="416185"/>
                </a:cubicBezTo>
                <a:lnTo>
                  <a:pt x="503729" y="401119"/>
                </a:lnTo>
                <a:cubicBezTo>
                  <a:pt x="601598" y="355922"/>
                  <a:pt x="703230" y="310725"/>
                  <a:pt x="804863" y="273060"/>
                </a:cubicBezTo>
                <a:close/>
                <a:moveTo>
                  <a:pt x="500063" y="198447"/>
                </a:moveTo>
                <a:cubicBezTo>
                  <a:pt x="500063" y="198447"/>
                  <a:pt x="477504" y="209758"/>
                  <a:pt x="469984" y="213528"/>
                </a:cubicBezTo>
                <a:cubicBezTo>
                  <a:pt x="469984" y="213528"/>
                  <a:pt x="469984" y="213528"/>
                  <a:pt x="454945" y="217299"/>
                </a:cubicBezTo>
                <a:cubicBezTo>
                  <a:pt x="454945" y="217299"/>
                  <a:pt x="454945" y="217299"/>
                  <a:pt x="436145" y="221069"/>
                </a:cubicBezTo>
                <a:cubicBezTo>
                  <a:pt x="436145" y="221069"/>
                  <a:pt x="436145" y="221069"/>
                  <a:pt x="421106" y="221069"/>
                </a:cubicBezTo>
                <a:cubicBezTo>
                  <a:pt x="421106" y="221069"/>
                  <a:pt x="421106" y="221069"/>
                  <a:pt x="406066" y="224839"/>
                </a:cubicBezTo>
                <a:cubicBezTo>
                  <a:pt x="406066" y="224839"/>
                  <a:pt x="406066" y="224839"/>
                  <a:pt x="379747" y="232380"/>
                </a:cubicBezTo>
                <a:cubicBezTo>
                  <a:pt x="379747" y="232380"/>
                  <a:pt x="379747" y="232380"/>
                  <a:pt x="338388" y="239921"/>
                </a:cubicBezTo>
                <a:cubicBezTo>
                  <a:pt x="338388" y="239921"/>
                  <a:pt x="338388" y="239921"/>
                  <a:pt x="319589" y="243691"/>
                </a:cubicBezTo>
                <a:cubicBezTo>
                  <a:pt x="319589" y="243691"/>
                  <a:pt x="270711" y="251231"/>
                  <a:pt x="259431" y="255002"/>
                </a:cubicBezTo>
                <a:cubicBezTo>
                  <a:pt x="251911" y="258772"/>
                  <a:pt x="244392" y="255002"/>
                  <a:pt x="244392" y="255002"/>
                </a:cubicBezTo>
                <a:cubicBezTo>
                  <a:pt x="244392" y="255002"/>
                  <a:pt x="229352" y="251231"/>
                  <a:pt x="225592" y="255002"/>
                </a:cubicBezTo>
                <a:cubicBezTo>
                  <a:pt x="221832" y="255002"/>
                  <a:pt x="214313" y="255002"/>
                  <a:pt x="206793" y="258772"/>
                </a:cubicBezTo>
                <a:cubicBezTo>
                  <a:pt x="199273" y="258772"/>
                  <a:pt x="187993" y="258772"/>
                  <a:pt x="180474" y="262542"/>
                </a:cubicBezTo>
                <a:cubicBezTo>
                  <a:pt x="169194" y="266313"/>
                  <a:pt x="146635" y="266313"/>
                  <a:pt x="146635" y="266313"/>
                </a:cubicBezTo>
                <a:cubicBezTo>
                  <a:pt x="146635" y="266313"/>
                  <a:pt x="146635" y="266313"/>
                  <a:pt x="120316" y="270083"/>
                </a:cubicBezTo>
                <a:cubicBezTo>
                  <a:pt x="120316" y="270083"/>
                  <a:pt x="45118" y="285165"/>
                  <a:pt x="41358" y="285165"/>
                </a:cubicBezTo>
                <a:cubicBezTo>
                  <a:pt x="33839" y="288935"/>
                  <a:pt x="26319" y="288935"/>
                  <a:pt x="26319" y="288935"/>
                </a:cubicBezTo>
                <a:cubicBezTo>
                  <a:pt x="26319" y="288935"/>
                  <a:pt x="18799" y="288935"/>
                  <a:pt x="11279" y="288935"/>
                </a:cubicBezTo>
                <a:cubicBezTo>
                  <a:pt x="11279" y="288935"/>
                  <a:pt x="11279" y="288935"/>
                  <a:pt x="0" y="288935"/>
                </a:cubicBezTo>
                <a:cubicBezTo>
                  <a:pt x="0" y="288935"/>
                  <a:pt x="0" y="288935"/>
                  <a:pt x="15039" y="277624"/>
                </a:cubicBezTo>
                <a:cubicBezTo>
                  <a:pt x="18799" y="270083"/>
                  <a:pt x="37599" y="281395"/>
                  <a:pt x="37599" y="281395"/>
                </a:cubicBezTo>
                <a:cubicBezTo>
                  <a:pt x="37599" y="281395"/>
                  <a:pt x="37599" y="281395"/>
                  <a:pt x="116556" y="266313"/>
                </a:cubicBezTo>
                <a:cubicBezTo>
                  <a:pt x="116556" y="266313"/>
                  <a:pt x="116556" y="266313"/>
                  <a:pt x="244392" y="243691"/>
                </a:cubicBezTo>
                <a:cubicBezTo>
                  <a:pt x="244392" y="243691"/>
                  <a:pt x="244392" y="243691"/>
                  <a:pt x="297030" y="243691"/>
                </a:cubicBezTo>
                <a:cubicBezTo>
                  <a:pt x="297030" y="243691"/>
                  <a:pt x="297030" y="243691"/>
                  <a:pt x="327109" y="239921"/>
                </a:cubicBezTo>
                <a:cubicBezTo>
                  <a:pt x="327109" y="239921"/>
                  <a:pt x="327109" y="239921"/>
                  <a:pt x="372227" y="221069"/>
                </a:cubicBezTo>
                <a:cubicBezTo>
                  <a:pt x="372227" y="221069"/>
                  <a:pt x="372227" y="221069"/>
                  <a:pt x="402306" y="209758"/>
                </a:cubicBezTo>
                <a:cubicBezTo>
                  <a:pt x="402306" y="209758"/>
                  <a:pt x="402306" y="209758"/>
                  <a:pt x="436145" y="205988"/>
                </a:cubicBezTo>
                <a:cubicBezTo>
                  <a:pt x="436145" y="205988"/>
                  <a:pt x="436145" y="205988"/>
                  <a:pt x="500063" y="198447"/>
                </a:cubicBezTo>
                <a:close/>
                <a:moveTo>
                  <a:pt x="673100" y="176222"/>
                </a:moveTo>
                <a:cubicBezTo>
                  <a:pt x="673100" y="176222"/>
                  <a:pt x="673100" y="176222"/>
                  <a:pt x="638810" y="183631"/>
                </a:cubicBezTo>
                <a:cubicBezTo>
                  <a:pt x="638810" y="183631"/>
                  <a:pt x="638810" y="183631"/>
                  <a:pt x="619760" y="187335"/>
                </a:cubicBezTo>
                <a:cubicBezTo>
                  <a:pt x="619760" y="187335"/>
                  <a:pt x="596900" y="187335"/>
                  <a:pt x="600710" y="179926"/>
                </a:cubicBezTo>
                <a:lnTo>
                  <a:pt x="673100" y="176222"/>
                </a:lnTo>
                <a:close/>
                <a:moveTo>
                  <a:pt x="762454" y="127010"/>
                </a:moveTo>
                <a:cubicBezTo>
                  <a:pt x="770165" y="127010"/>
                  <a:pt x="777876" y="134418"/>
                  <a:pt x="777876" y="134418"/>
                </a:cubicBezTo>
                <a:cubicBezTo>
                  <a:pt x="777876" y="134418"/>
                  <a:pt x="754744" y="149235"/>
                  <a:pt x="750888" y="134418"/>
                </a:cubicBezTo>
                <a:cubicBezTo>
                  <a:pt x="762454" y="127010"/>
                  <a:pt x="762454" y="127010"/>
                  <a:pt x="762454" y="127010"/>
                </a:cubicBezTo>
                <a:close/>
                <a:moveTo>
                  <a:pt x="327437" y="113979"/>
                </a:moveTo>
                <a:cubicBezTo>
                  <a:pt x="341548" y="114442"/>
                  <a:pt x="356600" y="117220"/>
                  <a:pt x="360363" y="126481"/>
                </a:cubicBezTo>
                <a:cubicBezTo>
                  <a:pt x="288867" y="130185"/>
                  <a:pt x="288867" y="130185"/>
                  <a:pt x="288867" y="130185"/>
                </a:cubicBezTo>
                <a:cubicBezTo>
                  <a:pt x="288867" y="130185"/>
                  <a:pt x="270052" y="141298"/>
                  <a:pt x="262526" y="130185"/>
                </a:cubicBezTo>
                <a:cubicBezTo>
                  <a:pt x="262526" y="130185"/>
                  <a:pt x="258763" y="115368"/>
                  <a:pt x="273815" y="119073"/>
                </a:cubicBezTo>
                <a:cubicBezTo>
                  <a:pt x="300155" y="115368"/>
                  <a:pt x="300155" y="115368"/>
                  <a:pt x="300155" y="115368"/>
                </a:cubicBezTo>
                <a:cubicBezTo>
                  <a:pt x="300155" y="115368"/>
                  <a:pt x="313326" y="113516"/>
                  <a:pt x="327437" y="113979"/>
                </a:cubicBezTo>
                <a:close/>
                <a:moveTo>
                  <a:pt x="782109" y="65732"/>
                </a:moveTo>
                <a:cubicBezTo>
                  <a:pt x="785813" y="61922"/>
                  <a:pt x="808038" y="69542"/>
                  <a:pt x="808038" y="69542"/>
                </a:cubicBezTo>
                <a:lnTo>
                  <a:pt x="789517" y="80972"/>
                </a:lnTo>
                <a:cubicBezTo>
                  <a:pt x="789517" y="80972"/>
                  <a:pt x="789517" y="80972"/>
                  <a:pt x="778404" y="80972"/>
                </a:cubicBezTo>
                <a:cubicBezTo>
                  <a:pt x="778404" y="80972"/>
                  <a:pt x="774700" y="69542"/>
                  <a:pt x="782109" y="65732"/>
                </a:cubicBezTo>
                <a:close/>
                <a:moveTo>
                  <a:pt x="508496" y="535"/>
                </a:moveTo>
                <a:cubicBezTo>
                  <a:pt x="514152" y="-901"/>
                  <a:pt x="521692" y="57"/>
                  <a:pt x="529233" y="9628"/>
                </a:cubicBezTo>
                <a:cubicBezTo>
                  <a:pt x="566936" y="13457"/>
                  <a:pt x="566936" y="13457"/>
                  <a:pt x="566936" y="13457"/>
                </a:cubicBezTo>
                <a:cubicBezTo>
                  <a:pt x="619721" y="24943"/>
                  <a:pt x="619721" y="24943"/>
                  <a:pt x="619721" y="24943"/>
                </a:cubicBezTo>
                <a:cubicBezTo>
                  <a:pt x="661194" y="40258"/>
                  <a:pt x="661194" y="40258"/>
                  <a:pt x="661194" y="40258"/>
                </a:cubicBezTo>
                <a:lnTo>
                  <a:pt x="706438" y="40258"/>
                </a:lnTo>
                <a:cubicBezTo>
                  <a:pt x="706438" y="40258"/>
                  <a:pt x="683816" y="55573"/>
                  <a:pt x="661194" y="47915"/>
                </a:cubicBezTo>
                <a:cubicBezTo>
                  <a:pt x="631032" y="36429"/>
                  <a:pt x="631032" y="36429"/>
                  <a:pt x="631032" y="36429"/>
                </a:cubicBezTo>
                <a:cubicBezTo>
                  <a:pt x="585788" y="24943"/>
                  <a:pt x="585788" y="24943"/>
                  <a:pt x="585788" y="24943"/>
                </a:cubicBezTo>
                <a:cubicBezTo>
                  <a:pt x="540544" y="21115"/>
                  <a:pt x="540544" y="21115"/>
                  <a:pt x="540544" y="21115"/>
                </a:cubicBezTo>
                <a:cubicBezTo>
                  <a:pt x="540544" y="21115"/>
                  <a:pt x="495300" y="24943"/>
                  <a:pt x="499070" y="5800"/>
                </a:cubicBezTo>
                <a:cubicBezTo>
                  <a:pt x="499070" y="5800"/>
                  <a:pt x="502841" y="1971"/>
                  <a:pt x="508496" y="53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95D4-3E6D-4541-A511-17D1C1AC2822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FF8-CA97-4033-80A8-3AF2C4BEF89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直接连接符 7"/>
          <p:cNvSpPr/>
          <p:nvPr/>
        </p:nvSpPr>
        <p:spPr>
          <a:xfrm>
            <a:off x="1184400" y="4979880"/>
            <a:ext cx="6825960" cy="0"/>
          </a:xfrm>
          <a:prstGeom prst="line">
            <a:avLst/>
          </a:prstGeom>
          <a:ln w="38160">
            <a:solidFill>
              <a:srgbClr val="fad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CEB-AB61-4286-ABF4-FFB5A590715E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4765-2F17-4C5A-AAEC-1F5E3AA630F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9A81-6828-45BB-AF30-7751B79AE04A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B83-35E5-4F54-B628-D51CC40B746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3DE-B42F-4BC9-826D-2C5B2B5BCEFD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48EE-B382-497A-9D48-77A9A297B7D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2"/>
          <a:srcRect l="13509" t="1450" r="48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5761-DE48-4F99-A8FC-0D2CC45E6C6B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B6FF-6ED1-4403-96A7-DF70C3D3CBC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任意多边形 65"/>
          <p:cNvSpPr/>
          <p:nvPr/>
        </p:nvSpPr>
        <p:spPr>
          <a:xfrm>
            <a:off x="2962440" y="414360"/>
            <a:ext cx="4755960" cy="5167440"/>
          </a:xfrm>
          <a:custGeom>
            <a:avLst/>
            <a:gdLst/>
            <a:ahLst/>
            <a:rect l="l" t="t" r="r" b="b"/>
            <a:pathLst>
              <a:path w="4757024" h="5166475">
                <a:moveTo>
                  <a:pt x="3800615" y="3920919"/>
                </a:moveTo>
                <a:cubicBezTo>
                  <a:pt x="3978552" y="3927407"/>
                  <a:pt x="3978552" y="3927407"/>
                  <a:pt x="3978552" y="3927407"/>
                </a:cubicBezTo>
                <a:cubicBezTo>
                  <a:pt x="3978552" y="3927407"/>
                  <a:pt x="3866518" y="3959843"/>
                  <a:pt x="3800615" y="3920919"/>
                </a:cubicBezTo>
                <a:close/>
                <a:moveTo>
                  <a:pt x="3505907" y="3901458"/>
                </a:moveTo>
                <a:cubicBezTo>
                  <a:pt x="3505907" y="3901458"/>
                  <a:pt x="3578340" y="3908033"/>
                  <a:pt x="3598095" y="3914607"/>
                </a:cubicBezTo>
                <a:cubicBezTo>
                  <a:pt x="3598095" y="3914607"/>
                  <a:pt x="3598095" y="3914607"/>
                  <a:pt x="3644189" y="3927756"/>
                </a:cubicBezTo>
                <a:cubicBezTo>
                  <a:pt x="3644189" y="3927756"/>
                  <a:pt x="3644189" y="3927756"/>
                  <a:pt x="3683698" y="3947480"/>
                </a:cubicBezTo>
                <a:cubicBezTo>
                  <a:pt x="3683698" y="3947480"/>
                  <a:pt x="3683698" y="3947480"/>
                  <a:pt x="3716622" y="3973778"/>
                </a:cubicBezTo>
                <a:cubicBezTo>
                  <a:pt x="3716622" y="3973778"/>
                  <a:pt x="3716622" y="3973778"/>
                  <a:pt x="3756131" y="3986927"/>
                </a:cubicBezTo>
                <a:cubicBezTo>
                  <a:pt x="3756131" y="3986927"/>
                  <a:pt x="3756131" y="3986927"/>
                  <a:pt x="3828564" y="4006650"/>
                </a:cubicBezTo>
                <a:cubicBezTo>
                  <a:pt x="3828564" y="4006650"/>
                  <a:pt x="3828564" y="4006650"/>
                  <a:pt x="3933921" y="4052672"/>
                </a:cubicBezTo>
                <a:cubicBezTo>
                  <a:pt x="3933921" y="4052672"/>
                  <a:pt x="3933921" y="4052672"/>
                  <a:pt x="3980015" y="4065821"/>
                </a:cubicBezTo>
                <a:cubicBezTo>
                  <a:pt x="3980015" y="4065821"/>
                  <a:pt x="4105126" y="4131566"/>
                  <a:pt x="4124881" y="4138140"/>
                </a:cubicBezTo>
                <a:cubicBezTo>
                  <a:pt x="4151220" y="4144715"/>
                  <a:pt x="4157805" y="4164438"/>
                  <a:pt x="4157805" y="4164438"/>
                </a:cubicBezTo>
                <a:cubicBezTo>
                  <a:pt x="4157805" y="4164438"/>
                  <a:pt x="4190729" y="4184162"/>
                  <a:pt x="4203899" y="4190736"/>
                </a:cubicBezTo>
                <a:cubicBezTo>
                  <a:pt x="4217068" y="4197311"/>
                  <a:pt x="4236823" y="4203886"/>
                  <a:pt x="4256577" y="4210460"/>
                </a:cubicBezTo>
                <a:cubicBezTo>
                  <a:pt x="4276332" y="4223609"/>
                  <a:pt x="4296086" y="4236758"/>
                  <a:pt x="4315841" y="4243333"/>
                </a:cubicBezTo>
                <a:cubicBezTo>
                  <a:pt x="4342180" y="4249907"/>
                  <a:pt x="4401444" y="4276205"/>
                  <a:pt x="4401444" y="4276205"/>
                </a:cubicBezTo>
                <a:cubicBezTo>
                  <a:pt x="4401444" y="4276205"/>
                  <a:pt x="4401444" y="4276205"/>
                  <a:pt x="4467292" y="4309078"/>
                </a:cubicBezTo>
                <a:cubicBezTo>
                  <a:pt x="4467292" y="4309078"/>
                  <a:pt x="4658252" y="4394546"/>
                  <a:pt x="4671421" y="4394546"/>
                </a:cubicBezTo>
                <a:cubicBezTo>
                  <a:pt x="4684591" y="4394546"/>
                  <a:pt x="4704346" y="4414270"/>
                  <a:pt x="4704346" y="4414270"/>
                </a:cubicBezTo>
                <a:cubicBezTo>
                  <a:pt x="4704346" y="4414270"/>
                  <a:pt x="4717515" y="4420844"/>
                  <a:pt x="4737270" y="4433993"/>
                </a:cubicBezTo>
                <a:cubicBezTo>
                  <a:pt x="4737270" y="4433993"/>
                  <a:pt x="4737270" y="4433993"/>
                  <a:pt x="4757024" y="4453717"/>
                </a:cubicBezTo>
                <a:cubicBezTo>
                  <a:pt x="4757024" y="4453717"/>
                  <a:pt x="4757024" y="4453717"/>
                  <a:pt x="4717515" y="4453717"/>
                </a:cubicBezTo>
                <a:cubicBezTo>
                  <a:pt x="4691176" y="4460291"/>
                  <a:pt x="4664837" y="4414270"/>
                  <a:pt x="4664837" y="4414270"/>
                </a:cubicBezTo>
                <a:cubicBezTo>
                  <a:pt x="4664837" y="4414270"/>
                  <a:pt x="4664837" y="4414270"/>
                  <a:pt x="4467292" y="4328801"/>
                </a:cubicBezTo>
                <a:cubicBezTo>
                  <a:pt x="4467292" y="4328801"/>
                  <a:pt x="4467292" y="4328801"/>
                  <a:pt x="4151220" y="4190736"/>
                </a:cubicBezTo>
                <a:cubicBezTo>
                  <a:pt x="4151220" y="4190736"/>
                  <a:pt x="4151220" y="4190736"/>
                  <a:pt x="4032693" y="4105268"/>
                </a:cubicBezTo>
                <a:cubicBezTo>
                  <a:pt x="4032693" y="4105268"/>
                  <a:pt x="4032693" y="4105268"/>
                  <a:pt x="3953675" y="4072395"/>
                </a:cubicBezTo>
                <a:cubicBezTo>
                  <a:pt x="3953675" y="4072395"/>
                  <a:pt x="3953675" y="4072395"/>
                  <a:pt x="3828564" y="4046097"/>
                </a:cubicBezTo>
                <a:cubicBezTo>
                  <a:pt x="3828564" y="4046097"/>
                  <a:pt x="3828564" y="4046097"/>
                  <a:pt x="3742961" y="4026374"/>
                </a:cubicBezTo>
                <a:cubicBezTo>
                  <a:pt x="3742961" y="4026374"/>
                  <a:pt x="3742961" y="4026374"/>
                  <a:pt x="3657358" y="3980352"/>
                </a:cubicBezTo>
                <a:cubicBezTo>
                  <a:pt x="3657358" y="3980352"/>
                  <a:pt x="3657358" y="3980352"/>
                  <a:pt x="3505907" y="3901458"/>
                </a:cubicBezTo>
                <a:close/>
                <a:moveTo>
                  <a:pt x="3795055" y="3815269"/>
                </a:moveTo>
                <a:lnTo>
                  <a:pt x="3920167" y="3840292"/>
                </a:lnTo>
                <a:lnTo>
                  <a:pt x="3697746" y="3829170"/>
                </a:lnTo>
                <a:lnTo>
                  <a:pt x="3795055" y="3815269"/>
                </a:lnTo>
                <a:close/>
                <a:moveTo>
                  <a:pt x="4425720" y="1620817"/>
                </a:moveTo>
                <a:cubicBezTo>
                  <a:pt x="4481777" y="1618505"/>
                  <a:pt x="4548787" y="1627756"/>
                  <a:pt x="4507550" y="1693542"/>
                </a:cubicBezTo>
                <a:cubicBezTo>
                  <a:pt x="4349199" y="1746171"/>
                  <a:pt x="4349199" y="1746171"/>
                  <a:pt x="4349199" y="1746171"/>
                </a:cubicBezTo>
                <a:cubicBezTo>
                  <a:pt x="4250230" y="1746171"/>
                  <a:pt x="4250230" y="1746171"/>
                  <a:pt x="4250230" y="1746171"/>
                </a:cubicBezTo>
                <a:cubicBezTo>
                  <a:pt x="3973117" y="1864587"/>
                  <a:pt x="3973117" y="1864587"/>
                  <a:pt x="3973117" y="1864587"/>
                </a:cubicBezTo>
                <a:lnTo>
                  <a:pt x="3247344" y="2055367"/>
                </a:lnTo>
                <a:cubicBezTo>
                  <a:pt x="3379303" y="2015895"/>
                  <a:pt x="3379303" y="2015895"/>
                  <a:pt x="3379303" y="2015895"/>
                </a:cubicBezTo>
                <a:cubicBezTo>
                  <a:pt x="3913736" y="1838272"/>
                  <a:pt x="3913736" y="1838272"/>
                  <a:pt x="3913736" y="1838272"/>
                </a:cubicBezTo>
                <a:cubicBezTo>
                  <a:pt x="4091880" y="1759329"/>
                  <a:pt x="4091880" y="1759329"/>
                  <a:pt x="4091880" y="1759329"/>
                </a:cubicBezTo>
                <a:cubicBezTo>
                  <a:pt x="4091880" y="1759329"/>
                  <a:pt x="4303014" y="1634335"/>
                  <a:pt x="4362395" y="1627756"/>
                </a:cubicBezTo>
                <a:cubicBezTo>
                  <a:pt x="4362395" y="1627756"/>
                  <a:pt x="4392086" y="1622205"/>
                  <a:pt x="4425720" y="1620817"/>
                </a:cubicBezTo>
                <a:close/>
                <a:moveTo>
                  <a:pt x="2833481" y="1554921"/>
                </a:moveTo>
                <a:cubicBezTo>
                  <a:pt x="2833481" y="1554921"/>
                  <a:pt x="2846986" y="1568425"/>
                  <a:pt x="2840234" y="1581930"/>
                </a:cubicBezTo>
                <a:cubicBezTo>
                  <a:pt x="2826729" y="1595434"/>
                  <a:pt x="2799721" y="1602186"/>
                  <a:pt x="2799721" y="1602186"/>
                </a:cubicBezTo>
                <a:lnTo>
                  <a:pt x="2813225" y="1568425"/>
                </a:lnTo>
                <a:cubicBezTo>
                  <a:pt x="2813225" y="1568425"/>
                  <a:pt x="2813225" y="1568425"/>
                  <a:pt x="2833481" y="1554921"/>
                </a:cubicBezTo>
                <a:close/>
                <a:moveTo>
                  <a:pt x="1461755" y="1526595"/>
                </a:moveTo>
                <a:lnTo>
                  <a:pt x="1461715" y="1526922"/>
                </a:lnTo>
                <a:lnTo>
                  <a:pt x="1461549" y="1527110"/>
                </a:lnTo>
                <a:cubicBezTo>
                  <a:pt x="1453516" y="1537303"/>
                  <a:pt x="1446924" y="1547187"/>
                  <a:pt x="1443628" y="1555424"/>
                </a:cubicBezTo>
                <a:cubicBezTo>
                  <a:pt x="1437036" y="1568603"/>
                  <a:pt x="1443628" y="1555424"/>
                  <a:pt x="1450219" y="1542245"/>
                </a:cubicBezTo>
                <a:cubicBezTo>
                  <a:pt x="1453515" y="1532361"/>
                  <a:pt x="1460107" y="1522477"/>
                  <a:pt x="1461755" y="1526595"/>
                </a:cubicBezTo>
                <a:close/>
                <a:moveTo>
                  <a:pt x="1522730" y="1463171"/>
                </a:moveTo>
                <a:cubicBezTo>
                  <a:pt x="1522730" y="1463171"/>
                  <a:pt x="1588649" y="1463171"/>
                  <a:pt x="1582058" y="1496119"/>
                </a:cubicBezTo>
                <a:cubicBezTo>
                  <a:pt x="1575466" y="1529066"/>
                  <a:pt x="1562282" y="1614730"/>
                  <a:pt x="1562282" y="1614730"/>
                </a:cubicBezTo>
                <a:cubicBezTo>
                  <a:pt x="1582058" y="1674035"/>
                  <a:pt x="1582058" y="1674035"/>
                  <a:pt x="1582058" y="1674035"/>
                </a:cubicBezTo>
                <a:cubicBezTo>
                  <a:pt x="1601833" y="1739931"/>
                  <a:pt x="1601833" y="1739931"/>
                  <a:pt x="1601833" y="1739931"/>
                </a:cubicBezTo>
                <a:cubicBezTo>
                  <a:pt x="1568874" y="1779468"/>
                  <a:pt x="1568874" y="1779468"/>
                  <a:pt x="1568874" y="1779468"/>
                </a:cubicBezTo>
                <a:cubicBezTo>
                  <a:pt x="1549098" y="1851952"/>
                  <a:pt x="1549098" y="1851952"/>
                  <a:pt x="1549098" y="1851952"/>
                </a:cubicBezTo>
                <a:cubicBezTo>
                  <a:pt x="1549098" y="1851952"/>
                  <a:pt x="1601833" y="1917847"/>
                  <a:pt x="1661160" y="1891489"/>
                </a:cubicBezTo>
                <a:cubicBezTo>
                  <a:pt x="1661160" y="1891489"/>
                  <a:pt x="1740263" y="1983742"/>
                  <a:pt x="1812774" y="1911258"/>
                </a:cubicBezTo>
                <a:cubicBezTo>
                  <a:pt x="1812774" y="1911258"/>
                  <a:pt x="1891877" y="1812415"/>
                  <a:pt x="1924837" y="1891489"/>
                </a:cubicBezTo>
                <a:cubicBezTo>
                  <a:pt x="2010532" y="1838773"/>
                  <a:pt x="2010532" y="1838773"/>
                  <a:pt x="2010532" y="1838773"/>
                </a:cubicBezTo>
                <a:cubicBezTo>
                  <a:pt x="2135778" y="1799236"/>
                  <a:pt x="2135778" y="1799236"/>
                  <a:pt x="2135778" y="1799236"/>
                </a:cubicBezTo>
                <a:cubicBezTo>
                  <a:pt x="2135778" y="1799236"/>
                  <a:pt x="2181921" y="1812415"/>
                  <a:pt x="2188513" y="1772878"/>
                </a:cubicBezTo>
                <a:cubicBezTo>
                  <a:pt x="2188513" y="1772878"/>
                  <a:pt x="2155554" y="1700393"/>
                  <a:pt x="2228065" y="1687214"/>
                </a:cubicBezTo>
                <a:cubicBezTo>
                  <a:pt x="2261024" y="1634498"/>
                  <a:pt x="2261024" y="1634498"/>
                  <a:pt x="2261024" y="1634498"/>
                </a:cubicBezTo>
                <a:cubicBezTo>
                  <a:pt x="2261024" y="1634498"/>
                  <a:pt x="2392862" y="1555424"/>
                  <a:pt x="2465373" y="1634498"/>
                </a:cubicBezTo>
                <a:cubicBezTo>
                  <a:pt x="2498333" y="1746520"/>
                  <a:pt x="2498333" y="1746520"/>
                  <a:pt x="2498333" y="1746520"/>
                </a:cubicBezTo>
                <a:cubicBezTo>
                  <a:pt x="2498333" y="1746520"/>
                  <a:pt x="2584028" y="1792647"/>
                  <a:pt x="2518109" y="1838773"/>
                </a:cubicBezTo>
                <a:cubicBezTo>
                  <a:pt x="2491741" y="1898079"/>
                  <a:pt x="2491741" y="1898079"/>
                  <a:pt x="2491741" y="1898079"/>
                </a:cubicBezTo>
                <a:cubicBezTo>
                  <a:pt x="2491741" y="1898079"/>
                  <a:pt x="2544476" y="1957384"/>
                  <a:pt x="2478557" y="2010100"/>
                </a:cubicBezTo>
                <a:cubicBezTo>
                  <a:pt x="2478557" y="2010100"/>
                  <a:pt x="2419230" y="2082585"/>
                  <a:pt x="2491741" y="2082585"/>
                </a:cubicBezTo>
                <a:cubicBezTo>
                  <a:pt x="2524701" y="2148480"/>
                  <a:pt x="2524701" y="2148480"/>
                  <a:pt x="2524701" y="2148480"/>
                </a:cubicBezTo>
                <a:cubicBezTo>
                  <a:pt x="2524701" y="2148480"/>
                  <a:pt x="2577436" y="2188017"/>
                  <a:pt x="2570844" y="2260502"/>
                </a:cubicBezTo>
                <a:cubicBezTo>
                  <a:pt x="2696090" y="2339576"/>
                  <a:pt x="2696090" y="2339576"/>
                  <a:pt x="2696090" y="2339576"/>
                </a:cubicBezTo>
                <a:cubicBezTo>
                  <a:pt x="2788377" y="2379113"/>
                  <a:pt x="2788377" y="2379113"/>
                  <a:pt x="2788377" y="2379113"/>
                </a:cubicBezTo>
                <a:cubicBezTo>
                  <a:pt x="2887256" y="2425239"/>
                  <a:pt x="2887256" y="2425239"/>
                  <a:pt x="2887256" y="2425239"/>
                </a:cubicBezTo>
                <a:cubicBezTo>
                  <a:pt x="2979542" y="2359344"/>
                  <a:pt x="2979542" y="2359344"/>
                  <a:pt x="2979542" y="2359344"/>
                </a:cubicBezTo>
                <a:cubicBezTo>
                  <a:pt x="3085013" y="2326397"/>
                  <a:pt x="3085013" y="2326397"/>
                  <a:pt x="3085013" y="2326397"/>
                </a:cubicBezTo>
                <a:cubicBezTo>
                  <a:pt x="3085013" y="2372523"/>
                  <a:pt x="3085013" y="2372523"/>
                  <a:pt x="3085013" y="2372523"/>
                </a:cubicBezTo>
                <a:cubicBezTo>
                  <a:pt x="3019094" y="2405471"/>
                  <a:pt x="3019094" y="2405471"/>
                  <a:pt x="3019094" y="2405471"/>
                </a:cubicBezTo>
                <a:cubicBezTo>
                  <a:pt x="2966358" y="2471366"/>
                  <a:pt x="2966358" y="2471366"/>
                  <a:pt x="2966358" y="2471366"/>
                </a:cubicBezTo>
                <a:cubicBezTo>
                  <a:pt x="2900439" y="2517493"/>
                  <a:pt x="2900439" y="2517493"/>
                  <a:pt x="2900439" y="2517493"/>
                </a:cubicBezTo>
                <a:cubicBezTo>
                  <a:pt x="2893847" y="2596567"/>
                  <a:pt x="2893847" y="2596567"/>
                  <a:pt x="2893847" y="2596567"/>
                </a:cubicBezTo>
                <a:cubicBezTo>
                  <a:pt x="2900439" y="2616335"/>
                  <a:pt x="2920215" y="2609746"/>
                  <a:pt x="2926807" y="2603156"/>
                </a:cubicBezTo>
                <a:cubicBezTo>
                  <a:pt x="2939991" y="2596567"/>
                  <a:pt x="2939991" y="2589977"/>
                  <a:pt x="2913623" y="2636104"/>
                </a:cubicBezTo>
                <a:cubicBezTo>
                  <a:pt x="2860888" y="2721767"/>
                  <a:pt x="2887256" y="2754715"/>
                  <a:pt x="2887256" y="2754715"/>
                </a:cubicBezTo>
                <a:cubicBezTo>
                  <a:pt x="2880664" y="2807431"/>
                  <a:pt x="2880664" y="2807431"/>
                  <a:pt x="2880664" y="2807431"/>
                </a:cubicBezTo>
                <a:cubicBezTo>
                  <a:pt x="2966358" y="2820610"/>
                  <a:pt x="2966358" y="2820610"/>
                  <a:pt x="2966358" y="2820610"/>
                </a:cubicBezTo>
                <a:cubicBezTo>
                  <a:pt x="2966358" y="2820610"/>
                  <a:pt x="3019094" y="2820610"/>
                  <a:pt x="3005910" y="2886505"/>
                </a:cubicBezTo>
                <a:cubicBezTo>
                  <a:pt x="3012502" y="2965579"/>
                  <a:pt x="3012502" y="2965579"/>
                  <a:pt x="3012502" y="2965579"/>
                </a:cubicBezTo>
                <a:cubicBezTo>
                  <a:pt x="3065237" y="2945811"/>
                  <a:pt x="3065237" y="2945811"/>
                  <a:pt x="3065237" y="2945811"/>
                </a:cubicBezTo>
                <a:cubicBezTo>
                  <a:pt x="3078421" y="3044653"/>
                  <a:pt x="3078421" y="3044653"/>
                  <a:pt x="3078421" y="3044653"/>
                </a:cubicBezTo>
                <a:cubicBezTo>
                  <a:pt x="3078421" y="3044653"/>
                  <a:pt x="3078421" y="3084190"/>
                  <a:pt x="3058645" y="3110548"/>
                </a:cubicBezTo>
                <a:cubicBezTo>
                  <a:pt x="3032277" y="3130317"/>
                  <a:pt x="3032277" y="3130317"/>
                  <a:pt x="3032277" y="3130317"/>
                </a:cubicBezTo>
                <a:cubicBezTo>
                  <a:pt x="3111380" y="3189623"/>
                  <a:pt x="3111380" y="3189623"/>
                  <a:pt x="3111380" y="3189623"/>
                </a:cubicBezTo>
                <a:cubicBezTo>
                  <a:pt x="3157524" y="3262107"/>
                  <a:pt x="3157524" y="3262107"/>
                  <a:pt x="3157524" y="3262107"/>
                </a:cubicBezTo>
                <a:cubicBezTo>
                  <a:pt x="3150932" y="3301644"/>
                  <a:pt x="3131156" y="3341181"/>
                  <a:pt x="3131156" y="3341181"/>
                </a:cubicBezTo>
                <a:cubicBezTo>
                  <a:pt x="3170708" y="3387308"/>
                  <a:pt x="3170708" y="3387308"/>
                  <a:pt x="3170708" y="3387308"/>
                </a:cubicBezTo>
                <a:cubicBezTo>
                  <a:pt x="3164116" y="3492740"/>
                  <a:pt x="3164116" y="3492740"/>
                  <a:pt x="3164116" y="3492740"/>
                </a:cubicBezTo>
                <a:cubicBezTo>
                  <a:pt x="3269586" y="3604762"/>
                  <a:pt x="3269586" y="3604762"/>
                  <a:pt x="3269586" y="3604762"/>
                </a:cubicBezTo>
                <a:cubicBezTo>
                  <a:pt x="3144340" y="3677246"/>
                  <a:pt x="3144340" y="3677246"/>
                  <a:pt x="3144340" y="3677246"/>
                </a:cubicBezTo>
                <a:cubicBezTo>
                  <a:pt x="3104788" y="3716783"/>
                  <a:pt x="3104788" y="3716783"/>
                  <a:pt x="3104788" y="3716783"/>
                </a:cubicBezTo>
                <a:cubicBezTo>
                  <a:pt x="3078421" y="3789268"/>
                  <a:pt x="3078421" y="3789268"/>
                  <a:pt x="3078421" y="3789268"/>
                </a:cubicBezTo>
                <a:cubicBezTo>
                  <a:pt x="3065237" y="3868342"/>
                  <a:pt x="3065237" y="3868342"/>
                  <a:pt x="3065237" y="3868342"/>
                </a:cubicBezTo>
                <a:cubicBezTo>
                  <a:pt x="2986134" y="3901289"/>
                  <a:pt x="2986134" y="3901289"/>
                  <a:pt x="2986134" y="3901289"/>
                </a:cubicBezTo>
                <a:cubicBezTo>
                  <a:pt x="2939991" y="3901289"/>
                  <a:pt x="2939991" y="3901289"/>
                  <a:pt x="2939991" y="3901289"/>
                </a:cubicBezTo>
                <a:cubicBezTo>
                  <a:pt x="2939991" y="3901289"/>
                  <a:pt x="2933399" y="3934237"/>
                  <a:pt x="2926807" y="3960595"/>
                </a:cubicBezTo>
                <a:cubicBezTo>
                  <a:pt x="2920215" y="3986953"/>
                  <a:pt x="2913623" y="4033080"/>
                  <a:pt x="2913623" y="4033080"/>
                </a:cubicBezTo>
                <a:cubicBezTo>
                  <a:pt x="2847704" y="4079206"/>
                  <a:pt x="2847704" y="4079206"/>
                  <a:pt x="2847704" y="4079206"/>
                </a:cubicBezTo>
                <a:cubicBezTo>
                  <a:pt x="2748825" y="4085796"/>
                  <a:pt x="2748825" y="4085796"/>
                  <a:pt x="2748825" y="4085796"/>
                </a:cubicBezTo>
                <a:cubicBezTo>
                  <a:pt x="2748825" y="4085796"/>
                  <a:pt x="2729050" y="4098975"/>
                  <a:pt x="2702682" y="4098975"/>
                </a:cubicBezTo>
                <a:cubicBezTo>
                  <a:pt x="2676314" y="4105564"/>
                  <a:pt x="2656539" y="4164870"/>
                  <a:pt x="2656539" y="4164870"/>
                </a:cubicBezTo>
                <a:cubicBezTo>
                  <a:pt x="2597212" y="4197817"/>
                  <a:pt x="2597212" y="4230765"/>
                  <a:pt x="2610395" y="4257123"/>
                </a:cubicBezTo>
                <a:cubicBezTo>
                  <a:pt x="2623579" y="4283481"/>
                  <a:pt x="2623579" y="4309839"/>
                  <a:pt x="2610395" y="4336197"/>
                </a:cubicBezTo>
                <a:cubicBezTo>
                  <a:pt x="2597212" y="4355966"/>
                  <a:pt x="2630171" y="4388913"/>
                  <a:pt x="2584028" y="4395503"/>
                </a:cubicBezTo>
                <a:cubicBezTo>
                  <a:pt x="2537884" y="4402092"/>
                  <a:pt x="2524701" y="4408682"/>
                  <a:pt x="2498333" y="4415271"/>
                </a:cubicBezTo>
                <a:cubicBezTo>
                  <a:pt x="2471965" y="4415271"/>
                  <a:pt x="2471965" y="4415271"/>
                  <a:pt x="2471965" y="4415271"/>
                </a:cubicBezTo>
                <a:cubicBezTo>
                  <a:pt x="2386271" y="4448219"/>
                  <a:pt x="2386271" y="4448219"/>
                  <a:pt x="2386271" y="4448219"/>
                </a:cubicBezTo>
                <a:cubicBezTo>
                  <a:pt x="2386271" y="4448219"/>
                  <a:pt x="2359903" y="4514114"/>
                  <a:pt x="2412638" y="4566830"/>
                </a:cubicBezTo>
                <a:cubicBezTo>
                  <a:pt x="2478557" y="4639314"/>
                  <a:pt x="2478557" y="4639314"/>
                  <a:pt x="2478557" y="4639314"/>
                </a:cubicBezTo>
                <a:cubicBezTo>
                  <a:pt x="2478557" y="4639314"/>
                  <a:pt x="2544476" y="4678851"/>
                  <a:pt x="2518109" y="4678851"/>
                </a:cubicBezTo>
                <a:cubicBezTo>
                  <a:pt x="2485149" y="4678851"/>
                  <a:pt x="2419230" y="4685441"/>
                  <a:pt x="2419230" y="4685441"/>
                </a:cubicBezTo>
                <a:cubicBezTo>
                  <a:pt x="2392862" y="4626135"/>
                  <a:pt x="2392862" y="4626135"/>
                  <a:pt x="2392862" y="4626135"/>
                </a:cubicBezTo>
                <a:cubicBezTo>
                  <a:pt x="2346719" y="4560240"/>
                  <a:pt x="2346719" y="4560240"/>
                  <a:pt x="2346719" y="4560240"/>
                </a:cubicBezTo>
                <a:cubicBezTo>
                  <a:pt x="2346719" y="4507524"/>
                  <a:pt x="2346719" y="4507524"/>
                  <a:pt x="2346719" y="4507524"/>
                </a:cubicBezTo>
                <a:cubicBezTo>
                  <a:pt x="2300576" y="4454808"/>
                  <a:pt x="2300576" y="4454808"/>
                  <a:pt x="2300576" y="4454808"/>
                </a:cubicBezTo>
                <a:cubicBezTo>
                  <a:pt x="2267616" y="4415271"/>
                  <a:pt x="2267616" y="4415271"/>
                  <a:pt x="2267616" y="4415271"/>
                </a:cubicBezTo>
                <a:cubicBezTo>
                  <a:pt x="2267616" y="4415271"/>
                  <a:pt x="2188513" y="4369145"/>
                  <a:pt x="2181921" y="4402092"/>
                </a:cubicBezTo>
                <a:cubicBezTo>
                  <a:pt x="2168737" y="4421861"/>
                  <a:pt x="2168737" y="4421861"/>
                  <a:pt x="2162145" y="4421861"/>
                </a:cubicBezTo>
                <a:cubicBezTo>
                  <a:pt x="2162145" y="4421861"/>
                  <a:pt x="2162145" y="4421861"/>
                  <a:pt x="2162145" y="4448219"/>
                </a:cubicBezTo>
                <a:cubicBezTo>
                  <a:pt x="2162145" y="4494345"/>
                  <a:pt x="2195105" y="4487756"/>
                  <a:pt x="2162145" y="4494345"/>
                </a:cubicBezTo>
                <a:cubicBezTo>
                  <a:pt x="2122594" y="4507524"/>
                  <a:pt x="2122594" y="4507524"/>
                  <a:pt x="2122594" y="4507524"/>
                </a:cubicBezTo>
                <a:cubicBezTo>
                  <a:pt x="2056675" y="4435040"/>
                  <a:pt x="2056675" y="4435040"/>
                  <a:pt x="2056675" y="4435040"/>
                </a:cubicBezTo>
                <a:cubicBezTo>
                  <a:pt x="2030307" y="4435040"/>
                  <a:pt x="2003940" y="4474577"/>
                  <a:pt x="2003940" y="4474577"/>
                </a:cubicBezTo>
                <a:cubicBezTo>
                  <a:pt x="2003940" y="4474577"/>
                  <a:pt x="1957796" y="4481166"/>
                  <a:pt x="1938021" y="4500935"/>
                </a:cubicBezTo>
                <a:cubicBezTo>
                  <a:pt x="1918245" y="4520703"/>
                  <a:pt x="1918245" y="4520703"/>
                  <a:pt x="1918245" y="4520703"/>
                </a:cubicBezTo>
                <a:cubicBezTo>
                  <a:pt x="1918245" y="4520703"/>
                  <a:pt x="1852326" y="4553651"/>
                  <a:pt x="1839142" y="4573419"/>
                </a:cubicBezTo>
                <a:cubicBezTo>
                  <a:pt x="1825958" y="4599777"/>
                  <a:pt x="1819366" y="4632725"/>
                  <a:pt x="1819366" y="4632725"/>
                </a:cubicBezTo>
                <a:cubicBezTo>
                  <a:pt x="1839142" y="5159886"/>
                  <a:pt x="1839142" y="5159886"/>
                  <a:pt x="1839142" y="5159886"/>
                </a:cubicBezTo>
                <a:cubicBezTo>
                  <a:pt x="1792999" y="5166475"/>
                  <a:pt x="1792999" y="5166475"/>
                  <a:pt x="1792999" y="5166475"/>
                </a:cubicBezTo>
                <a:cubicBezTo>
                  <a:pt x="1792999" y="5074222"/>
                  <a:pt x="1792999" y="5074222"/>
                  <a:pt x="1792999" y="5074222"/>
                </a:cubicBezTo>
                <a:cubicBezTo>
                  <a:pt x="1792999" y="5074222"/>
                  <a:pt x="1766631" y="4988558"/>
                  <a:pt x="1773223" y="4968790"/>
                </a:cubicBezTo>
                <a:cubicBezTo>
                  <a:pt x="1773223" y="4942432"/>
                  <a:pt x="1753447" y="4843589"/>
                  <a:pt x="1753447" y="4843589"/>
                </a:cubicBezTo>
                <a:cubicBezTo>
                  <a:pt x="1773223" y="4738157"/>
                  <a:pt x="1773223" y="4738157"/>
                  <a:pt x="1773223" y="4738157"/>
                </a:cubicBezTo>
                <a:cubicBezTo>
                  <a:pt x="1766631" y="4678851"/>
                  <a:pt x="1766631" y="4678851"/>
                  <a:pt x="1766631" y="4678851"/>
                </a:cubicBezTo>
                <a:cubicBezTo>
                  <a:pt x="1694120" y="4639314"/>
                  <a:pt x="1694120" y="4639314"/>
                  <a:pt x="1694120" y="4639314"/>
                </a:cubicBezTo>
                <a:cubicBezTo>
                  <a:pt x="1694120" y="4639314"/>
                  <a:pt x="1634793" y="4599777"/>
                  <a:pt x="1641385" y="4652493"/>
                </a:cubicBezTo>
                <a:cubicBezTo>
                  <a:pt x="1647977" y="4705210"/>
                  <a:pt x="1628201" y="4738157"/>
                  <a:pt x="1628201" y="4738157"/>
                </a:cubicBezTo>
                <a:cubicBezTo>
                  <a:pt x="1582058" y="4757926"/>
                  <a:pt x="1549098" y="4738157"/>
                  <a:pt x="1562282" y="4711799"/>
                </a:cubicBezTo>
                <a:cubicBezTo>
                  <a:pt x="1575466" y="4692030"/>
                  <a:pt x="1575466" y="4692030"/>
                  <a:pt x="1575466" y="4692030"/>
                </a:cubicBezTo>
                <a:cubicBezTo>
                  <a:pt x="1582058" y="4612956"/>
                  <a:pt x="1582058" y="4612956"/>
                  <a:pt x="1582058" y="4612956"/>
                </a:cubicBezTo>
                <a:cubicBezTo>
                  <a:pt x="1535914" y="4580009"/>
                  <a:pt x="1535914" y="4580009"/>
                  <a:pt x="1535914" y="4580009"/>
                </a:cubicBezTo>
                <a:cubicBezTo>
                  <a:pt x="1535914" y="4580009"/>
                  <a:pt x="1529322" y="4553651"/>
                  <a:pt x="1502955" y="4533882"/>
                </a:cubicBezTo>
                <a:cubicBezTo>
                  <a:pt x="1483179" y="4507524"/>
                  <a:pt x="1483179" y="4507524"/>
                  <a:pt x="1483179" y="4507524"/>
                </a:cubicBezTo>
                <a:cubicBezTo>
                  <a:pt x="1390892" y="4461398"/>
                  <a:pt x="1390892" y="4461398"/>
                  <a:pt x="1390892" y="4461398"/>
                </a:cubicBezTo>
                <a:cubicBezTo>
                  <a:pt x="1390892" y="4461398"/>
                  <a:pt x="1357933" y="4494345"/>
                  <a:pt x="1344749" y="4514114"/>
                </a:cubicBezTo>
                <a:cubicBezTo>
                  <a:pt x="1331565" y="4540472"/>
                  <a:pt x="1285422" y="4553651"/>
                  <a:pt x="1285422" y="4553651"/>
                </a:cubicBezTo>
                <a:cubicBezTo>
                  <a:pt x="1206319" y="4553651"/>
                  <a:pt x="1206319" y="4553651"/>
                  <a:pt x="1206319" y="4553651"/>
                </a:cubicBezTo>
                <a:cubicBezTo>
                  <a:pt x="1160175" y="4527293"/>
                  <a:pt x="1160175" y="4527293"/>
                  <a:pt x="1160175" y="4527293"/>
                </a:cubicBezTo>
                <a:cubicBezTo>
                  <a:pt x="1140400" y="4448219"/>
                  <a:pt x="1140400" y="4448219"/>
                  <a:pt x="1140400" y="4448219"/>
                </a:cubicBezTo>
                <a:cubicBezTo>
                  <a:pt x="1140400" y="4448219"/>
                  <a:pt x="1127216" y="4421861"/>
                  <a:pt x="1100848" y="4402092"/>
                </a:cubicBezTo>
                <a:cubicBezTo>
                  <a:pt x="1081073" y="4375734"/>
                  <a:pt x="988786" y="4316428"/>
                  <a:pt x="988786" y="4316428"/>
                </a:cubicBezTo>
                <a:cubicBezTo>
                  <a:pt x="942643" y="4283481"/>
                  <a:pt x="942643" y="4283481"/>
                  <a:pt x="942643" y="4283481"/>
                </a:cubicBezTo>
                <a:cubicBezTo>
                  <a:pt x="942643" y="4283481"/>
                  <a:pt x="949234" y="4224175"/>
                  <a:pt x="949234" y="4197817"/>
                </a:cubicBezTo>
                <a:cubicBezTo>
                  <a:pt x="949234" y="4184638"/>
                  <a:pt x="955826" y="4184638"/>
                  <a:pt x="962418" y="4184638"/>
                </a:cubicBezTo>
                <a:cubicBezTo>
                  <a:pt x="969010" y="4184638"/>
                  <a:pt x="969010" y="4184638"/>
                  <a:pt x="942643" y="4171459"/>
                </a:cubicBezTo>
                <a:cubicBezTo>
                  <a:pt x="896499" y="4145101"/>
                  <a:pt x="955826" y="4164870"/>
                  <a:pt x="896499" y="4145101"/>
                </a:cubicBezTo>
                <a:cubicBezTo>
                  <a:pt x="837172" y="4125333"/>
                  <a:pt x="771253" y="4118743"/>
                  <a:pt x="804213" y="4079206"/>
                </a:cubicBezTo>
                <a:cubicBezTo>
                  <a:pt x="837172" y="4033080"/>
                  <a:pt x="837172" y="4033080"/>
                  <a:pt x="837172" y="4033080"/>
                </a:cubicBezTo>
                <a:cubicBezTo>
                  <a:pt x="837172" y="4033080"/>
                  <a:pt x="817396" y="3960595"/>
                  <a:pt x="791029" y="3973774"/>
                </a:cubicBezTo>
                <a:cubicBezTo>
                  <a:pt x="777845" y="3973774"/>
                  <a:pt x="771253" y="3973774"/>
                  <a:pt x="764661" y="3967185"/>
                </a:cubicBezTo>
                <a:cubicBezTo>
                  <a:pt x="758069" y="3960595"/>
                  <a:pt x="744885" y="3960595"/>
                  <a:pt x="725110" y="3986953"/>
                </a:cubicBezTo>
                <a:cubicBezTo>
                  <a:pt x="692150" y="4026490"/>
                  <a:pt x="731702" y="4000132"/>
                  <a:pt x="692150" y="4026490"/>
                </a:cubicBezTo>
                <a:cubicBezTo>
                  <a:pt x="646007" y="4052848"/>
                  <a:pt x="619639" y="4039669"/>
                  <a:pt x="619639" y="4039669"/>
                </a:cubicBezTo>
                <a:cubicBezTo>
                  <a:pt x="573496" y="3986953"/>
                  <a:pt x="573496" y="3986953"/>
                  <a:pt x="573496" y="3986953"/>
                </a:cubicBezTo>
                <a:cubicBezTo>
                  <a:pt x="593271" y="3934237"/>
                  <a:pt x="593271" y="3934237"/>
                  <a:pt x="593271" y="3934237"/>
                </a:cubicBezTo>
                <a:cubicBezTo>
                  <a:pt x="553720" y="3881521"/>
                  <a:pt x="566904" y="3848573"/>
                  <a:pt x="533944" y="3841984"/>
                </a:cubicBezTo>
                <a:cubicBezTo>
                  <a:pt x="494393" y="3835394"/>
                  <a:pt x="461433" y="3802447"/>
                  <a:pt x="461433" y="3802447"/>
                </a:cubicBezTo>
                <a:cubicBezTo>
                  <a:pt x="441658" y="3756320"/>
                  <a:pt x="441658" y="3756320"/>
                  <a:pt x="441658" y="3756320"/>
                </a:cubicBezTo>
                <a:cubicBezTo>
                  <a:pt x="441658" y="3756320"/>
                  <a:pt x="408698" y="3631120"/>
                  <a:pt x="375739" y="3637709"/>
                </a:cubicBezTo>
                <a:cubicBezTo>
                  <a:pt x="362555" y="3637709"/>
                  <a:pt x="355963" y="3631120"/>
                  <a:pt x="342779" y="3624530"/>
                </a:cubicBezTo>
                <a:cubicBezTo>
                  <a:pt x="336187" y="3617941"/>
                  <a:pt x="323003" y="3611351"/>
                  <a:pt x="309820" y="3611351"/>
                </a:cubicBezTo>
                <a:cubicBezTo>
                  <a:pt x="283452" y="3617941"/>
                  <a:pt x="204349" y="3611351"/>
                  <a:pt x="204349" y="3611351"/>
                </a:cubicBezTo>
                <a:cubicBezTo>
                  <a:pt x="138430" y="3558635"/>
                  <a:pt x="138430" y="3558635"/>
                  <a:pt x="138430" y="3558635"/>
                </a:cubicBezTo>
                <a:cubicBezTo>
                  <a:pt x="138430" y="3558635"/>
                  <a:pt x="138430" y="3538866"/>
                  <a:pt x="151614" y="3512508"/>
                </a:cubicBezTo>
                <a:cubicBezTo>
                  <a:pt x="164798" y="3492740"/>
                  <a:pt x="164798" y="3492740"/>
                  <a:pt x="164798" y="3492740"/>
                </a:cubicBezTo>
                <a:cubicBezTo>
                  <a:pt x="164798" y="3492740"/>
                  <a:pt x="158206" y="3505919"/>
                  <a:pt x="105470" y="3492740"/>
                </a:cubicBezTo>
                <a:cubicBezTo>
                  <a:pt x="52735" y="3486150"/>
                  <a:pt x="39551" y="3433434"/>
                  <a:pt x="39551" y="3433434"/>
                </a:cubicBezTo>
                <a:cubicBezTo>
                  <a:pt x="39551" y="3433434"/>
                  <a:pt x="59327" y="3400487"/>
                  <a:pt x="39551" y="3360950"/>
                </a:cubicBezTo>
                <a:cubicBezTo>
                  <a:pt x="26368" y="3328002"/>
                  <a:pt x="0" y="3229160"/>
                  <a:pt x="0" y="3229160"/>
                </a:cubicBezTo>
                <a:cubicBezTo>
                  <a:pt x="32959" y="3176444"/>
                  <a:pt x="32959" y="3176444"/>
                  <a:pt x="32959" y="3176444"/>
                </a:cubicBezTo>
                <a:cubicBezTo>
                  <a:pt x="112062" y="3117138"/>
                  <a:pt x="112062" y="3117138"/>
                  <a:pt x="112062" y="3117138"/>
                </a:cubicBezTo>
                <a:cubicBezTo>
                  <a:pt x="145022" y="3071011"/>
                  <a:pt x="158206" y="2978758"/>
                  <a:pt x="158206" y="2978758"/>
                </a:cubicBezTo>
                <a:cubicBezTo>
                  <a:pt x="210941" y="2965579"/>
                  <a:pt x="224125" y="2952400"/>
                  <a:pt x="257084" y="2952400"/>
                </a:cubicBezTo>
                <a:cubicBezTo>
                  <a:pt x="296636" y="2952400"/>
                  <a:pt x="296636" y="2932632"/>
                  <a:pt x="336187" y="2939221"/>
                </a:cubicBezTo>
                <a:cubicBezTo>
                  <a:pt x="369147" y="2945811"/>
                  <a:pt x="382330" y="2919453"/>
                  <a:pt x="382330" y="2919453"/>
                </a:cubicBezTo>
                <a:cubicBezTo>
                  <a:pt x="355963" y="2879916"/>
                  <a:pt x="342779" y="2853558"/>
                  <a:pt x="316411" y="2840379"/>
                </a:cubicBezTo>
                <a:cubicBezTo>
                  <a:pt x="296636" y="2827200"/>
                  <a:pt x="276860" y="2787662"/>
                  <a:pt x="276860" y="2787662"/>
                </a:cubicBezTo>
                <a:cubicBezTo>
                  <a:pt x="276860" y="2701999"/>
                  <a:pt x="276860" y="2701999"/>
                  <a:pt x="276860" y="2701999"/>
                </a:cubicBezTo>
                <a:cubicBezTo>
                  <a:pt x="276860" y="2701999"/>
                  <a:pt x="250492" y="2649283"/>
                  <a:pt x="263676" y="2622925"/>
                </a:cubicBezTo>
                <a:cubicBezTo>
                  <a:pt x="276860" y="2603156"/>
                  <a:pt x="210941" y="2622925"/>
                  <a:pt x="276860" y="2603156"/>
                </a:cubicBezTo>
                <a:cubicBezTo>
                  <a:pt x="342779" y="2583388"/>
                  <a:pt x="342779" y="2583388"/>
                  <a:pt x="342779" y="2583388"/>
                </a:cubicBezTo>
                <a:cubicBezTo>
                  <a:pt x="355963" y="2517493"/>
                  <a:pt x="355963" y="2517493"/>
                  <a:pt x="355963" y="2517493"/>
                </a:cubicBezTo>
                <a:cubicBezTo>
                  <a:pt x="355963" y="2431829"/>
                  <a:pt x="355963" y="2431829"/>
                  <a:pt x="355963" y="2431829"/>
                </a:cubicBezTo>
                <a:cubicBezTo>
                  <a:pt x="408698" y="2398881"/>
                  <a:pt x="408698" y="2398881"/>
                  <a:pt x="408698" y="2398881"/>
                </a:cubicBezTo>
                <a:cubicBezTo>
                  <a:pt x="474617" y="2372523"/>
                  <a:pt x="474617" y="2372523"/>
                  <a:pt x="474617" y="2372523"/>
                </a:cubicBezTo>
                <a:cubicBezTo>
                  <a:pt x="547128" y="2332986"/>
                  <a:pt x="547128" y="2332986"/>
                  <a:pt x="547128" y="2332986"/>
                </a:cubicBezTo>
                <a:cubicBezTo>
                  <a:pt x="553720" y="2240733"/>
                  <a:pt x="553720" y="2240733"/>
                  <a:pt x="553720" y="2240733"/>
                </a:cubicBezTo>
                <a:cubicBezTo>
                  <a:pt x="487801" y="2214375"/>
                  <a:pt x="487801" y="2214375"/>
                  <a:pt x="487801" y="2214375"/>
                </a:cubicBezTo>
                <a:cubicBezTo>
                  <a:pt x="487801" y="2214375"/>
                  <a:pt x="481209" y="2122122"/>
                  <a:pt x="507577" y="2115533"/>
                </a:cubicBezTo>
                <a:cubicBezTo>
                  <a:pt x="540536" y="2115533"/>
                  <a:pt x="586680" y="2082585"/>
                  <a:pt x="586680" y="2082585"/>
                </a:cubicBezTo>
                <a:cubicBezTo>
                  <a:pt x="586680" y="2082585"/>
                  <a:pt x="652599" y="2108943"/>
                  <a:pt x="659191" y="2075995"/>
                </a:cubicBezTo>
                <a:cubicBezTo>
                  <a:pt x="665782" y="2049637"/>
                  <a:pt x="672374" y="2023279"/>
                  <a:pt x="678966" y="1990332"/>
                </a:cubicBezTo>
                <a:cubicBezTo>
                  <a:pt x="685558" y="1957384"/>
                  <a:pt x="725110" y="1884900"/>
                  <a:pt x="725110" y="1884900"/>
                </a:cubicBezTo>
                <a:cubicBezTo>
                  <a:pt x="725110" y="1884900"/>
                  <a:pt x="777845" y="1851952"/>
                  <a:pt x="804213" y="1865131"/>
                </a:cubicBezTo>
                <a:cubicBezTo>
                  <a:pt x="823988" y="1878310"/>
                  <a:pt x="856948" y="1884900"/>
                  <a:pt x="896499" y="1891489"/>
                </a:cubicBezTo>
                <a:cubicBezTo>
                  <a:pt x="929459" y="1898079"/>
                  <a:pt x="922867" y="1911258"/>
                  <a:pt x="969010" y="1911258"/>
                </a:cubicBezTo>
                <a:cubicBezTo>
                  <a:pt x="1015154" y="1917847"/>
                  <a:pt x="1074481" y="1937616"/>
                  <a:pt x="1074481" y="1911258"/>
                </a:cubicBezTo>
                <a:cubicBezTo>
                  <a:pt x="1081073" y="1884900"/>
                  <a:pt x="1114032" y="1851952"/>
                  <a:pt x="1114032" y="1825594"/>
                </a:cubicBezTo>
                <a:cubicBezTo>
                  <a:pt x="1107440" y="1799236"/>
                  <a:pt x="1146992" y="1733341"/>
                  <a:pt x="1146992" y="1733341"/>
                </a:cubicBezTo>
                <a:cubicBezTo>
                  <a:pt x="1239278" y="1739931"/>
                  <a:pt x="1239278" y="1739931"/>
                  <a:pt x="1239278" y="1739931"/>
                </a:cubicBezTo>
                <a:cubicBezTo>
                  <a:pt x="1245870" y="1786057"/>
                  <a:pt x="1245870" y="1786057"/>
                  <a:pt x="1245870" y="1786057"/>
                </a:cubicBezTo>
                <a:cubicBezTo>
                  <a:pt x="1245870" y="1786057"/>
                  <a:pt x="1259054" y="1845363"/>
                  <a:pt x="1239278" y="1865131"/>
                </a:cubicBezTo>
                <a:cubicBezTo>
                  <a:pt x="1212911" y="1884900"/>
                  <a:pt x="1206319" y="1931026"/>
                  <a:pt x="1232686" y="1931026"/>
                </a:cubicBezTo>
                <a:cubicBezTo>
                  <a:pt x="1259054" y="1937616"/>
                  <a:pt x="1456811" y="1937616"/>
                  <a:pt x="1437036" y="1924437"/>
                </a:cubicBezTo>
                <a:cubicBezTo>
                  <a:pt x="1423852" y="1911258"/>
                  <a:pt x="1423852" y="1911258"/>
                  <a:pt x="1423852" y="1911258"/>
                </a:cubicBezTo>
                <a:cubicBezTo>
                  <a:pt x="1509547" y="1759699"/>
                  <a:pt x="1509547" y="1759699"/>
                  <a:pt x="1509547" y="1759699"/>
                </a:cubicBezTo>
                <a:cubicBezTo>
                  <a:pt x="1509547" y="1759699"/>
                  <a:pt x="1397484" y="1746520"/>
                  <a:pt x="1443628" y="1594961"/>
                </a:cubicBezTo>
                <a:cubicBezTo>
                  <a:pt x="1451868" y="1571898"/>
                  <a:pt x="1456811" y="1555836"/>
                  <a:pt x="1459489" y="1545025"/>
                </a:cubicBezTo>
                <a:lnTo>
                  <a:pt x="1461715" y="1526922"/>
                </a:lnTo>
                <a:lnTo>
                  <a:pt x="1488123" y="1496942"/>
                </a:lnTo>
                <a:cubicBezTo>
                  <a:pt x="1506251" y="1477998"/>
                  <a:pt x="1522730" y="1463171"/>
                  <a:pt x="1522730" y="1463171"/>
                </a:cubicBezTo>
                <a:close/>
                <a:moveTo>
                  <a:pt x="2832694" y="1433993"/>
                </a:moveTo>
                <a:cubicBezTo>
                  <a:pt x="2837256" y="1432473"/>
                  <a:pt x="2842121" y="1433283"/>
                  <a:pt x="2846987" y="1438149"/>
                </a:cubicBezTo>
                <a:cubicBezTo>
                  <a:pt x="2834012" y="1470586"/>
                  <a:pt x="2834012" y="1470586"/>
                  <a:pt x="2834012" y="1470586"/>
                </a:cubicBezTo>
                <a:cubicBezTo>
                  <a:pt x="2821037" y="1477073"/>
                  <a:pt x="2808063" y="1464098"/>
                  <a:pt x="2808063" y="1464098"/>
                </a:cubicBezTo>
                <a:cubicBezTo>
                  <a:pt x="2808063" y="1464098"/>
                  <a:pt x="2819010" y="1438554"/>
                  <a:pt x="2832694" y="1433993"/>
                </a:cubicBezTo>
                <a:close/>
                <a:moveTo>
                  <a:pt x="3278763" y="1399123"/>
                </a:moveTo>
                <a:cubicBezTo>
                  <a:pt x="3284934" y="1398814"/>
                  <a:pt x="3289047" y="1401697"/>
                  <a:pt x="3289047" y="1409935"/>
                </a:cubicBezTo>
                <a:cubicBezTo>
                  <a:pt x="3289047" y="1409935"/>
                  <a:pt x="3282465" y="1449477"/>
                  <a:pt x="3242974" y="1436296"/>
                </a:cubicBezTo>
                <a:cubicBezTo>
                  <a:pt x="3190319" y="1469248"/>
                  <a:pt x="3190319" y="1469248"/>
                  <a:pt x="3190319" y="1469248"/>
                </a:cubicBezTo>
                <a:cubicBezTo>
                  <a:pt x="3104755" y="1495609"/>
                  <a:pt x="3104755" y="1495609"/>
                  <a:pt x="3104755" y="1495609"/>
                </a:cubicBezTo>
                <a:cubicBezTo>
                  <a:pt x="3038937" y="1508789"/>
                  <a:pt x="3038937" y="1508789"/>
                  <a:pt x="3038937" y="1508789"/>
                </a:cubicBezTo>
                <a:lnTo>
                  <a:pt x="2966537" y="1554921"/>
                </a:lnTo>
                <a:cubicBezTo>
                  <a:pt x="2966537" y="1554921"/>
                  <a:pt x="2992864" y="1508789"/>
                  <a:pt x="3025773" y="1502199"/>
                </a:cubicBezTo>
                <a:cubicBezTo>
                  <a:pt x="3078428" y="1489018"/>
                  <a:pt x="3078428" y="1489018"/>
                  <a:pt x="3078428" y="1489018"/>
                </a:cubicBezTo>
                <a:cubicBezTo>
                  <a:pt x="3157410" y="1462657"/>
                  <a:pt x="3157410" y="1462657"/>
                  <a:pt x="3157410" y="1462657"/>
                </a:cubicBezTo>
                <a:cubicBezTo>
                  <a:pt x="3223228" y="1429706"/>
                  <a:pt x="3223228" y="1429706"/>
                  <a:pt x="3223228" y="1429706"/>
                </a:cubicBezTo>
                <a:cubicBezTo>
                  <a:pt x="3223228" y="1429706"/>
                  <a:pt x="3260252" y="1400050"/>
                  <a:pt x="3278763" y="1399123"/>
                </a:cubicBezTo>
                <a:close/>
                <a:moveTo>
                  <a:pt x="3040257" y="1218887"/>
                </a:moveTo>
                <a:cubicBezTo>
                  <a:pt x="3042733" y="1219819"/>
                  <a:pt x="3044384" y="1222305"/>
                  <a:pt x="3044384" y="1227278"/>
                </a:cubicBezTo>
                <a:lnTo>
                  <a:pt x="2938734" y="1293577"/>
                </a:lnTo>
                <a:cubicBezTo>
                  <a:pt x="2938734" y="1293577"/>
                  <a:pt x="2938734" y="1293577"/>
                  <a:pt x="2984956" y="1253797"/>
                </a:cubicBezTo>
                <a:cubicBezTo>
                  <a:pt x="2984956" y="1253797"/>
                  <a:pt x="2984956" y="1253797"/>
                  <a:pt x="3017971" y="1227278"/>
                </a:cubicBezTo>
                <a:cubicBezTo>
                  <a:pt x="3017971" y="1227278"/>
                  <a:pt x="3032828" y="1216090"/>
                  <a:pt x="3040257" y="1218887"/>
                </a:cubicBezTo>
                <a:close/>
                <a:moveTo>
                  <a:pt x="3577972" y="974958"/>
                </a:moveTo>
                <a:cubicBezTo>
                  <a:pt x="3577972" y="974958"/>
                  <a:pt x="3597656" y="1001648"/>
                  <a:pt x="3571410" y="1008321"/>
                </a:cubicBezTo>
                <a:cubicBezTo>
                  <a:pt x="3532042" y="1035011"/>
                  <a:pt x="3532042" y="1035011"/>
                  <a:pt x="3532042" y="1035011"/>
                </a:cubicBezTo>
                <a:cubicBezTo>
                  <a:pt x="3532042" y="1035011"/>
                  <a:pt x="3453305" y="1101737"/>
                  <a:pt x="3433620" y="1081719"/>
                </a:cubicBezTo>
                <a:cubicBezTo>
                  <a:pt x="3538603" y="1008321"/>
                  <a:pt x="3538603" y="1008321"/>
                  <a:pt x="3538603" y="1008321"/>
                </a:cubicBezTo>
                <a:cubicBezTo>
                  <a:pt x="3538603" y="1008321"/>
                  <a:pt x="3564849" y="968285"/>
                  <a:pt x="3577972" y="974958"/>
                </a:cubicBezTo>
                <a:close/>
                <a:moveTo>
                  <a:pt x="3116672" y="937703"/>
                </a:moveTo>
                <a:cubicBezTo>
                  <a:pt x="3116672" y="937703"/>
                  <a:pt x="3077351" y="1016345"/>
                  <a:pt x="3024923" y="1029452"/>
                </a:cubicBezTo>
                <a:cubicBezTo>
                  <a:pt x="3116672" y="937703"/>
                  <a:pt x="3116672" y="937703"/>
                  <a:pt x="3116672" y="937703"/>
                </a:cubicBezTo>
                <a:close/>
                <a:moveTo>
                  <a:pt x="3049945" y="929362"/>
                </a:moveTo>
                <a:lnTo>
                  <a:pt x="2944295" y="1040572"/>
                </a:lnTo>
                <a:lnTo>
                  <a:pt x="2985999" y="990527"/>
                </a:lnTo>
                <a:lnTo>
                  <a:pt x="3049945" y="929362"/>
                </a:lnTo>
                <a:close/>
                <a:moveTo>
                  <a:pt x="3873636" y="467839"/>
                </a:moveTo>
                <a:cubicBezTo>
                  <a:pt x="3873636" y="467839"/>
                  <a:pt x="3873636" y="467839"/>
                  <a:pt x="3886803" y="467839"/>
                </a:cubicBezTo>
                <a:cubicBezTo>
                  <a:pt x="3886803" y="467839"/>
                  <a:pt x="3886803" y="467839"/>
                  <a:pt x="3873636" y="494178"/>
                </a:cubicBezTo>
                <a:cubicBezTo>
                  <a:pt x="3867053" y="507348"/>
                  <a:pt x="3840719" y="513933"/>
                  <a:pt x="3840719" y="513933"/>
                </a:cubicBezTo>
                <a:cubicBezTo>
                  <a:pt x="3840719" y="513933"/>
                  <a:pt x="3840719" y="513933"/>
                  <a:pt x="3728800" y="612705"/>
                </a:cubicBezTo>
                <a:cubicBezTo>
                  <a:pt x="3728800" y="612705"/>
                  <a:pt x="3728800" y="612705"/>
                  <a:pt x="3551047" y="770741"/>
                </a:cubicBezTo>
                <a:cubicBezTo>
                  <a:pt x="3551047" y="770741"/>
                  <a:pt x="3551047" y="770741"/>
                  <a:pt x="3472046" y="816835"/>
                </a:cubicBezTo>
                <a:cubicBezTo>
                  <a:pt x="3472046" y="816835"/>
                  <a:pt x="3472046" y="816835"/>
                  <a:pt x="3425962" y="862929"/>
                </a:cubicBezTo>
                <a:cubicBezTo>
                  <a:pt x="3425962" y="862929"/>
                  <a:pt x="3425962" y="862929"/>
                  <a:pt x="3366710" y="935362"/>
                </a:cubicBezTo>
                <a:cubicBezTo>
                  <a:pt x="3366710" y="935362"/>
                  <a:pt x="3366710" y="935362"/>
                  <a:pt x="3327210" y="981456"/>
                </a:cubicBezTo>
                <a:cubicBezTo>
                  <a:pt x="3327210" y="981456"/>
                  <a:pt x="3327210" y="981456"/>
                  <a:pt x="3281126" y="1020965"/>
                </a:cubicBezTo>
                <a:cubicBezTo>
                  <a:pt x="3281126" y="1020965"/>
                  <a:pt x="3281126" y="1020965"/>
                  <a:pt x="3188957" y="1093398"/>
                </a:cubicBezTo>
                <a:cubicBezTo>
                  <a:pt x="3188957" y="1093398"/>
                  <a:pt x="3215291" y="1047304"/>
                  <a:pt x="3221874" y="1040719"/>
                </a:cubicBezTo>
                <a:cubicBezTo>
                  <a:pt x="3221874" y="1040719"/>
                  <a:pt x="3221874" y="1040719"/>
                  <a:pt x="3248208" y="1014380"/>
                </a:cubicBezTo>
                <a:cubicBezTo>
                  <a:pt x="3248208" y="1014380"/>
                  <a:pt x="3248208" y="1014380"/>
                  <a:pt x="3267959" y="994625"/>
                </a:cubicBezTo>
                <a:cubicBezTo>
                  <a:pt x="3267959" y="994625"/>
                  <a:pt x="3267959" y="994625"/>
                  <a:pt x="3294292" y="974871"/>
                </a:cubicBezTo>
                <a:cubicBezTo>
                  <a:pt x="3294292" y="974871"/>
                  <a:pt x="3294292" y="974871"/>
                  <a:pt x="3314043" y="961701"/>
                </a:cubicBezTo>
                <a:cubicBezTo>
                  <a:pt x="3314043" y="961701"/>
                  <a:pt x="3314043" y="961701"/>
                  <a:pt x="3346960" y="922192"/>
                </a:cubicBezTo>
                <a:cubicBezTo>
                  <a:pt x="3346960" y="922192"/>
                  <a:pt x="3346960" y="922192"/>
                  <a:pt x="3406211" y="862929"/>
                </a:cubicBezTo>
                <a:cubicBezTo>
                  <a:pt x="3406211" y="862929"/>
                  <a:pt x="3406211" y="862929"/>
                  <a:pt x="3432545" y="843174"/>
                </a:cubicBezTo>
                <a:cubicBezTo>
                  <a:pt x="3432545" y="843174"/>
                  <a:pt x="3504963" y="783911"/>
                  <a:pt x="3518130" y="770741"/>
                </a:cubicBezTo>
                <a:cubicBezTo>
                  <a:pt x="3531297" y="757572"/>
                  <a:pt x="3537880" y="757572"/>
                  <a:pt x="3537880" y="757572"/>
                </a:cubicBezTo>
                <a:cubicBezTo>
                  <a:pt x="3537880" y="757572"/>
                  <a:pt x="3564214" y="744402"/>
                  <a:pt x="3570797" y="737817"/>
                </a:cubicBezTo>
                <a:cubicBezTo>
                  <a:pt x="3577381" y="731232"/>
                  <a:pt x="3583964" y="724647"/>
                  <a:pt x="3597131" y="711478"/>
                </a:cubicBezTo>
                <a:cubicBezTo>
                  <a:pt x="3610298" y="698308"/>
                  <a:pt x="3623465" y="691723"/>
                  <a:pt x="3636632" y="678554"/>
                </a:cubicBezTo>
                <a:cubicBezTo>
                  <a:pt x="3643215" y="665384"/>
                  <a:pt x="3682716" y="639045"/>
                  <a:pt x="3682716" y="639045"/>
                </a:cubicBezTo>
                <a:cubicBezTo>
                  <a:pt x="3682716" y="639045"/>
                  <a:pt x="3682716" y="639045"/>
                  <a:pt x="3722217" y="606120"/>
                </a:cubicBezTo>
                <a:cubicBezTo>
                  <a:pt x="3722217" y="606120"/>
                  <a:pt x="3827552" y="507348"/>
                  <a:pt x="3834136" y="500763"/>
                </a:cubicBezTo>
                <a:cubicBezTo>
                  <a:pt x="3834136" y="494178"/>
                  <a:pt x="3853886" y="487593"/>
                  <a:pt x="3853886" y="487593"/>
                </a:cubicBezTo>
                <a:cubicBezTo>
                  <a:pt x="3853886" y="487593"/>
                  <a:pt x="3860469" y="481009"/>
                  <a:pt x="3873636" y="467839"/>
                </a:cubicBezTo>
                <a:close/>
                <a:moveTo>
                  <a:pt x="2746897" y="423355"/>
                </a:moveTo>
                <a:lnTo>
                  <a:pt x="2760799" y="437257"/>
                </a:lnTo>
                <a:lnTo>
                  <a:pt x="2741336" y="448378"/>
                </a:lnTo>
                <a:lnTo>
                  <a:pt x="2741336" y="428916"/>
                </a:lnTo>
                <a:lnTo>
                  <a:pt x="2746897" y="423355"/>
                </a:lnTo>
                <a:close/>
                <a:moveTo>
                  <a:pt x="2272464" y="95"/>
                </a:moveTo>
                <a:cubicBezTo>
                  <a:pt x="2284975" y="1034"/>
                  <a:pt x="2299274" y="8540"/>
                  <a:pt x="2299274" y="8540"/>
                </a:cubicBezTo>
                <a:lnTo>
                  <a:pt x="2273854" y="28558"/>
                </a:lnTo>
                <a:cubicBezTo>
                  <a:pt x="2273854" y="28558"/>
                  <a:pt x="2273854" y="28558"/>
                  <a:pt x="2254790" y="28558"/>
                </a:cubicBezTo>
                <a:cubicBezTo>
                  <a:pt x="2254790" y="28558"/>
                  <a:pt x="2254790" y="8540"/>
                  <a:pt x="2261145" y="1868"/>
                </a:cubicBezTo>
                <a:cubicBezTo>
                  <a:pt x="2264322" y="200"/>
                  <a:pt x="2268294" y="-217"/>
                  <a:pt x="2272464" y="9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3714840" y="5378400"/>
            <a:ext cx="533160" cy="44136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29"/>
                </a:moveTo>
                <a:cubicBezTo>
                  <a:pt x="78" y="29"/>
                  <a:pt x="78" y="29"/>
                  <a:pt x="78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moveTo>
                  <a:pt x="40" y="0"/>
                </a:moveTo>
                <a:cubicBezTo>
                  <a:pt x="40" y="0"/>
                  <a:pt x="38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5" y="2"/>
                  <a:pt x="35" y="3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4"/>
                  <a:pt x="35" y="4"/>
                  <a:pt x="34" y="4"/>
                </a:cubicBezTo>
                <a:cubicBezTo>
                  <a:pt x="34" y="3"/>
                  <a:pt x="33" y="3"/>
                  <a:pt x="33" y="3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6"/>
                  <a:pt x="32" y="7"/>
                </a:cubicBezTo>
                <a:cubicBezTo>
                  <a:pt x="32" y="7"/>
                  <a:pt x="32" y="8"/>
                  <a:pt x="32" y="8"/>
                </a:cubicBezTo>
                <a:cubicBezTo>
                  <a:pt x="32" y="9"/>
                  <a:pt x="29" y="10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8" y="11"/>
                  <a:pt x="27" y="11"/>
                </a:cubicBezTo>
                <a:cubicBezTo>
                  <a:pt x="27" y="12"/>
                  <a:pt x="27" y="12"/>
                  <a:pt x="26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3"/>
                  <a:pt x="23" y="14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6"/>
                  <a:pt x="25" y="16"/>
                  <a:pt x="25" y="17"/>
                </a:cubicBezTo>
                <a:cubicBezTo>
                  <a:pt x="25" y="17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3" y="17"/>
                  <a:pt x="22" y="17"/>
                  <a:pt x="22" y="17"/>
                </a:cubicBezTo>
                <a:cubicBezTo>
                  <a:pt x="22" y="17"/>
                  <a:pt x="22" y="18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20"/>
                  <a:pt x="21" y="20"/>
                </a:cubicBezTo>
                <a:cubicBezTo>
                  <a:pt x="21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0"/>
                  <a:pt x="18" y="20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6" y="23"/>
                  <a:pt x="16" y="23"/>
                </a:cubicBezTo>
                <a:cubicBezTo>
                  <a:pt x="15" y="24"/>
                  <a:pt x="15" y="24"/>
                  <a:pt x="15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8"/>
                  <a:pt x="14" y="28"/>
                </a:cubicBezTo>
                <a:cubicBezTo>
                  <a:pt x="14" y="28"/>
                  <a:pt x="15" y="29"/>
                  <a:pt x="15" y="29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3" y="31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3"/>
                  <a:pt x="12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9" y="33"/>
                  <a:pt x="9" y="33"/>
                  <a:pt x="9" y="34"/>
                </a:cubicBezTo>
                <a:cubicBezTo>
                  <a:pt x="9" y="34"/>
                  <a:pt x="10" y="34"/>
                  <a:pt x="10" y="34"/>
                </a:cubicBezTo>
                <a:cubicBezTo>
                  <a:pt x="10" y="34"/>
                  <a:pt x="11" y="34"/>
                  <a:pt x="11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2" y="34"/>
                  <a:pt x="11" y="35"/>
                  <a:pt x="11" y="35"/>
                </a:cubicBezTo>
                <a:cubicBezTo>
                  <a:pt x="11" y="37"/>
                  <a:pt x="11" y="37"/>
                  <a:pt x="11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5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3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8"/>
                  <a:pt x="0" y="38"/>
                  <a:pt x="0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8"/>
                  <a:pt x="13" y="38"/>
                </a:cubicBezTo>
                <a:cubicBezTo>
                  <a:pt x="13" y="38"/>
                  <a:pt x="14" y="40"/>
                  <a:pt x="14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6" y="42"/>
                  <a:pt x="16" y="42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5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6" y="45"/>
                </a:cubicBezTo>
                <a:cubicBezTo>
                  <a:pt x="17" y="45"/>
                  <a:pt x="16" y="45"/>
                  <a:pt x="17" y="45"/>
                </a:cubicBezTo>
                <a:cubicBezTo>
                  <a:pt x="18" y="45"/>
                  <a:pt x="17" y="47"/>
                  <a:pt x="17" y="47"/>
                </a:cubicBezTo>
                <a:cubicBezTo>
                  <a:pt x="17" y="47"/>
                  <a:pt x="17" y="47"/>
                  <a:pt x="16" y="47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2" y="49"/>
                  <a:pt x="12" y="49"/>
                  <a:pt x="11" y="50"/>
                </a:cubicBezTo>
                <a:cubicBezTo>
                  <a:pt x="11" y="50"/>
                  <a:pt x="11" y="51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2" y="52"/>
                  <a:pt x="12" y="51"/>
                  <a:pt x="12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9"/>
                  <a:pt x="15" y="49"/>
                  <a:pt x="15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2"/>
                  <a:pt x="17" y="52"/>
                  <a:pt x="18" y="53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9" y="54"/>
                  <a:pt x="20" y="54"/>
                </a:cubicBezTo>
                <a:cubicBezTo>
                  <a:pt x="20" y="54"/>
                  <a:pt x="20" y="54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4"/>
                  <a:pt x="23" y="54"/>
                </a:cubicBezTo>
                <a:cubicBezTo>
                  <a:pt x="23" y="54"/>
                  <a:pt x="24" y="55"/>
                  <a:pt x="24" y="55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8"/>
                  <a:pt x="25" y="58"/>
                  <a:pt x="25" y="58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60"/>
                  <a:pt x="27" y="60"/>
                  <a:pt x="27" y="60"/>
                </a:cubicBezTo>
                <a:cubicBezTo>
                  <a:pt x="28" y="60"/>
                  <a:pt x="29" y="60"/>
                  <a:pt x="29" y="60"/>
                </a:cubicBezTo>
                <a:cubicBezTo>
                  <a:pt x="29" y="61"/>
                  <a:pt x="29" y="61"/>
                  <a:pt x="29" y="61"/>
                </a:cubicBezTo>
                <a:cubicBezTo>
                  <a:pt x="30" y="63"/>
                  <a:pt x="30" y="63"/>
                  <a:pt x="30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4" y="64"/>
                  <a:pt x="34" y="64"/>
                  <a:pt x="34" y="64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38" y="65"/>
                  <a:pt x="38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2" y="64"/>
                  <a:pt x="43" y="64"/>
                </a:cubicBezTo>
                <a:cubicBezTo>
                  <a:pt x="44" y="63"/>
                  <a:pt x="44" y="63"/>
                  <a:pt x="44" y="63"/>
                </a:cubicBezTo>
                <a:cubicBezTo>
                  <a:pt x="46" y="62"/>
                  <a:pt x="46" y="62"/>
                  <a:pt x="46" y="62"/>
                </a:cubicBezTo>
                <a:cubicBezTo>
                  <a:pt x="46" y="62"/>
                  <a:pt x="46" y="62"/>
                  <a:pt x="46" y="62"/>
                </a:cubicBezTo>
                <a:cubicBezTo>
                  <a:pt x="47" y="63"/>
                  <a:pt x="47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1"/>
                  <a:pt x="49" y="61"/>
                  <a:pt x="49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2" y="61"/>
                  <a:pt x="52" y="60"/>
                  <a:pt x="52" y="60"/>
                </a:cubicBezTo>
                <a:cubicBezTo>
                  <a:pt x="52" y="58"/>
                  <a:pt x="52" y="58"/>
                  <a:pt x="52" y="58"/>
                </a:cubicBezTo>
                <a:cubicBezTo>
                  <a:pt x="54" y="59"/>
                  <a:pt x="54" y="59"/>
                  <a:pt x="54" y="59"/>
                </a:cubicBezTo>
                <a:cubicBezTo>
                  <a:pt x="54" y="59"/>
                  <a:pt x="54" y="58"/>
                  <a:pt x="54" y="58"/>
                </a:cubicBezTo>
                <a:cubicBezTo>
                  <a:pt x="55" y="58"/>
                  <a:pt x="55" y="59"/>
                  <a:pt x="56" y="59"/>
                </a:cubicBezTo>
                <a:cubicBezTo>
                  <a:pt x="57" y="59"/>
                  <a:pt x="57" y="60"/>
                  <a:pt x="57" y="60"/>
                </a:cubicBezTo>
                <a:cubicBezTo>
                  <a:pt x="57" y="60"/>
                  <a:pt x="57" y="59"/>
                  <a:pt x="57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61" y="61"/>
                  <a:pt x="61" y="61"/>
                  <a:pt x="61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63" y="62"/>
                  <a:pt x="63" y="62"/>
                  <a:pt x="63" y="62"/>
                </a:cubicBezTo>
                <a:cubicBezTo>
                  <a:pt x="62" y="60"/>
                  <a:pt x="62" y="60"/>
                  <a:pt x="62" y="60"/>
                </a:cubicBezTo>
                <a:cubicBezTo>
                  <a:pt x="61" y="58"/>
                  <a:pt x="61" y="58"/>
                  <a:pt x="61" y="58"/>
                </a:cubicBezTo>
                <a:cubicBezTo>
                  <a:pt x="62" y="56"/>
                  <a:pt x="62" y="56"/>
                  <a:pt x="62" y="56"/>
                </a:cubicBezTo>
                <a:cubicBezTo>
                  <a:pt x="63" y="55"/>
                  <a:pt x="63" y="55"/>
                  <a:pt x="63" y="55"/>
                </a:cubicBezTo>
                <a:cubicBezTo>
                  <a:pt x="64" y="52"/>
                  <a:pt x="64" y="52"/>
                  <a:pt x="64" y="52"/>
                </a:cubicBezTo>
                <a:cubicBezTo>
                  <a:pt x="64" y="52"/>
                  <a:pt x="64" y="52"/>
                  <a:pt x="64" y="52"/>
                </a:cubicBezTo>
                <a:cubicBezTo>
                  <a:pt x="66" y="52"/>
                  <a:pt x="67" y="51"/>
                  <a:pt x="67" y="51"/>
                </a:cubicBezTo>
                <a:cubicBezTo>
                  <a:pt x="68" y="50"/>
                  <a:pt x="68" y="50"/>
                  <a:pt x="68" y="50"/>
                </a:cubicBezTo>
                <a:cubicBezTo>
                  <a:pt x="68" y="50"/>
                  <a:pt x="68" y="50"/>
                  <a:pt x="68" y="50"/>
                </a:cubicBezTo>
                <a:cubicBezTo>
                  <a:pt x="69" y="50"/>
                  <a:pt x="70" y="50"/>
                  <a:pt x="70" y="50"/>
                </a:cubicBezTo>
                <a:cubicBezTo>
                  <a:pt x="70" y="51"/>
                  <a:pt x="71" y="51"/>
                  <a:pt x="71" y="51"/>
                </a:cubicBezTo>
                <a:cubicBezTo>
                  <a:pt x="72" y="51"/>
                  <a:pt x="72" y="50"/>
                  <a:pt x="72" y="50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5" y="51"/>
                  <a:pt x="75" y="50"/>
                  <a:pt x="75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9" y="48"/>
                  <a:pt x="77" y="46"/>
                  <a:pt x="77" y="46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4"/>
                  <a:pt x="76" y="44"/>
                  <a:pt x="75" y="44"/>
                </a:cubicBezTo>
                <a:cubicBezTo>
                  <a:pt x="75" y="44"/>
                  <a:pt x="74" y="44"/>
                  <a:pt x="74" y="44"/>
                </a:cubicBezTo>
                <a:cubicBezTo>
                  <a:pt x="74" y="44"/>
                  <a:pt x="74" y="43"/>
                  <a:pt x="74" y="43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38"/>
                  <a:pt x="71" y="37"/>
                  <a:pt x="71" y="37"/>
                </a:cubicBezTo>
                <a:cubicBezTo>
                  <a:pt x="69" y="35"/>
                  <a:pt x="71" y="33"/>
                  <a:pt x="71" y="33"/>
                </a:cubicBezTo>
                <a:cubicBezTo>
                  <a:pt x="71" y="32"/>
                  <a:pt x="72" y="31"/>
                  <a:pt x="72" y="31"/>
                </a:cubicBezTo>
                <a:cubicBezTo>
                  <a:pt x="74" y="32"/>
                  <a:pt x="74" y="32"/>
                  <a:pt x="74" y="32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9" y="32"/>
                  <a:pt x="80" y="32"/>
                </a:cubicBezTo>
                <a:cubicBezTo>
                  <a:pt x="80" y="32"/>
                  <a:pt x="80" y="32"/>
                  <a:pt x="80" y="32"/>
                </a:cubicBezTo>
                <a:cubicBezTo>
                  <a:pt x="81" y="32"/>
                  <a:pt x="81" y="31"/>
                  <a:pt x="81" y="31"/>
                </a:cubicBezTo>
                <a:cubicBezTo>
                  <a:pt x="81" y="31"/>
                  <a:pt x="80" y="30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cubicBezTo>
                  <a:pt x="77" y="29"/>
                  <a:pt x="77" y="29"/>
                  <a:pt x="76" y="29"/>
                </a:cubicBezTo>
                <a:cubicBezTo>
                  <a:pt x="74" y="29"/>
                  <a:pt x="74" y="30"/>
                  <a:pt x="74" y="30"/>
                </a:cubicBezTo>
                <a:cubicBezTo>
                  <a:pt x="71" y="29"/>
                  <a:pt x="71" y="29"/>
                  <a:pt x="71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5"/>
                  <a:pt x="70" y="25"/>
                </a:cubicBezTo>
                <a:cubicBezTo>
                  <a:pt x="70" y="25"/>
                  <a:pt x="70" y="25"/>
                  <a:pt x="70" y="25"/>
                </a:cubicBezTo>
                <a:cubicBezTo>
                  <a:pt x="71" y="25"/>
                  <a:pt x="71" y="25"/>
                  <a:pt x="71" y="25"/>
                </a:cubicBezTo>
                <a:cubicBezTo>
                  <a:pt x="72" y="25"/>
                  <a:pt x="72" y="25"/>
                  <a:pt x="72" y="25"/>
                </a:cubicBezTo>
                <a:cubicBezTo>
                  <a:pt x="73" y="25"/>
                  <a:pt x="73" y="25"/>
                  <a:pt x="73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3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1" y="22"/>
                  <a:pt x="70" y="22"/>
                </a:cubicBezTo>
                <a:cubicBezTo>
                  <a:pt x="70" y="22"/>
                  <a:pt x="70" y="20"/>
                  <a:pt x="70" y="20"/>
                </a:cubicBezTo>
                <a:cubicBezTo>
                  <a:pt x="70" y="19"/>
                  <a:pt x="70" y="19"/>
                  <a:pt x="71" y="18"/>
                </a:cubicBezTo>
                <a:cubicBezTo>
                  <a:pt x="71" y="17"/>
                  <a:pt x="71" y="17"/>
                  <a:pt x="71" y="16"/>
                </a:cubicBezTo>
                <a:cubicBezTo>
                  <a:pt x="71" y="16"/>
                  <a:pt x="71" y="15"/>
                  <a:pt x="71" y="15"/>
                </a:cubicBezTo>
                <a:cubicBezTo>
                  <a:pt x="71" y="15"/>
                  <a:pt x="69" y="14"/>
                  <a:pt x="68" y="14"/>
                </a:cubicBezTo>
                <a:cubicBezTo>
                  <a:pt x="67" y="14"/>
                  <a:pt x="67" y="13"/>
                  <a:pt x="66" y="13"/>
                </a:cubicBezTo>
                <a:cubicBezTo>
                  <a:pt x="65" y="13"/>
                  <a:pt x="66" y="12"/>
                  <a:pt x="66" y="12"/>
                </a:cubicBezTo>
                <a:cubicBezTo>
                  <a:pt x="66" y="12"/>
                  <a:pt x="65" y="11"/>
                  <a:pt x="65" y="10"/>
                </a:cubicBezTo>
                <a:cubicBezTo>
                  <a:pt x="65" y="10"/>
                  <a:pt x="64" y="10"/>
                  <a:pt x="64" y="10"/>
                </a:cubicBezTo>
                <a:cubicBezTo>
                  <a:pt x="63" y="10"/>
                  <a:pt x="63" y="10"/>
                  <a:pt x="63" y="10"/>
                </a:cubicBezTo>
                <a:cubicBezTo>
                  <a:pt x="62" y="11"/>
                  <a:pt x="62" y="11"/>
                  <a:pt x="62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8"/>
                  <a:pt x="59" y="8"/>
                  <a:pt x="59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56" y="7"/>
                  <a:pt x="56" y="7"/>
                  <a:pt x="56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7"/>
                  <a:pt x="55" y="7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3" y="5"/>
                  <a:pt x="52" y="6"/>
                  <a:pt x="52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49" y="7"/>
                </a:cubicBezTo>
                <a:cubicBezTo>
                  <a:pt x="49" y="7"/>
                  <a:pt x="48" y="7"/>
                  <a:pt x="48" y="8"/>
                </a:cubicBezTo>
                <a:cubicBezTo>
                  <a:pt x="48" y="8"/>
                  <a:pt x="47" y="8"/>
                  <a:pt x="47" y="7"/>
                </a:cubicBezTo>
                <a:cubicBezTo>
                  <a:pt x="47" y="6"/>
                  <a:pt x="47" y="6"/>
                  <a:pt x="47" y="6"/>
                </a:cubicBezTo>
                <a:cubicBezTo>
                  <a:pt x="47" y="5"/>
                  <a:pt x="46" y="5"/>
                  <a:pt x="46" y="3"/>
                </a:cubicBezTo>
                <a:cubicBezTo>
                  <a:pt x="46" y="3"/>
                  <a:pt x="44" y="3"/>
                  <a:pt x="43" y="3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351"/>
          <p:cNvSpPr/>
          <p:nvPr/>
        </p:nvSpPr>
        <p:spPr>
          <a:xfrm>
            <a:off x="3089160" y="3521160"/>
            <a:ext cx="792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1082"/>
          <p:cNvSpPr/>
          <p:nvPr/>
        </p:nvSpPr>
        <p:spPr>
          <a:xfrm>
            <a:off x="2554200" y="2448000"/>
            <a:ext cx="692280" cy="585720"/>
          </a:xfrm>
          <a:custGeom>
            <a:avLst/>
            <a:gdLst/>
            <a:ahLst/>
            <a:rect l="l" t="t" r="r" b="b"/>
            <a:pathLst>
              <a:path w="105" h="89">
                <a:moveTo>
                  <a:pt x="97" y="69"/>
                </a:moveTo>
                <a:cubicBezTo>
                  <a:pt x="97" y="72"/>
                  <a:pt x="97" y="75"/>
                  <a:pt x="98" y="78"/>
                </a:cubicBezTo>
                <a:cubicBezTo>
                  <a:pt x="99" y="78"/>
                  <a:pt x="101" y="78"/>
                  <a:pt x="104" y="79"/>
                </a:cubicBezTo>
                <a:cubicBezTo>
                  <a:pt x="104" y="78"/>
                  <a:pt x="104" y="78"/>
                  <a:pt x="104" y="77"/>
                </a:cubicBezTo>
                <a:cubicBezTo>
                  <a:pt x="105" y="77"/>
                  <a:pt x="105" y="76"/>
                  <a:pt x="105" y="75"/>
                </a:cubicBezTo>
                <a:cubicBezTo>
                  <a:pt x="103" y="73"/>
                  <a:pt x="100" y="71"/>
                  <a:pt x="97" y="69"/>
                </a:cubicBezTo>
                <a:moveTo>
                  <a:pt x="48" y="0"/>
                </a:moveTo>
                <a:cubicBezTo>
                  <a:pt x="29" y="8"/>
                  <a:pt x="0" y="23"/>
                  <a:pt x="25" y="51"/>
                </a:cubicBezTo>
                <a:cubicBezTo>
                  <a:pt x="41" y="69"/>
                  <a:pt x="70" y="79"/>
                  <a:pt x="92" y="87"/>
                </a:cubicBezTo>
                <a:cubicBezTo>
                  <a:pt x="95" y="88"/>
                  <a:pt x="97" y="88"/>
                  <a:pt x="99" y="89"/>
                </a:cubicBezTo>
                <a:cubicBezTo>
                  <a:pt x="99" y="89"/>
                  <a:pt x="99" y="89"/>
                  <a:pt x="99" y="89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99" y="83"/>
                  <a:pt x="98" y="82"/>
                  <a:pt x="98" y="82"/>
                </a:cubicBezTo>
                <a:cubicBezTo>
                  <a:pt x="98" y="82"/>
                  <a:pt x="99" y="83"/>
                  <a:pt x="100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0" y="79"/>
                  <a:pt x="99" y="79"/>
                  <a:pt x="99" y="79"/>
                </a:cubicBezTo>
                <a:cubicBezTo>
                  <a:pt x="99" y="79"/>
                  <a:pt x="100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99" y="78"/>
                  <a:pt x="98" y="78"/>
                  <a:pt x="98" y="78"/>
                </a:cubicBezTo>
                <a:cubicBezTo>
                  <a:pt x="98" y="78"/>
                  <a:pt x="98" y="78"/>
                  <a:pt x="98" y="79"/>
                </a:cubicBezTo>
                <a:cubicBezTo>
                  <a:pt x="93" y="77"/>
                  <a:pt x="87" y="73"/>
                  <a:pt x="83" y="70"/>
                </a:cubicBezTo>
                <a:cubicBezTo>
                  <a:pt x="83" y="71"/>
                  <a:pt x="84" y="72"/>
                  <a:pt x="84" y="73"/>
                </a:cubicBezTo>
                <a:cubicBezTo>
                  <a:pt x="82" y="72"/>
                  <a:pt x="78" y="70"/>
                  <a:pt x="76" y="69"/>
                </a:cubicBezTo>
                <a:cubicBezTo>
                  <a:pt x="77" y="71"/>
                  <a:pt x="76" y="72"/>
                  <a:pt x="76" y="74"/>
                </a:cubicBezTo>
                <a:cubicBezTo>
                  <a:pt x="58" y="68"/>
                  <a:pt x="27" y="51"/>
                  <a:pt x="21" y="35"/>
                </a:cubicBezTo>
                <a:cubicBezTo>
                  <a:pt x="13" y="13"/>
                  <a:pt x="41" y="13"/>
                  <a:pt x="48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1120"/>
          <p:cNvSpPr/>
          <p:nvPr/>
        </p:nvSpPr>
        <p:spPr>
          <a:xfrm>
            <a:off x="3063960" y="4035600"/>
            <a:ext cx="25200" cy="187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3"/>
                  <a:pt x="4" y="2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任意多边形 29"/>
          <p:cNvSpPr/>
          <p:nvPr/>
        </p:nvSpPr>
        <p:spPr>
          <a:xfrm>
            <a:off x="1562040" y="3898800"/>
            <a:ext cx="1416240" cy="814320"/>
          </a:xfrm>
          <a:custGeom>
            <a:avLst/>
            <a:gdLst/>
            <a:ahLst/>
            <a:rect l="l" t="t" r="r" b="b"/>
            <a:pathLst>
              <a:path w="808038" h="465148">
                <a:moveTo>
                  <a:pt x="472836" y="449620"/>
                </a:moveTo>
                <a:lnTo>
                  <a:pt x="473086" y="450141"/>
                </a:lnTo>
                <a:cubicBezTo>
                  <a:pt x="475733" y="455968"/>
                  <a:pt x="478321" y="461382"/>
                  <a:pt x="481144" y="465148"/>
                </a:cubicBezTo>
                <a:cubicBezTo>
                  <a:pt x="473616" y="461382"/>
                  <a:pt x="473616" y="457615"/>
                  <a:pt x="469852" y="450083"/>
                </a:cubicBezTo>
                <a:lnTo>
                  <a:pt x="472836" y="449620"/>
                </a:lnTo>
                <a:close/>
                <a:moveTo>
                  <a:pt x="623888" y="300047"/>
                </a:moveTo>
                <a:lnTo>
                  <a:pt x="590551" y="314335"/>
                </a:lnTo>
                <a:lnTo>
                  <a:pt x="544513" y="322272"/>
                </a:lnTo>
                <a:lnTo>
                  <a:pt x="623888" y="300047"/>
                </a:lnTo>
                <a:close/>
                <a:moveTo>
                  <a:pt x="554931" y="279658"/>
                </a:moveTo>
                <a:cubicBezTo>
                  <a:pt x="562570" y="278617"/>
                  <a:pt x="570442" y="278617"/>
                  <a:pt x="577850" y="280469"/>
                </a:cubicBezTo>
                <a:cubicBezTo>
                  <a:pt x="511175" y="295285"/>
                  <a:pt x="511175" y="295285"/>
                  <a:pt x="511175" y="295285"/>
                </a:cubicBezTo>
                <a:cubicBezTo>
                  <a:pt x="511175" y="295285"/>
                  <a:pt x="532011" y="282784"/>
                  <a:pt x="554931" y="279658"/>
                </a:cubicBezTo>
                <a:close/>
                <a:moveTo>
                  <a:pt x="804863" y="273060"/>
                </a:moveTo>
                <a:cubicBezTo>
                  <a:pt x="748401" y="310725"/>
                  <a:pt x="684410" y="333323"/>
                  <a:pt x="627947" y="370987"/>
                </a:cubicBezTo>
                <a:cubicBezTo>
                  <a:pt x="594069" y="393586"/>
                  <a:pt x="553840" y="428896"/>
                  <a:pt x="512022" y="443550"/>
                </a:cubicBezTo>
                <a:lnTo>
                  <a:pt x="472836" y="449620"/>
                </a:lnTo>
                <a:lnTo>
                  <a:pt x="464676" y="432663"/>
                </a:lnTo>
                <a:cubicBezTo>
                  <a:pt x="458559" y="421834"/>
                  <a:pt x="451031" y="414302"/>
                  <a:pt x="439738" y="419951"/>
                </a:cubicBezTo>
                <a:cubicBezTo>
                  <a:pt x="443502" y="416185"/>
                  <a:pt x="447266" y="416185"/>
                  <a:pt x="454795" y="416185"/>
                </a:cubicBezTo>
                <a:lnTo>
                  <a:pt x="503729" y="401119"/>
                </a:lnTo>
                <a:cubicBezTo>
                  <a:pt x="601598" y="355922"/>
                  <a:pt x="703230" y="310725"/>
                  <a:pt x="804863" y="273060"/>
                </a:cubicBezTo>
                <a:close/>
                <a:moveTo>
                  <a:pt x="500063" y="198447"/>
                </a:moveTo>
                <a:cubicBezTo>
                  <a:pt x="500063" y="198447"/>
                  <a:pt x="477504" y="209758"/>
                  <a:pt x="469984" y="213528"/>
                </a:cubicBezTo>
                <a:cubicBezTo>
                  <a:pt x="469984" y="213528"/>
                  <a:pt x="469984" y="213528"/>
                  <a:pt x="454945" y="217299"/>
                </a:cubicBezTo>
                <a:cubicBezTo>
                  <a:pt x="454945" y="217299"/>
                  <a:pt x="454945" y="217299"/>
                  <a:pt x="436145" y="221069"/>
                </a:cubicBezTo>
                <a:cubicBezTo>
                  <a:pt x="436145" y="221069"/>
                  <a:pt x="436145" y="221069"/>
                  <a:pt x="421106" y="221069"/>
                </a:cubicBezTo>
                <a:cubicBezTo>
                  <a:pt x="421106" y="221069"/>
                  <a:pt x="421106" y="221069"/>
                  <a:pt x="406066" y="224839"/>
                </a:cubicBezTo>
                <a:cubicBezTo>
                  <a:pt x="406066" y="224839"/>
                  <a:pt x="406066" y="224839"/>
                  <a:pt x="379747" y="232380"/>
                </a:cubicBezTo>
                <a:cubicBezTo>
                  <a:pt x="379747" y="232380"/>
                  <a:pt x="379747" y="232380"/>
                  <a:pt x="338388" y="239921"/>
                </a:cubicBezTo>
                <a:cubicBezTo>
                  <a:pt x="338388" y="239921"/>
                  <a:pt x="338388" y="239921"/>
                  <a:pt x="319589" y="243691"/>
                </a:cubicBezTo>
                <a:cubicBezTo>
                  <a:pt x="319589" y="243691"/>
                  <a:pt x="270711" y="251231"/>
                  <a:pt x="259431" y="255002"/>
                </a:cubicBezTo>
                <a:cubicBezTo>
                  <a:pt x="251911" y="258772"/>
                  <a:pt x="244392" y="255002"/>
                  <a:pt x="244392" y="255002"/>
                </a:cubicBezTo>
                <a:cubicBezTo>
                  <a:pt x="244392" y="255002"/>
                  <a:pt x="229352" y="251231"/>
                  <a:pt x="225592" y="255002"/>
                </a:cubicBezTo>
                <a:cubicBezTo>
                  <a:pt x="221832" y="255002"/>
                  <a:pt x="214313" y="255002"/>
                  <a:pt x="206793" y="258772"/>
                </a:cubicBezTo>
                <a:cubicBezTo>
                  <a:pt x="199273" y="258772"/>
                  <a:pt x="187993" y="258772"/>
                  <a:pt x="180474" y="262542"/>
                </a:cubicBezTo>
                <a:cubicBezTo>
                  <a:pt x="169194" y="266313"/>
                  <a:pt x="146635" y="266313"/>
                  <a:pt x="146635" y="266313"/>
                </a:cubicBezTo>
                <a:cubicBezTo>
                  <a:pt x="146635" y="266313"/>
                  <a:pt x="146635" y="266313"/>
                  <a:pt x="120316" y="270083"/>
                </a:cubicBezTo>
                <a:cubicBezTo>
                  <a:pt x="120316" y="270083"/>
                  <a:pt x="45118" y="285165"/>
                  <a:pt x="41358" y="285165"/>
                </a:cubicBezTo>
                <a:cubicBezTo>
                  <a:pt x="33839" y="288935"/>
                  <a:pt x="26319" y="288935"/>
                  <a:pt x="26319" y="288935"/>
                </a:cubicBezTo>
                <a:cubicBezTo>
                  <a:pt x="26319" y="288935"/>
                  <a:pt x="18799" y="288935"/>
                  <a:pt x="11279" y="288935"/>
                </a:cubicBezTo>
                <a:cubicBezTo>
                  <a:pt x="11279" y="288935"/>
                  <a:pt x="11279" y="288935"/>
                  <a:pt x="0" y="288935"/>
                </a:cubicBezTo>
                <a:cubicBezTo>
                  <a:pt x="0" y="288935"/>
                  <a:pt x="0" y="288935"/>
                  <a:pt x="15039" y="277624"/>
                </a:cubicBezTo>
                <a:cubicBezTo>
                  <a:pt x="18799" y="270083"/>
                  <a:pt x="37599" y="281395"/>
                  <a:pt x="37599" y="281395"/>
                </a:cubicBezTo>
                <a:cubicBezTo>
                  <a:pt x="37599" y="281395"/>
                  <a:pt x="37599" y="281395"/>
                  <a:pt x="116556" y="266313"/>
                </a:cubicBezTo>
                <a:cubicBezTo>
                  <a:pt x="116556" y="266313"/>
                  <a:pt x="116556" y="266313"/>
                  <a:pt x="244392" y="243691"/>
                </a:cubicBezTo>
                <a:cubicBezTo>
                  <a:pt x="244392" y="243691"/>
                  <a:pt x="244392" y="243691"/>
                  <a:pt x="297030" y="243691"/>
                </a:cubicBezTo>
                <a:cubicBezTo>
                  <a:pt x="297030" y="243691"/>
                  <a:pt x="297030" y="243691"/>
                  <a:pt x="327109" y="239921"/>
                </a:cubicBezTo>
                <a:cubicBezTo>
                  <a:pt x="327109" y="239921"/>
                  <a:pt x="327109" y="239921"/>
                  <a:pt x="372227" y="221069"/>
                </a:cubicBezTo>
                <a:cubicBezTo>
                  <a:pt x="372227" y="221069"/>
                  <a:pt x="372227" y="221069"/>
                  <a:pt x="402306" y="209758"/>
                </a:cubicBezTo>
                <a:cubicBezTo>
                  <a:pt x="402306" y="209758"/>
                  <a:pt x="402306" y="209758"/>
                  <a:pt x="436145" y="205988"/>
                </a:cubicBezTo>
                <a:cubicBezTo>
                  <a:pt x="436145" y="205988"/>
                  <a:pt x="436145" y="205988"/>
                  <a:pt x="500063" y="198447"/>
                </a:cubicBezTo>
                <a:close/>
                <a:moveTo>
                  <a:pt x="673100" y="176222"/>
                </a:moveTo>
                <a:cubicBezTo>
                  <a:pt x="673100" y="176222"/>
                  <a:pt x="673100" y="176222"/>
                  <a:pt x="638810" y="183631"/>
                </a:cubicBezTo>
                <a:cubicBezTo>
                  <a:pt x="638810" y="183631"/>
                  <a:pt x="638810" y="183631"/>
                  <a:pt x="619760" y="187335"/>
                </a:cubicBezTo>
                <a:cubicBezTo>
                  <a:pt x="619760" y="187335"/>
                  <a:pt x="596900" y="187335"/>
                  <a:pt x="600710" y="179926"/>
                </a:cubicBezTo>
                <a:lnTo>
                  <a:pt x="673100" y="176222"/>
                </a:lnTo>
                <a:close/>
                <a:moveTo>
                  <a:pt x="762454" y="127010"/>
                </a:moveTo>
                <a:cubicBezTo>
                  <a:pt x="770165" y="127010"/>
                  <a:pt x="777876" y="134418"/>
                  <a:pt x="777876" y="134418"/>
                </a:cubicBezTo>
                <a:cubicBezTo>
                  <a:pt x="777876" y="134418"/>
                  <a:pt x="754744" y="149235"/>
                  <a:pt x="750888" y="134418"/>
                </a:cubicBezTo>
                <a:cubicBezTo>
                  <a:pt x="762454" y="127010"/>
                  <a:pt x="762454" y="127010"/>
                  <a:pt x="762454" y="127010"/>
                </a:cubicBezTo>
                <a:close/>
                <a:moveTo>
                  <a:pt x="327437" y="113979"/>
                </a:moveTo>
                <a:cubicBezTo>
                  <a:pt x="341548" y="114442"/>
                  <a:pt x="356600" y="117220"/>
                  <a:pt x="360363" y="126481"/>
                </a:cubicBezTo>
                <a:cubicBezTo>
                  <a:pt x="288867" y="130185"/>
                  <a:pt x="288867" y="130185"/>
                  <a:pt x="288867" y="130185"/>
                </a:cubicBezTo>
                <a:cubicBezTo>
                  <a:pt x="288867" y="130185"/>
                  <a:pt x="270052" y="141298"/>
                  <a:pt x="262526" y="130185"/>
                </a:cubicBezTo>
                <a:cubicBezTo>
                  <a:pt x="262526" y="130185"/>
                  <a:pt x="258763" y="115368"/>
                  <a:pt x="273815" y="119073"/>
                </a:cubicBezTo>
                <a:cubicBezTo>
                  <a:pt x="300155" y="115368"/>
                  <a:pt x="300155" y="115368"/>
                  <a:pt x="300155" y="115368"/>
                </a:cubicBezTo>
                <a:cubicBezTo>
                  <a:pt x="300155" y="115368"/>
                  <a:pt x="313326" y="113516"/>
                  <a:pt x="327437" y="113979"/>
                </a:cubicBezTo>
                <a:close/>
                <a:moveTo>
                  <a:pt x="782109" y="65732"/>
                </a:moveTo>
                <a:cubicBezTo>
                  <a:pt x="785813" y="61922"/>
                  <a:pt x="808038" y="69542"/>
                  <a:pt x="808038" y="69542"/>
                </a:cubicBezTo>
                <a:lnTo>
                  <a:pt x="789517" y="80972"/>
                </a:lnTo>
                <a:cubicBezTo>
                  <a:pt x="789517" y="80972"/>
                  <a:pt x="789517" y="80972"/>
                  <a:pt x="778404" y="80972"/>
                </a:cubicBezTo>
                <a:cubicBezTo>
                  <a:pt x="778404" y="80972"/>
                  <a:pt x="774700" y="69542"/>
                  <a:pt x="782109" y="65732"/>
                </a:cubicBezTo>
                <a:close/>
                <a:moveTo>
                  <a:pt x="508496" y="535"/>
                </a:moveTo>
                <a:cubicBezTo>
                  <a:pt x="514152" y="-901"/>
                  <a:pt x="521692" y="57"/>
                  <a:pt x="529233" y="9628"/>
                </a:cubicBezTo>
                <a:cubicBezTo>
                  <a:pt x="566936" y="13457"/>
                  <a:pt x="566936" y="13457"/>
                  <a:pt x="566936" y="13457"/>
                </a:cubicBezTo>
                <a:cubicBezTo>
                  <a:pt x="619721" y="24943"/>
                  <a:pt x="619721" y="24943"/>
                  <a:pt x="619721" y="24943"/>
                </a:cubicBezTo>
                <a:cubicBezTo>
                  <a:pt x="661194" y="40258"/>
                  <a:pt x="661194" y="40258"/>
                  <a:pt x="661194" y="40258"/>
                </a:cubicBezTo>
                <a:lnTo>
                  <a:pt x="706438" y="40258"/>
                </a:lnTo>
                <a:cubicBezTo>
                  <a:pt x="706438" y="40258"/>
                  <a:pt x="683816" y="55573"/>
                  <a:pt x="661194" y="47915"/>
                </a:cubicBezTo>
                <a:cubicBezTo>
                  <a:pt x="631032" y="36429"/>
                  <a:pt x="631032" y="36429"/>
                  <a:pt x="631032" y="36429"/>
                </a:cubicBezTo>
                <a:cubicBezTo>
                  <a:pt x="585788" y="24943"/>
                  <a:pt x="585788" y="24943"/>
                  <a:pt x="585788" y="24943"/>
                </a:cubicBezTo>
                <a:cubicBezTo>
                  <a:pt x="540544" y="21115"/>
                  <a:pt x="540544" y="21115"/>
                  <a:pt x="540544" y="21115"/>
                </a:cubicBezTo>
                <a:cubicBezTo>
                  <a:pt x="540544" y="21115"/>
                  <a:pt x="495300" y="24943"/>
                  <a:pt x="499070" y="5800"/>
                </a:cubicBezTo>
                <a:cubicBezTo>
                  <a:pt x="499070" y="5800"/>
                  <a:pt x="502841" y="1971"/>
                  <a:pt x="508496" y="53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546-1626-4DCA-9186-1215A51F2E8B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35E6-D16A-4D18-AF97-38F4AA0FA61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直接连接符 7"/>
          <p:cNvSpPr/>
          <p:nvPr/>
        </p:nvSpPr>
        <p:spPr>
          <a:xfrm>
            <a:off x="1184400" y="4979880"/>
            <a:ext cx="6825960" cy="0"/>
          </a:xfrm>
          <a:prstGeom prst="line">
            <a:avLst/>
          </a:prstGeom>
          <a:ln w="38160">
            <a:solidFill>
              <a:srgbClr val="fad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4A83-4125-4067-A5B2-1BB82B2BFF9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9D7F-D501-4CA8-B298-8D75175B18A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" descr=""/>
          <p:cNvPicPr/>
          <p:nvPr/>
        </p:nvPicPr>
        <p:blipFill>
          <a:blip r:embed="rId2"/>
          <a:srcRect l="13509" t="1450" r="48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6217-7401-4C84-A2AD-2DF86949E73A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28A2-CFB8-46CA-B406-E4C7445B6AE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任意多边形 65"/>
          <p:cNvSpPr/>
          <p:nvPr/>
        </p:nvSpPr>
        <p:spPr>
          <a:xfrm>
            <a:off x="2962440" y="414360"/>
            <a:ext cx="4755960" cy="5167440"/>
          </a:xfrm>
          <a:custGeom>
            <a:avLst/>
            <a:gdLst/>
            <a:ahLst/>
            <a:rect l="l" t="t" r="r" b="b"/>
            <a:pathLst>
              <a:path w="4757024" h="5166475">
                <a:moveTo>
                  <a:pt x="3800615" y="3920919"/>
                </a:moveTo>
                <a:cubicBezTo>
                  <a:pt x="3978552" y="3927407"/>
                  <a:pt x="3978552" y="3927407"/>
                  <a:pt x="3978552" y="3927407"/>
                </a:cubicBezTo>
                <a:cubicBezTo>
                  <a:pt x="3978552" y="3927407"/>
                  <a:pt x="3866518" y="3959843"/>
                  <a:pt x="3800615" y="3920919"/>
                </a:cubicBezTo>
                <a:close/>
                <a:moveTo>
                  <a:pt x="3505907" y="3901458"/>
                </a:moveTo>
                <a:cubicBezTo>
                  <a:pt x="3505907" y="3901458"/>
                  <a:pt x="3578340" y="3908033"/>
                  <a:pt x="3598095" y="3914607"/>
                </a:cubicBezTo>
                <a:cubicBezTo>
                  <a:pt x="3598095" y="3914607"/>
                  <a:pt x="3598095" y="3914607"/>
                  <a:pt x="3644189" y="3927756"/>
                </a:cubicBezTo>
                <a:cubicBezTo>
                  <a:pt x="3644189" y="3927756"/>
                  <a:pt x="3644189" y="3927756"/>
                  <a:pt x="3683698" y="3947480"/>
                </a:cubicBezTo>
                <a:cubicBezTo>
                  <a:pt x="3683698" y="3947480"/>
                  <a:pt x="3683698" y="3947480"/>
                  <a:pt x="3716622" y="3973778"/>
                </a:cubicBezTo>
                <a:cubicBezTo>
                  <a:pt x="3716622" y="3973778"/>
                  <a:pt x="3716622" y="3973778"/>
                  <a:pt x="3756131" y="3986927"/>
                </a:cubicBezTo>
                <a:cubicBezTo>
                  <a:pt x="3756131" y="3986927"/>
                  <a:pt x="3756131" y="3986927"/>
                  <a:pt x="3828564" y="4006650"/>
                </a:cubicBezTo>
                <a:cubicBezTo>
                  <a:pt x="3828564" y="4006650"/>
                  <a:pt x="3828564" y="4006650"/>
                  <a:pt x="3933921" y="4052672"/>
                </a:cubicBezTo>
                <a:cubicBezTo>
                  <a:pt x="3933921" y="4052672"/>
                  <a:pt x="3933921" y="4052672"/>
                  <a:pt x="3980015" y="4065821"/>
                </a:cubicBezTo>
                <a:cubicBezTo>
                  <a:pt x="3980015" y="4065821"/>
                  <a:pt x="4105126" y="4131566"/>
                  <a:pt x="4124881" y="4138140"/>
                </a:cubicBezTo>
                <a:cubicBezTo>
                  <a:pt x="4151220" y="4144715"/>
                  <a:pt x="4157805" y="4164438"/>
                  <a:pt x="4157805" y="4164438"/>
                </a:cubicBezTo>
                <a:cubicBezTo>
                  <a:pt x="4157805" y="4164438"/>
                  <a:pt x="4190729" y="4184162"/>
                  <a:pt x="4203899" y="4190736"/>
                </a:cubicBezTo>
                <a:cubicBezTo>
                  <a:pt x="4217068" y="4197311"/>
                  <a:pt x="4236823" y="4203886"/>
                  <a:pt x="4256577" y="4210460"/>
                </a:cubicBezTo>
                <a:cubicBezTo>
                  <a:pt x="4276332" y="4223609"/>
                  <a:pt x="4296086" y="4236758"/>
                  <a:pt x="4315841" y="4243333"/>
                </a:cubicBezTo>
                <a:cubicBezTo>
                  <a:pt x="4342180" y="4249907"/>
                  <a:pt x="4401444" y="4276205"/>
                  <a:pt x="4401444" y="4276205"/>
                </a:cubicBezTo>
                <a:cubicBezTo>
                  <a:pt x="4401444" y="4276205"/>
                  <a:pt x="4401444" y="4276205"/>
                  <a:pt x="4467292" y="4309078"/>
                </a:cubicBezTo>
                <a:cubicBezTo>
                  <a:pt x="4467292" y="4309078"/>
                  <a:pt x="4658252" y="4394546"/>
                  <a:pt x="4671421" y="4394546"/>
                </a:cubicBezTo>
                <a:cubicBezTo>
                  <a:pt x="4684591" y="4394546"/>
                  <a:pt x="4704346" y="4414270"/>
                  <a:pt x="4704346" y="4414270"/>
                </a:cubicBezTo>
                <a:cubicBezTo>
                  <a:pt x="4704346" y="4414270"/>
                  <a:pt x="4717515" y="4420844"/>
                  <a:pt x="4737270" y="4433993"/>
                </a:cubicBezTo>
                <a:cubicBezTo>
                  <a:pt x="4737270" y="4433993"/>
                  <a:pt x="4737270" y="4433993"/>
                  <a:pt x="4757024" y="4453717"/>
                </a:cubicBezTo>
                <a:cubicBezTo>
                  <a:pt x="4757024" y="4453717"/>
                  <a:pt x="4757024" y="4453717"/>
                  <a:pt x="4717515" y="4453717"/>
                </a:cubicBezTo>
                <a:cubicBezTo>
                  <a:pt x="4691176" y="4460291"/>
                  <a:pt x="4664837" y="4414270"/>
                  <a:pt x="4664837" y="4414270"/>
                </a:cubicBezTo>
                <a:cubicBezTo>
                  <a:pt x="4664837" y="4414270"/>
                  <a:pt x="4664837" y="4414270"/>
                  <a:pt x="4467292" y="4328801"/>
                </a:cubicBezTo>
                <a:cubicBezTo>
                  <a:pt x="4467292" y="4328801"/>
                  <a:pt x="4467292" y="4328801"/>
                  <a:pt x="4151220" y="4190736"/>
                </a:cubicBezTo>
                <a:cubicBezTo>
                  <a:pt x="4151220" y="4190736"/>
                  <a:pt x="4151220" y="4190736"/>
                  <a:pt x="4032693" y="4105268"/>
                </a:cubicBezTo>
                <a:cubicBezTo>
                  <a:pt x="4032693" y="4105268"/>
                  <a:pt x="4032693" y="4105268"/>
                  <a:pt x="3953675" y="4072395"/>
                </a:cubicBezTo>
                <a:cubicBezTo>
                  <a:pt x="3953675" y="4072395"/>
                  <a:pt x="3953675" y="4072395"/>
                  <a:pt x="3828564" y="4046097"/>
                </a:cubicBezTo>
                <a:cubicBezTo>
                  <a:pt x="3828564" y="4046097"/>
                  <a:pt x="3828564" y="4046097"/>
                  <a:pt x="3742961" y="4026374"/>
                </a:cubicBezTo>
                <a:cubicBezTo>
                  <a:pt x="3742961" y="4026374"/>
                  <a:pt x="3742961" y="4026374"/>
                  <a:pt x="3657358" y="3980352"/>
                </a:cubicBezTo>
                <a:cubicBezTo>
                  <a:pt x="3657358" y="3980352"/>
                  <a:pt x="3657358" y="3980352"/>
                  <a:pt x="3505907" y="3901458"/>
                </a:cubicBezTo>
                <a:close/>
                <a:moveTo>
                  <a:pt x="3795055" y="3815269"/>
                </a:moveTo>
                <a:lnTo>
                  <a:pt x="3920167" y="3840292"/>
                </a:lnTo>
                <a:lnTo>
                  <a:pt x="3697746" y="3829170"/>
                </a:lnTo>
                <a:lnTo>
                  <a:pt x="3795055" y="3815269"/>
                </a:lnTo>
                <a:close/>
                <a:moveTo>
                  <a:pt x="4425720" y="1620817"/>
                </a:moveTo>
                <a:cubicBezTo>
                  <a:pt x="4481777" y="1618505"/>
                  <a:pt x="4548787" y="1627756"/>
                  <a:pt x="4507550" y="1693542"/>
                </a:cubicBezTo>
                <a:cubicBezTo>
                  <a:pt x="4349199" y="1746171"/>
                  <a:pt x="4349199" y="1746171"/>
                  <a:pt x="4349199" y="1746171"/>
                </a:cubicBezTo>
                <a:cubicBezTo>
                  <a:pt x="4250230" y="1746171"/>
                  <a:pt x="4250230" y="1746171"/>
                  <a:pt x="4250230" y="1746171"/>
                </a:cubicBezTo>
                <a:cubicBezTo>
                  <a:pt x="3973117" y="1864587"/>
                  <a:pt x="3973117" y="1864587"/>
                  <a:pt x="3973117" y="1864587"/>
                </a:cubicBezTo>
                <a:lnTo>
                  <a:pt x="3247344" y="2055367"/>
                </a:lnTo>
                <a:cubicBezTo>
                  <a:pt x="3379303" y="2015895"/>
                  <a:pt x="3379303" y="2015895"/>
                  <a:pt x="3379303" y="2015895"/>
                </a:cubicBezTo>
                <a:cubicBezTo>
                  <a:pt x="3913736" y="1838272"/>
                  <a:pt x="3913736" y="1838272"/>
                  <a:pt x="3913736" y="1838272"/>
                </a:cubicBezTo>
                <a:cubicBezTo>
                  <a:pt x="4091880" y="1759329"/>
                  <a:pt x="4091880" y="1759329"/>
                  <a:pt x="4091880" y="1759329"/>
                </a:cubicBezTo>
                <a:cubicBezTo>
                  <a:pt x="4091880" y="1759329"/>
                  <a:pt x="4303014" y="1634335"/>
                  <a:pt x="4362395" y="1627756"/>
                </a:cubicBezTo>
                <a:cubicBezTo>
                  <a:pt x="4362395" y="1627756"/>
                  <a:pt x="4392086" y="1622205"/>
                  <a:pt x="4425720" y="1620817"/>
                </a:cubicBezTo>
                <a:close/>
                <a:moveTo>
                  <a:pt x="2833481" y="1554921"/>
                </a:moveTo>
                <a:cubicBezTo>
                  <a:pt x="2833481" y="1554921"/>
                  <a:pt x="2846986" y="1568425"/>
                  <a:pt x="2840234" y="1581930"/>
                </a:cubicBezTo>
                <a:cubicBezTo>
                  <a:pt x="2826729" y="1595434"/>
                  <a:pt x="2799721" y="1602186"/>
                  <a:pt x="2799721" y="1602186"/>
                </a:cubicBezTo>
                <a:lnTo>
                  <a:pt x="2813225" y="1568425"/>
                </a:lnTo>
                <a:cubicBezTo>
                  <a:pt x="2813225" y="1568425"/>
                  <a:pt x="2813225" y="1568425"/>
                  <a:pt x="2833481" y="1554921"/>
                </a:cubicBezTo>
                <a:close/>
                <a:moveTo>
                  <a:pt x="1461755" y="1526595"/>
                </a:moveTo>
                <a:lnTo>
                  <a:pt x="1461715" y="1526922"/>
                </a:lnTo>
                <a:lnTo>
                  <a:pt x="1461549" y="1527110"/>
                </a:lnTo>
                <a:cubicBezTo>
                  <a:pt x="1453516" y="1537303"/>
                  <a:pt x="1446924" y="1547187"/>
                  <a:pt x="1443628" y="1555424"/>
                </a:cubicBezTo>
                <a:cubicBezTo>
                  <a:pt x="1437036" y="1568603"/>
                  <a:pt x="1443628" y="1555424"/>
                  <a:pt x="1450219" y="1542245"/>
                </a:cubicBezTo>
                <a:cubicBezTo>
                  <a:pt x="1453515" y="1532361"/>
                  <a:pt x="1460107" y="1522477"/>
                  <a:pt x="1461755" y="1526595"/>
                </a:cubicBezTo>
                <a:close/>
                <a:moveTo>
                  <a:pt x="1522730" y="1463171"/>
                </a:moveTo>
                <a:cubicBezTo>
                  <a:pt x="1522730" y="1463171"/>
                  <a:pt x="1588649" y="1463171"/>
                  <a:pt x="1582058" y="1496119"/>
                </a:cubicBezTo>
                <a:cubicBezTo>
                  <a:pt x="1575466" y="1529066"/>
                  <a:pt x="1562282" y="1614730"/>
                  <a:pt x="1562282" y="1614730"/>
                </a:cubicBezTo>
                <a:cubicBezTo>
                  <a:pt x="1582058" y="1674035"/>
                  <a:pt x="1582058" y="1674035"/>
                  <a:pt x="1582058" y="1674035"/>
                </a:cubicBezTo>
                <a:cubicBezTo>
                  <a:pt x="1601833" y="1739931"/>
                  <a:pt x="1601833" y="1739931"/>
                  <a:pt x="1601833" y="1739931"/>
                </a:cubicBezTo>
                <a:cubicBezTo>
                  <a:pt x="1568874" y="1779468"/>
                  <a:pt x="1568874" y="1779468"/>
                  <a:pt x="1568874" y="1779468"/>
                </a:cubicBezTo>
                <a:cubicBezTo>
                  <a:pt x="1549098" y="1851952"/>
                  <a:pt x="1549098" y="1851952"/>
                  <a:pt x="1549098" y="1851952"/>
                </a:cubicBezTo>
                <a:cubicBezTo>
                  <a:pt x="1549098" y="1851952"/>
                  <a:pt x="1601833" y="1917847"/>
                  <a:pt x="1661160" y="1891489"/>
                </a:cubicBezTo>
                <a:cubicBezTo>
                  <a:pt x="1661160" y="1891489"/>
                  <a:pt x="1740263" y="1983742"/>
                  <a:pt x="1812774" y="1911258"/>
                </a:cubicBezTo>
                <a:cubicBezTo>
                  <a:pt x="1812774" y="1911258"/>
                  <a:pt x="1891877" y="1812415"/>
                  <a:pt x="1924837" y="1891489"/>
                </a:cubicBezTo>
                <a:cubicBezTo>
                  <a:pt x="2010532" y="1838773"/>
                  <a:pt x="2010532" y="1838773"/>
                  <a:pt x="2010532" y="1838773"/>
                </a:cubicBezTo>
                <a:cubicBezTo>
                  <a:pt x="2135778" y="1799236"/>
                  <a:pt x="2135778" y="1799236"/>
                  <a:pt x="2135778" y="1799236"/>
                </a:cubicBezTo>
                <a:cubicBezTo>
                  <a:pt x="2135778" y="1799236"/>
                  <a:pt x="2181921" y="1812415"/>
                  <a:pt x="2188513" y="1772878"/>
                </a:cubicBezTo>
                <a:cubicBezTo>
                  <a:pt x="2188513" y="1772878"/>
                  <a:pt x="2155554" y="1700393"/>
                  <a:pt x="2228065" y="1687214"/>
                </a:cubicBezTo>
                <a:cubicBezTo>
                  <a:pt x="2261024" y="1634498"/>
                  <a:pt x="2261024" y="1634498"/>
                  <a:pt x="2261024" y="1634498"/>
                </a:cubicBezTo>
                <a:cubicBezTo>
                  <a:pt x="2261024" y="1634498"/>
                  <a:pt x="2392862" y="1555424"/>
                  <a:pt x="2465373" y="1634498"/>
                </a:cubicBezTo>
                <a:cubicBezTo>
                  <a:pt x="2498333" y="1746520"/>
                  <a:pt x="2498333" y="1746520"/>
                  <a:pt x="2498333" y="1746520"/>
                </a:cubicBezTo>
                <a:cubicBezTo>
                  <a:pt x="2498333" y="1746520"/>
                  <a:pt x="2584028" y="1792647"/>
                  <a:pt x="2518109" y="1838773"/>
                </a:cubicBezTo>
                <a:cubicBezTo>
                  <a:pt x="2491741" y="1898079"/>
                  <a:pt x="2491741" y="1898079"/>
                  <a:pt x="2491741" y="1898079"/>
                </a:cubicBezTo>
                <a:cubicBezTo>
                  <a:pt x="2491741" y="1898079"/>
                  <a:pt x="2544476" y="1957384"/>
                  <a:pt x="2478557" y="2010100"/>
                </a:cubicBezTo>
                <a:cubicBezTo>
                  <a:pt x="2478557" y="2010100"/>
                  <a:pt x="2419230" y="2082585"/>
                  <a:pt x="2491741" y="2082585"/>
                </a:cubicBezTo>
                <a:cubicBezTo>
                  <a:pt x="2524701" y="2148480"/>
                  <a:pt x="2524701" y="2148480"/>
                  <a:pt x="2524701" y="2148480"/>
                </a:cubicBezTo>
                <a:cubicBezTo>
                  <a:pt x="2524701" y="2148480"/>
                  <a:pt x="2577436" y="2188017"/>
                  <a:pt x="2570844" y="2260502"/>
                </a:cubicBezTo>
                <a:cubicBezTo>
                  <a:pt x="2696090" y="2339576"/>
                  <a:pt x="2696090" y="2339576"/>
                  <a:pt x="2696090" y="2339576"/>
                </a:cubicBezTo>
                <a:cubicBezTo>
                  <a:pt x="2788377" y="2379113"/>
                  <a:pt x="2788377" y="2379113"/>
                  <a:pt x="2788377" y="2379113"/>
                </a:cubicBezTo>
                <a:cubicBezTo>
                  <a:pt x="2887256" y="2425239"/>
                  <a:pt x="2887256" y="2425239"/>
                  <a:pt x="2887256" y="2425239"/>
                </a:cubicBezTo>
                <a:cubicBezTo>
                  <a:pt x="2979542" y="2359344"/>
                  <a:pt x="2979542" y="2359344"/>
                  <a:pt x="2979542" y="2359344"/>
                </a:cubicBezTo>
                <a:cubicBezTo>
                  <a:pt x="3085013" y="2326397"/>
                  <a:pt x="3085013" y="2326397"/>
                  <a:pt x="3085013" y="2326397"/>
                </a:cubicBezTo>
                <a:cubicBezTo>
                  <a:pt x="3085013" y="2372523"/>
                  <a:pt x="3085013" y="2372523"/>
                  <a:pt x="3085013" y="2372523"/>
                </a:cubicBezTo>
                <a:cubicBezTo>
                  <a:pt x="3019094" y="2405471"/>
                  <a:pt x="3019094" y="2405471"/>
                  <a:pt x="3019094" y="2405471"/>
                </a:cubicBezTo>
                <a:cubicBezTo>
                  <a:pt x="2966358" y="2471366"/>
                  <a:pt x="2966358" y="2471366"/>
                  <a:pt x="2966358" y="2471366"/>
                </a:cubicBezTo>
                <a:cubicBezTo>
                  <a:pt x="2900439" y="2517493"/>
                  <a:pt x="2900439" y="2517493"/>
                  <a:pt x="2900439" y="2517493"/>
                </a:cubicBezTo>
                <a:cubicBezTo>
                  <a:pt x="2893847" y="2596567"/>
                  <a:pt x="2893847" y="2596567"/>
                  <a:pt x="2893847" y="2596567"/>
                </a:cubicBezTo>
                <a:cubicBezTo>
                  <a:pt x="2900439" y="2616335"/>
                  <a:pt x="2920215" y="2609746"/>
                  <a:pt x="2926807" y="2603156"/>
                </a:cubicBezTo>
                <a:cubicBezTo>
                  <a:pt x="2939991" y="2596567"/>
                  <a:pt x="2939991" y="2589977"/>
                  <a:pt x="2913623" y="2636104"/>
                </a:cubicBezTo>
                <a:cubicBezTo>
                  <a:pt x="2860888" y="2721767"/>
                  <a:pt x="2887256" y="2754715"/>
                  <a:pt x="2887256" y="2754715"/>
                </a:cubicBezTo>
                <a:cubicBezTo>
                  <a:pt x="2880664" y="2807431"/>
                  <a:pt x="2880664" y="2807431"/>
                  <a:pt x="2880664" y="2807431"/>
                </a:cubicBezTo>
                <a:cubicBezTo>
                  <a:pt x="2966358" y="2820610"/>
                  <a:pt x="2966358" y="2820610"/>
                  <a:pt x="2966358" y="2820610"/>
                </a:cubicBezTo>
                <a:cubicBezTo>
                  <a:pt x="2966358" y="2820610"/>
                  <a:pt x="3019094" y="2820610"/>
                  <a:pt x="3005910" y="2886505"/>
                </a:cubicBezTo>
                <a:cubicBezTo>
                  <a:pt x="3012502" y="2965579"/>
                  <a:pt x="3012502" y="2965579"/>
                  <a:pt x="3012502" y="2965579"/>
                </a:cubicBezTo>
                <a:cubicBezTo>
                  <a:pt x="3065237" y="2945811"/>
                  <a:pt x="3065237" y="2945811"/>
                  <a:pt x="3065237" y="2945811"/>
                </a:cubicBezTo>
                <a:cubicBezTo>
                  <a:pt x="3078421" y="3044653"/>
                  <a:pt x="3078421" y="3044653"/>
                  <a:pt x="3078421" y="3044653"/>
                </a:cubicBezTo>
                <a:cubicBezTo>
                  <a:pt x="3078421" y="3044653"/>
                  <a:pt x="3078421" y="3084190"/>
                  <a:pt x="3058645" y="3110548"/>
                </a:cubicBezTo>
                <a:cubicBezTo>
                  <a:pt x="3032277" y="3130317"/>
                  <a:pt x="3032277" y="3130317"/>
                  <a:pt x="3032277" y="3130317"/>
                </a:cubicBezTo>
                <a:cubicBezTo>
                  <a:pt x="3111380" y="3189623"/>
                  <a:pt x="3111380" y="3189623"/>
                  <a:pt x="3111380" y="3189623"/>
                </a:cubicBezTo>
                <a:cubicBezTo>
                  <a:pt x="3157524" y="3262107"/>
                  <a:pt x="3157524" y="3262107"/>
                  <a:pt x="3157524" y="3262107"/>
                </a:cubicBezTo>
                <a:cubicBezTo>
                  <a:pt x="3150932" y="3301644"/>
                  <a:pt x="3131156" y="3341181"/>
                  <a:pt x="3131156" y="3341181"/>
                </a:cubicBezTo>
                <a:cubicBezTo>
                  <a:pt x="3170708" y="3387308"/>
                  <a:pt x="3170708" y="3387308"/>
                  <a:pt x="3170708" y="3387308"/>
                </a:cubicBezTo>
                <a:cubicBezTo>
                  <a:pt x="3164116" y="3492740"/>
                  <a:pt x="3164116" y="3492740"/>
                  <a:pt x="3164116" y="3492740"/>
                </a:cubicBezTo>
                <a:cubicBezTo>
                  <a:pt x="3269586" y="3604762"/>
                  <a:pt x="3269586" y="3604762"/>
                  <a:pt x="3269586" y="3604762"/>
                </a:cubicBezTo>
                <a:cubicBezTo>
                  <a:pt x="3144340" y="3677246"/>
                  <a:pt x="3144340" y="3677246"/>
                  <a:pt x="3144340" y="3677246"/>
                </a:cubicBezTo>
                <a:cubicBezTo>
                  <a:pt x="3104788" y="3716783"/>
                  <a:pt x="3104788" y="3716783"/>
                  <a:pt x="3104788" y="3716783"/>
                </a:cubicBezTo>
                <a:cubicBezTo>
                  <a:pt x="3078421" y="3789268"/>
                  <a:pt x="3078421" y="3789268"/>
                  <a:pt x="3078421" y="3789268"/>
                </a:cubicBezTo>
                <a:cubicBezTo>
                  <a:pt x="3065237" y="3868342"/>
                  <a:pt x="3065237" y="3868342"/>
                  <a:pt x="3065237" y="3868342"/>
                </a:cubicBezTo>
                <a:cubicBezTo>
                  <a:pt x="2986134" y="3901289"/>
                  <a:pt x="2986134" y="3901289"/>
                  <a:pt x="2986134" y="3901289"/>
                </a:cubicBezTo>
                <a:cubicBezTo>
                  <a:pt x="2939991" y="3901289"/>
                  <a:pt x="2939991" y="3901289"/>
                  <a:pt x="2939991" y="3901289"/>
                </a:cubicBezTo>
                <a:cubicBezTo>
                  <a:pt x="2939991" y="3901289"/>
                  <a:pt x="2933399" y="3934237"/>
                  <a:pt x="2926807" y="3960595"/>
                </a:cubicBezTo>
                <a:cubicBezTo>
                  <a:pt x="2920215" y="3986953"/>
                  <a:pt x="2913623" y="4033080"/>
                  <a:pt x="2913623" y="4033080"/>
                </a:cubicBezTo>
                <a:cubicBezTo>
                  <a:pt x="2847704" y="4079206"/>
                  <a:pt x="2847704" y="4079206"/>
                  <a:pt x="2847704" y="4079206"/>
                </a:cubicBezTo>
                <a:cubicBezTo>
                  <a:pt x="2748825" y="4085796"/>
                  <a:pt x="2748825" y="4085796"/>
                  <a:pt x="2748825" y="4085796"/>
                </a:cubicBezTo>
                <a:cubicBezTo>
                  <a:pt x="2748825" y="4085796"/>
                  <a:pt x="2729050" y="4098975"/>
                  <a:pt x="2702682" y="4098975"/>
                </a:cubicBezTo>
                <a:cubicBezTo>
                  <a:pt x="2676314" y="4105564"/>
                  <a:pt x="2656539" y="4164870"/>
                  <a:pt x="2656539" y="4164870"/>
                </a:cubicBezTo>
                <a:cubicBezTo>
                  <a:pt x="2597212" y="4197817"/>
                  <a:pt x="2597212" y="4230765"/>
                  <a:pt x="2610395" y="4257123"/>
                </a:cubicBezTo>
                <a:cubicBezTo>
                  <a:pt x="2623579" y="4283481"/>
                  <a:pt x="2623579" y="4309839"/>
                  <a:pt x="2610395" y="4336197"/>
                </a:cubicBezTo>
                <a:cubicBezTo>
                  <a:pt x="2597212" y="4355966"/>
                  <a:pt x="2630171" y="4388913"/>
                  <a:pt x="2584028" y="4395503"/>
                </a:cubicBezTo>
                <a:cubicBezTo>
                  <a:pt x="2537884" y="4402092"/>
                  <a:pt x="2524701" y="4408682"/>
                  <a:pt x="2498333" y="4415271"/>
                </a:cubicBezTo>
                <a:cubicBezTo>
                  <a:pt x="2471965" y="4415271"/>
                  <a:pt x="2471965" y="4415271"/>
                  <a:pt x="2471965" y="4415271"/>
                </a:cubicBezTo>
                <a:cubicBezTo>
                  <a:pt x="2386271" y="4448219"/>
                  <a:pt x="2386271" y="4448219"/>
                  <a:pt x="2386271" y="4448219"/>
                </a:cubicBezTo>
                <a:cubicBezTo>
                  <a:pt x="2386271" y="4448219"/>
                  <a:pt x="2359903" y="4514114"/>
                  <a:pt x="2412638" y="4566830"/>
                </a:cubicBezTo>
                <a:cubicBezTo>
                  <a:pt x="2478557" y="4639314"/>
                  <a:pt x="2478557" y="4639314"/>
                  <a:pt x="2478557" y="4639314"/>
                </a:cubicBezTo>
                <a:cubicBezTo>
                  <a:pt x="2478557" y="4639314"/>
                  <a:pt x="2544476" y="4678851"/>
                  <a:pt x="2518109" y="4678851"/>
                </a:cubicBezTo>
                <a:cubicBezTo>
                  <a:pt x="2485149" y="4678851"/>
                  <a:pt x="2419230" y="4685441"/>
                  <a:pt x="2419230" y="4685441"/>
                </a:cubicBezTo>
                <a:cubicBezTo>
                  <a:pt x="2392862" y="4626135"/>
                  <a:pt x="2392862" y="4626135"/>
                  <a:pt x="2392862" y="4626135"/>
                </a:cubicBezTo>
                <a:cubicBezTo>
                  <a:pt x="2346719" y="4560240"/>
                  <a:pt x="2346719" y="4560240"/>
                  <a:pt x="2346719" y="4560240"/>
                </a:cubicBezTo>
                <a:cubicBezTo>
                  <a:pt x="2346719" y="4507524"/>
                  <a:pt x="2346719" y="4507524"/>
                  <a:pt x="2346719" y="4507524"/>
                </a:cubicBezTo>
                <a:cubicBezTo>
                  <a:pt x="2300576" y="4454808"/>
                  <a:pt x="2300576" y="4454808"/>
                  <a:pt x="2300576" y="4454808"/>
                </a:cubicBezTo>
                <a:cubicBezTo>
                  <a:pt x="2267616" y="4415271"/>
                  <a:pt x="2267616" y="4415271"/>
                  <a:pt x="2267616" y="4415271"/>
                </a:cubicBezTo>
                <a:cubicBezTo>
                  <a:pt x="2267616" y="4415271"/>
                  <a:pt x="2188513" y="4369145"/>
                  <a:pt x="2181921" y="4402092"/>
                </a:cubicBezTo>
                <a:cubicBezTo>
                  <a:pt x="2168737" y="4421861"/>
                  <a:pt x="2168737" y="4421861"/>
                  <a:pt x="2162145" y="4421861"/>
                </a:cubicBezTo>
                <a:cubicBezTo>
                  <a:pt x="2162145" y="4421861"/>
                  <a:pt x="2162145" y="4421861"/>
                  <a:pt x="2162145" y="4448219"/>
                </a:cubicBezTo>
                <a:cubicBezTo>
                  <a:pt x="2162145" y="4494345"/>
                  <a:pt x="2195105" y="4487756"/>
                  <a:pt x="2162145" y="4494345"/>
                </a:cubicBezTo>
                <a:cubicBezTo>
                  <a:pt x="2122594" y="4507524"/>
                  <a:pt x="2122594" y="4507524"/>
                  <a:pt x="2122594" y="4507524"/>
                </a:cubicBezTo>
                <a:cubicBezTo>
                  <a:pt x="2056675" y="4435040"/>
                  <a:pt x="2056675" y="4435040"/>
                  <a:pt x="2056675" y="4435040"/>
                </a:cubicBezTo>
                <a:cubicBezTo>
                  <a:pt x="2030307" y="4435040"/>
                  <a:pt x="2003940" y="4474577"/>
                  <a:pt x="2003940" y="4474577"/>
                </a:cubicBezTo>
                <a:cubicBezTo>
                  <a:pt x="2003940" y="4474577"/>
                  <a:pt x="1957796" y="4481166"/>
                  <a:pt x="1938021" y="4500935"/>
                </a:cubicBezTo>
                <a:cubicBezTo>
                  <a:pt x="1918245" y="4520703"/>
                  <a:pt x="1918245" y="4520703"/>
                  <a:pt x="1918245" y="4520703"/>
                </a:cubicBezTo>
                <a:cubicBezTo>
                  <a:pt x="1918245" y="4520703"/>
                  <a:pt x="1852326" y="4553651"/>
                  <a:pt x="1839142" y="4573419"/>
                </a:cubicBezTo>
                <a:cubicBezTo>
                  <a:pt x="1825958" y="4599777"/>
                  <a:pt x="1819366" y="4632725"/>
                  <a:pt x="1819366" y="4632725"/>
                </a:cubicBezTo>
                <a:cubicBezTo>
                  <a:pt x="1839142" y="5159886"/>
                  <a:pt x="1839142" y="5159886"/>
                  <a:pt x="1839142" y="5159886"/>
                </a:cubicBezTo>
                <a:cubicBezTo>
                  <a:pt x="1792999" y="5166475"/>
                  <a:pt x="1792999" y="5166475"/>
                  <a:pt x="1792999" y="5166475"/>
                </a:cubicBezTo>
                <a:cubicBezTo>
                  <a:pt x="1792999" y="5074222"/>
                  <a:pt x="1792999" y="5074222"/>
                  <a:pt x="1792999" y="5074222"/>
                </a:cubicBezTo>
                <a:cubicBezTo>
                  <a:pt x="1792999" y="5074222"/>
                  <a:pt x="1766631" y="4988558"/>
                  <a:pt x="1773223" y="4968790"/>
                </a:cubicBezTo>
                <a:cubicBezTo>
                  <a:pt x="1773223" y="4942432"/>
                  <a:pt x="1753447" y="4843589"/>
                  <a:pt x="1753447" y="4843589"/>
                </a:cubicBezTo>
                <a:cubicBezTo>
                  <a:pt x="1773223" y="4738157"/>
                  <a:pt x="1773223" y="4738157"/>
                  <a:pt x="1773223" y="4738157"/>
                </a:cubicBezTo>
                <a:cubicBezTo>
                  <a:pt x="1766631" y="4678851"/>
                  <a:pt x="1766631" y="4678851"/>
                  <a:pt x="1766631" y="4678851"/>
                </a:cubicBezTo>
                <a:cubicBezTo>
                  <a:pt x="1694120" y="4639314"/>
                  <a:pt x="1694120" y="4639314"/>
                  <a:pt x="1694120" y="4639314"/>
                </a:cubicBezTo>
                <a:cubicBezTo>
                  <a:pt x="1694120" y="4639314"/>
                  <a:pt x="1634793" y="4599777"/>
                  <a:pt x="1641385" y="4652493"/>
                </a:cubicBezTo>
                <a:cubicBezTo>
                  <a:pt x="1647977" y="4705210"/>
                  <a:pt x="1628201" y="4738157"/>
                  <a:pt x="1628201" y="4738157"/>
                </a:cubicBezTo>
                <a:cubicBezTo>
                  <a:pt x="1582058" y="4757926"/>
                  <a:pt x="1549098" y="4738157"/>
                  <a:pt x="1562282" y="4711799"/>
                </a:cubicBezTo>
                <a:cubicBezTo>
                  <a:pt x="1575466" y="4692030"/>
                  <a:pt x="1575466" y="4692030"/>
                  <a:pt x="1575466" y="4692030"/>
                </a:cubicBezTo>
                <a:cubicBezTo>
                  <a:pt x="1582058" y="4612956"/>
                  <a:pt x="1582058" y="4612956"/>
                  <a:pt x="1582058" y="4612956"/>
                </a:cubicBezTo>
                <a:cubicBezTo>
                  <a:pt x="1535914" y="4580009"/>
                  <a:pt x="1535914" y="4580009"/>
                  <a:pt x="1535914" y="4580009"/>
                </a:cubicBezTo>
                <a:cubicBezTo>
                  <a:pt x="1535914" y="4580009"/>
                  <a:pt x="1529322" y="4553651"/>
                  <a:pt x="1502955" y="4533882"/>
                </a:cubicBezTo>
                <a:cubicBezTo>
                  <a:pt x="1483179" y="4507524"/>
                  <a:pt x="1483179" y="4507524"/>
                  <a:pt x="1483179" y="4507524"/>
                </a:cubicBezTo>
                <a:cubicBezTo>
                  <a:pt x="1390892" y="4461398"/>
                  <a:pt x="1390892" y="4461398"/>
                  <a:pt x="1390892" y="4461398"/>
                </a:cubicBezTo>
                <a:cubicBezTo>
                  <a:pt x="1390892" y="4461398"/>
                  <a:pt x="1357933" y="4494345"/>
                  <a:pt x="1344749" y="4514114"/>
                </a:cubicBezTo>
                <a:cubicBezTo>
                  <a:pt x="1331565" y="4540472"/>
                  <a:pt x="1285422" y="4553651"/>
                  <a:pt x="1285422" y="4553651"/>
                </a:cubicBezTo>
                <a:cubicBezTo>
                  <a:pt x="1206319" y="4553651"/>
                  <a:pt x="1206319" y="4553651"/>
                  <a:pt x="1206319" y="4553651"/>
                </a:cubicBezTo>
                <a:cubicBezTo>
                  <a:pt x="1160175" y="4527293"/>
                  <a:pt x="1160175" y="4527293"/>
                  <a:pt x="1160175" y="4527293"/>
                </a:cubicBezTo>
                <a:cubicBezTo>
                  <a:pt x="1140400" y="4448219"/>
                  <a:pt x="1140400" y="4448219"/>
                  <a:pt x="1140400" y="4448219"/>
                </a:cubicBezTo>
                <a:cubicBezTo>
                  <a:pt x="1140400" y="4448219"/>
                  <a:pt x="1127216" y="4421861"/>
                  <a:pt x="1100848" y="4402092"/>
                </a:cubicBezTo>
                <a:cubicBezTo>
                  <a:pt x="1081073" y="4375734"/>
                  <a:pt x="988786" y="4316428"/>
                  <a:pt x="988786" y="4316428"/>
                </a:cubicBezTo>
                <a:cubicBezTo>
                  <a:pt x="942643" y="4283481"/>
                  <a:pt x="942643" y="4283481"/>
                  <a:pt x="942643" y="4283481"/>
                </a:cubicBezTo>
                <a:cubicBezTo>
                  <a:pt x="942643" y="4283481"/>
                  <a:pt x="949234" y="4224175"/>
                  <a:pt x="949234" y="4197817"/>
                </a:cubicBezTo>
                <a:cubicBezTo>
                  <a:pt x="949234" y="4184638"/>
                  <a:pt x="955826" y="4184638"/>
                  <a:pt x="962418" y="4184638"/>
                </a:cubicBezTo>
                <a:cubicBezTo>
                  <a:pt x="969010" y="4184638"/>
                  <a:pt x="969010" y="4184638"/>
                  <a:pt x="942643" y="4171459"/>
                </a:cubicBezTo>
                <a:cubicBezTo>
                  <a:pt x="896499" y="4145101"/>
                  <a:pt x="955826" y="4164870"/>
                  <a:pt x="896499" y="4145101"/>
                </a:cubicBezTo>
                <a:cubicBezTo>
                  <a:pt x="837172" y="4125333"/>
                  <a:pt x="771253" y="4118743"/>
                  <a:pt x="804213" y="4079206"/>
                </a:cubicBezTo>
                <a:cubicBezTo>
                  <a:pt x="837172" y="4033080"/>
                  <a:pt x="837172" y="4033080"/>
                  <a:pt x="837172" y="4033080"/>
                </a:cubicBezTo>
                <a:cubicBezTo>
                  <a:pt x="837172" y="4033080"/>
                  <a:pt x="817396" y="3960595"/>
                  <a:pt x="791029" y="3973774"/>
                </a:cubicBezTo>
                <a:cubicBezTo>
                  <a:pt x="777845" y="3973774"/>
                  <a:pt x="771253" y="3973774"/>
                  <a:pt x="764661" y="3967185"/>
                </a:cubicBezTo>
                <a:cubicBezTo>
                  <a:pt x="758069" y="3960595"/>
                  <a:pt x="744885" y="3960595"/>
                  <a:pt x="725110" y="3986953"/>
                </a:cubicBezTo>
                <a:cubicBezTo>
                  <a:pt x="692150" y="4026490"/>
                  <a:pt x="731702" y="4000132"/>
                  <a:pt x="692150" y="4026490"/>
                </a:cubicBezTo>
                <a:cubicBezTo>
                  <a:pt x="646007" y="4052848"/>
                  <a:pt x="619639" y="4039669"/>
                  <a:pt x="619639" y="4039669"/>
                </a:cubicBezTo>
                <a:cubicBezTo>
                  <a:pt x="573496" y="3986953"/>
                  <a:pt x="573496" y="3986953"/>
                  <a:pt x="573496" y="3986953"/>
                </a:cubicBezTo>
                <a:cubicBezTo>
                  <a:pt x="593271" y="3934237"/>
                  <a:pt x="593271" y="3934237"/>
                  <a:pt x="593271" y="3934237"/>
                </a:cubicBezTo>
                <a:cubicBezTo>
                  <a:pt x="553720" y="3881521"/>
                  <a:pt x="566904" y="3848573"/>
                  <a:pt x="533944" y="3841984"/>
                </a:cubicBezTo>
                <a:cubicBezTo>
                  <a:pt x="494393" y="3835394"/>
                  <a:pt x="461433" y="3802447"/>
                  <a:pt x="461433" y="3802447"/>
                </a:cubicBezTo>
                <a:cubicBezTo>
                  <a:pt x="441658" y="3756320"/>
                  <a:pt x="441658" y="3756320"/>
                  <a:pt x="441658" y="3756320"/>
                </a:cubicBezTo>
                <a:cubicBezTo>
                  <a:pt x="441658" y="3756320"/>
                  <a:pt x="408698" y="3631120"/>
                  <a:pt x="375739" y="3637709"/>
                </a:cubicBezTo>
                <a:cubicBezTo>
                  <a:pt x="362555" y="3637709"/>
                  <a:pt x="355963" y="3631120"/>
                  <a:pt x="342779" y="3624530"/>
                </a:cubicBezTo>
                <a:cubicBezTo>
                  <a:pt x="336187" y="3617941"/>
                  <a:pt x="323003" y="3611351"/>
                  <a:pt x="309820" y="3611351"/>
                </a:cubicBezTo>
                <a:cubicBezTo>
                  <a:pt x="283452" y="3617941"/>
                  <a:pt x="204349" y="3611351"/>
                  <a:pt x="204349" y="3611351"/>
                </a:cubicBezTo>
                <a:cubicBezTo>
                  <a:pt x="138430" y="3558635"/>
                  <a:pt x="138430" y="3558635"/>
                  <a:pt x="138430" y="3558635"/>
                </a:cubicBezTo>
                <a:cubicBezTo>
                  <a:pt x="138430" y="3558635"/>
                  <a:pt x="138430" y="3538866"/>
                  <a:pt x="151614" y="3512508"/>
                </a:cubicBezTo>
                <a:cubicBezTo>
                  <a:pt x="164798" y="3492740"/>
                  <a:pt x="164798" y="3492740"/>
                  <a:pt x="164798" y="3492740"/>
                </a:cubicBezTo>
                <a:cubicBezTo>
                  <a:pt x="164798" y="3492740"/>
                  <a:pt x="158206" y="3505919"/>
                  <a:pt x="105470" y="3492740"/>
                </a:cubicBezTo>
                <a:cubicBezTo>
                  <a:pt x="52735" y="3486150"/>
                  <a:pt x="39551" y="3433434"/>
                  <a:pt x="39551" y="3433434"/>
                </a:cubicBezTo>
                <a:cubicBezTo>
                  <a:pt x="39551" y="3433434"/>
                  <a:pt x="59327" y="3400487"/>
                  <a:pt x="39551" y="3360950"/>
                </a:cubicBezTo>
                <a:cubicBezTo>
                  <a:pt x="26368" y="3328002"/>
                  <a:pt x="0" y="3229160"/>
                  <a:pt x="0" y="3229160"/>
                </a:cubicBezTo>
                <a:cubicBezTo>
                  <a:pt x="32959" y="3176444"/>
                  <a:pt x="32959" y="3176444"/>
                  <a:pt x="32959" y="3176444"/>
                </a:cubicBezTo>
                <a:cubicBezTo>
                  <a:pt x="112062" y="3117138"/>
                  <a:pt x="112062" y="3117138"/>
                  <a:pt x="112062" y="3117138"/>
                </a:cubicBezTo>
                <a:cubicBezTo>
                  <a:pt x="145022" y="3071011"/>
                  <a:pt x="158206" y="2978758"/>
                  <a:pt x="158206" y="2978758"/>
                </a:cubicBezTo>
                <a:cubicBezTo>
                  <a:pt x="210941" y="2965579"/>
                  <a:pt x="224125" y="2952400"/>
                  <a:pt x="257084" y="2952400"/>
                </a:cubicBezTo>
                <a:cubicBezTo>
                  <a:pt x="296636" y="2952400"/>
                  <a:pt x="296636" y="2932632"/>
                  <a:pt x="336187" y="2939221"/>
                </a:cubicBezTo>
                <a:cubicBezTo>
                  <a:pt x="369147" y="2945811"/>
                  <a:pt x="382330" y="2919453"/>
                  <a:pt x="382330" y="2919453"/>
                </a:cubicBezTo>
                <a:cubicBezTo>
                  <a:pt x="355963" y="2879916"/>
                  <a:pt x="342779" y="2853558"/>
                  <a:pt x="316411" y="2840379"/>
                </a:cubicBezTo>
                <a:cubicBezTo>
                  <a:pt x="296636" y="2827200"/>
                  <a:pt x="276860" y="2787662"/>
                  <a:pt x="276860" y="2787662"/>
                </a:cubicBezTo>
                <a:cubicBezTo>
                  <a:pt x="276860" y="2701999"/>
                  <a:pt x="276860" y="2701999"/>
                  <a:pt x="276860" y="2701999"/>
                </a:cubicBezTo>
                <a:cubicBezTo>
                  <a:pt x="276860" y="2701999"/>
                  <a:pt x="250492" y="2649283"/>
                  <a:pt x="263676" y="2622925"/>
                </a:cubicBezTo>
                <a:cubicBezTo>
                  <a:pt x="276860" y="2603156"/>
                  <a:pt x="210941" y="2622925"/>
                  <a:pt x="276860" y="2603156"/>
                </a:cubicBezTo>
                <a:cubicBezTo>
                  <a:pt x="342779" y="2583388"/>
                  <a:pt x="342779" y="2583388"/>
                  <a:pt x="342779" y="2583388"/>
                </a:cubicBezTo>
                <a:cubicBezTo>
                  <a:pt x="355963" y="2517493"/>
                  <a:pt x="355963" y="2517493"/>
                  <a:pt x="355963" y="2517493"/>
                </a:cubicBezTo>
                <a:cubicBezTo>
                  <a:pt x="355963" y="2431829"/>
                  <a:pt x="355963" y="2431829"/>
                  <a:pt x="355963" y="2431829"/>
                </a:cubicBezTo>
                <a:cubicBezTo>
                  <a:pt x="408698" y="2398881"/>
                  <a:pt x="408698" y="2398881"/>
                  <a:pt x="408698" y="2398881"/>
                </a:cubicBezTo>
                <a:cubicBezTo>
                  <a:pt x="474617" y="2372523"/>
                  <a:pt x="474617" y="2372523"/>
                  <a:pt x="474617" y="2372523"/>
                </a:cubicBezTo>
                <a:cubicBezTo>
                  <a:pt x="547128" y="2332986"/>
                  <a:pt x="547128" y="2332986"/>
                  <a:pt x="547128" y="2332986"/>
                </a:cubicBezTo>
                <a:cubicBezTo>
                  <a:pt x="553720" y="2240733"/>
                  <a:pt x="553720" y="2240733"/>
                  <a:pt x="553720" y="2240733"/>
                </a:cubicBezTo>
                <a:cubicBezTo>
                  <a:pt x="487801" y="2214375"/>
                  <a:pt x="487801" y="2214375"/>
                  <a:pt x="487801" y="2214375"/>
                </a:cubicBezTo>
                <a:cubicBezTo>
                  <a:pt x="487801" y="2214375"/>
                  <a:pt x="481209" y="2122122"/>
                  <a:pt x="507577" y="2115533"/>
                </a:cubicBezTo>
                <a:cubicBezTo>
                  <a:pt x="540536" y="2115533"/>
                  <a:pt x="586680" y="2082585"/>
                  <a:pt x="586680" y="2082585"/>
                </a:cubicBezTo>
                <a:cubicBezTo>
                  <a:pt x="586680" y="2082585"/>
                  <a:pt x="652599" y="2108943"/>
                  <a:pt x="659191" y="2075995"/>
                </a:cubicBezTo>
                <a:cubicBezTo>
                  <a:pt x="665782" y="2049637"/>
                  <a:pt x="672374" y="2023279"/>
                  <a:pt x="678966" y="1990332"/>
                </a:cubicBezTo>
                <a:cubicBezTo>
                  <a:pt x="685558" y="1957384"/>
                  <a:pt x="725110" y="1884900"/>
                  <a:pt x="725110" y="1884900"/>
                </a:cubicBezTo>
                <a:cubicBezTo>
                  <a:pt x="725110" y="1884900"/>
                  <a:pt x="777845" y="1851952"/>
                  <a:pt x="804213" y="1865131"/>
                </a:cubicBezTo>
                <a:cubicBezTo>
                  <a:pt x="823988" y="1878310"/>
                  <a:pt x="856948" y="1884900"/>
                  <a:pt x="896499" y="1891489"/>
                </a:cubicBezTo>
                <a:cubicBezTo>
                  <a:pt x="929459" y="1898079"/>
                  <a:pt x="922867" y="1911258"/>
                  <a:pt x="969010" y="1911258"/>
                </a:cubicBezTo>
                <a:cubicBezTo>
                  <a:pt x="1015154" y="1917847"/>
                  <a:pt x="1074481" y="1937616"/>
                  <a:pt x="1074481" y="1911258"/>
                </a:cubicBezTo>
                <a:cubicBezTo>
                  <a:pt x="1081073" y="1884900"/>
                  <a:pt x="1114032" y="1851952"/>
                  <a:pt x="1114032" y="1825594"/>
                </a:cubicBezTo>
                <a:cubicBezTo>
                  <a:pt x="1107440" y="1799236"/>
                  <a:pt x="1146992" y="1733341"/>
                  <a:pt x="1146992" y="1733341"/>
                </a:cubicBezTo>
                <a:cubicBezTo>
                  <a:pt x="1239278" y="1739931"/>
                  <a:pt x="1239278" y="1739931"/>
                  <a:pt x="1239278" y="1739931"/>
                </a:cubicBezTo>
                <a:cubicBezTo>
                  <a:pt x="1245870" y="1786057"/>
                  <a:pt x="1245870" y="1786057"/>
                  <a:pt x="1245870" y="1786057"/>
                </a:cubicBezTo>
                <a:cubicBezTo>
                  <a:pt x="1245870" y="1786057"/>
                  <a:pt x="1259054" y="1845363"/>
                  <a:pt x="1239278" y="1865131"/>
                </a:cubicBezTo>
                <a:cubicBezTo>
                  <a:pt x="1212911" y="1884900"/>
                  <a:pt x="1206319" y="1931026"/>
                  <a:pt x="1232686" y="1931026"/>
                </a:cubicBezTo>
                <a:cubicBezTo>
                  <a:pt x="1259054" y="1937616"/>
                  <a:pt x="1456811" y="1937616"/>
                  <a:pt x="1437036" y="1924437"/>
                </a:cubicBezTo>
                <a:cubicBezTo>
                  <a:pt x="1423852" y="1911258"/>
                  <a:pt x="1423852" y="1911258"/>
                  <a:pt x="1423852" y="1911258"/>
                </a:cubicBezTo>
                <a:cubicBezTo>
                  <a:pt x="1509547" y="1759699"/>
                  <a:pt x="1509547" y="1759699"/>
                  <a:pt x="1509547" y="1759699"/>
                </a:cubicBezTo>
                <a:cubicBezTo>
                  <a:pt x="1509547" y="1759699"/>
                  <a:pt x="1397484" y="1746520"/>
                  <a:pt x="1443628" y="1594961"/>
                </a:cubicBezTo>
                <a:cubicBezTo>
                  <a:pt x="1451868" y="1571898"/>
                  <a:pt x="1456811" y="1555836"/>
                  <a:pt x="1459489" y="1545025"/>
                </a:cubicBezTo>
                <a:lnTo>
                  <a:pt x="1461715" y="1526922"/>
                </a:lnTo>
                <a:lnTo>
                  <a:pt x="1488123" y="1496942"/>
                </a:lnTo>
                <a:cubicBezTo>
                  <a:pt x="1506251" y="1477998"/>
                  <a:pt x="1522730" y="1463171"/>
                  <a:pt x="1522730" y="1463171"/>
                </a:cubicBezTo>
                <a:close/>
                <a:moveTo>
                  <a:pt x="2832694" y="1433993"/>
                </a:moveTo>
                <a:cubicBezTo>
                  <a:pt x="2837256" y="1432473"/>
                  <a:pt x="2842121" y="1433283"/>
                  <a:pt x="2846987" y="1438149"/>
                </a:cubicBezTo>
                <a:cubicBezTo>
                  <a:pt x="2834012" y="1470586"/>
                  <a:pt x="2834012" y="1470586"/>
                  <a:pt x="2834012" y="1470586"/>
                </a:cubicBezTo>
                <a:cubicBezTo>
                  <a:pt x="2821037" y="1477073"/>
                  <a:pt x="2808063" y="1464098"/>
                  <a:pt x="2808063" y="1464098"/>
                </a:cubicBezTo>
                <a:cubicBezTo>
                  <a:pt x="2808063" y="1464098"/>
                  <a:pt x="2819010" y="1438554"/>
                  <a:pt x="2832694" y="1433993"/>
                </a:cubicBezTo>
                <a:close/>
                <a:moveTo>
                  <a:pt x="3278763" y="1399123"/>
                </a:moveTo>
                <a:cubicBezTo>
                  <a:pt x="3284934" y="1398814"/>
                  <a:pt x="3289047" y="1401697"/>
                  <a:pt x="3289047" y="1409935"/>
                </a:cubicBezTo>
                <a:cubicBezTo>
                  <a:pt x="3289047" y="1409935"/>
                  <a:pt x="3282465" y="1449477"/>
                  <a:pt x="3242974" y="1436296"/>
                </a:cubicBezTo>
                <a:cubicBezTo>
                  <a:pt x="3190319" y="1469248"/>
                  <a:pt x="3190319" y="1469248"/>
                  <a:pt x="3190319" y="1469248"/>
                </a:cubicBezTo>
                <a:cubicBezTo>
                  <a:pt x="3104755" y="1495609"/>
                  <a:pt x="3104755" y="1495609"/>
                  <a:pt x="3104755" y="1495609"/>
                </a:cubicBezTo>
                <a:cubicBezTo>
                  <a:pt x="3038937" y="1508789"/>
                  <a:pt x="3038937" y="1508789"/>
                  <a:pt x="3038937" y="1508789"/>
                </a:cubicBezTo>
                <a:lnTo>
                  <a:pt x="2966537" y="1554921"/>
                </a:lnTo>
                <a:cubicBezTo>
                  <a:pt x="2966537" y="1554921"/>
                  <a:pt x="2992864" y="1508789"/>
                  <a:pt x="3025773" y="1502199"/>
                </a:cubicBezTo>
                <a:cubicBezTo>
                  <a:pt x="3078428" y="1489018"/>
                  <a:pt x="3078428" y="1489018"/>
                  <a:pt x="3078428" y="1489018"/>
                </a:cubicBezTo>
                <a:cubicBezTo>
                  <a:pt x="3157410" y="1462657"/>
                  <a:pt x="3157410" y="1462657"/>
                  <a:pt x="3157410" y="1462657"/>
                </a:cubicBezTo>
                <a:cubicBezTo>
                  <a:pt x="3223228" y="1429706"/>
                  <a:pt x="3223228" y="1429706"/>
                  <a:pt x="3223228" y="1429706"/>
                </a:cubicBezTo>
                <a:cubicBezTo>
                  <a:pt x="3223228" y="1429706"/>
                  <a:pt x="3260252" y="1400050"/>
                  <a:pt x="3278763" y="1399123"/>
                </a:cubicBezTo>
                <a:close/>
                <a:moveTo>
                  <a:pt x="3040257" y="1218887"/>
                </a:moveTo>
                <a:cubicBezTo>
                  <a:pt x="3042733" y="1219819"/>
                  <a:pt x="3044384" y="1222305"/>
                  <a:pt x="3044384" y="1227278"/>
                </a:cubicBezTo>
                <a:lnTo>
                  <a:pt x="2938734" y="1293577"/>
                </a:lnTo>
                <a:cubicBezTo>
                  <a:pt x="2938734" y="1293577"/>
                  <a:pt x="2938734" y="1293577"/>
                  <a:pt x="2984956" y="1253797"/>
                </a:cubicBezTo>
                <a:cubicBezTo>
                  <a:pt x="2984956" y="1253797"/>
                  <a:pt x="2984956" y="1253797"/>
                  <a:pt x="3017971" y="1227278"/>
                </a:cubicBezTo>
                <a:cubicBezTo>
                  <a:pt x="3017971" y="1227278"/>
                  <a:pt x="3032828" y="1216090"/>
                  <a:pt x="3040257" y="1218887"/>
                </a:cubicBezTo>
                <a:close/>
                <a:moveTo>
                  <a:pt x="3577972" y="974958"/>
                </a:moveTo>
                <a:cubicBezTo>
                  <a:pt x="3577972" y="974958"/>
                  <a:pt x="3597656" y="1001648"/>
                  <a:pt x="3571410" y="1008321"/>
                </a:cubicBezTo>
                <a:cubicBezTo>
                  <a:pt x="3532042" y="1035011"/>
                  <a:pt x="3532042" y="1035011"/>
                  <a:pt x="3532042" y="1035011"/>
                </a:cubicBezTo>
                <a:cubicBezTo>
                  <a:pt x="3532042" y="1035011"/>
                  <a:pt x="3453305" y="1101737"/>
                  <a:pt x="3433620" y="1081719"/>
                </a:cubicBezTo>
                <a:cubicBezTo>
                  <a:pt x="3538603" y="1008321"/>
                  <a:pt x="3538603" y="1008321"/>
                  <a:pt x="3538603" y="1008321"/>
                </a:cubicBezTo>
                <a:cubicBezTo>
                  <a:pt x="3538603" y="1008321"/>
                  <a:pt x="3564849" y="968285"/>
                  <a:pt x="3577972" y="974958"/>
                </a:cubicBezTo>
                <a:close/>
                <a:moveTo>
                  <a:pt x="3116672" y="937703"/>
                </a:moveTo>
                <a:cubicBezTo>
                  <a:pt x="3116672" y="937703"/>
                  <a:pt x="3077351" y="1016345"/>
                  <a:pt x="3024923" y="1029452"/>
                </a:cubicBezTo>
                <a:cubicBezTo>
                  <a:pt x="3116672" y="937703"/>
                  <a:pt x="3116672" y="937703"/>
                  <a:pt x="3116672" y="937703"/>
                </a:cubicBezTo>
                <a:close/>
                <a:moveTo>
                  <a:pt x="3049945" y="929362"/>
                </a:moveTo>
                <a:lnTo>
                  <a:pt x="2944295" y="1040572"/>
                </a:lnTo>
                <a:lnTo>
                  <a:pt x="2985999" y="990527"/>
                </a:lnTo>
                <a:lnTo>
                  <a:pt x="3049945" y="929362"/>
                </a:lnTo>
                <a:close/>
                <a:moveTo>
                  <a:pt x="3873636" y="467839"/>
                </a:moveTo>
                <a:cubicBezTo>
                  <a:pt x="3873636" y="467839"/>
                  <a:pt x="3873636" y="467839"/>
                  <a:pt x="3886803" y="467839"/>
                </a:cubicBezTo>
                <a:cubicBezTo>
                  <a:pt x="3886803" y="467839"/>
                  <a:pt x="3886803" y="467839"/>
                  <a:pt x="3873636" y="494178"/>
                </a:cubicBezTo>
                <a:cubicBezTo>
                  <a:pt x="3867053" y="507348"/>
                  <a:pt x="3840719" y="513933"/>
                  <a:pt x="3840719" y="513933"/>
                </a:cubicBezTo>
                <a:cubicBezTo>
                  <a:pt x="3840719" y="513933"/>
                  <a:pt x="3840719" y="513933"/>
                  <a:pt x="3728800" y="612705"/>
                </a:cubicBezTo>
                <a:cubicBezTo>
                  <a:pt x="3728800" y="612705"/>
                  <a:pt x="3728800" y="612705"/>
                  <a:pt x="3551047" y="770741"/>
                </a:cubicBezTo>
                <a:cubicBezTo>
                  <a:pt x="3551047" y="770741"/>
                  <a:pt x="3551047" y="770741"/>
                  <a:pt x="3472046" y="816835"/>
                </a:cubicBezTo>
                <a:cubicBezTo>
                  <a:pt x="3472046" y="816835"/>
                  <a:pt x="3472046" y="816835"/>
                  <a:pt x="3425962" y="862929"/>
                </a:cubicBezTo>
                <a:cubicBezTo>
                  <a:pt x="3425962" y="862929"/>
                  <a:pt x="3425962" y="862929"/>
                  <a:pt x="3366710" y="935362"/>
                </a:cubicBezTo>
                <a:cubicBezTo>
                  <a:pt x="3366710" y="935362"/>
                  <a:pt x="3366710" y="935362"/>
                  <a:pt x="3327210" y="981456"/>
                </a:cubicBezTo>
                <a:cubicBezTo>
                  <a:pt x="3327210" y="981456"/>
                  <a:pt x="3327210" y="981456"/>
                  <a:pt x="3281126" y="1020965"/>
                </a:cubicBezTo>
                <a:cubicBezTo>
                  <a:pt x="3281126" y="1020965"/>
                  <a:pt x="3281126" y="1020965"/>
                  <a:pt x="3188957" y="1093398"/>
                </a:cubicBezTo>
                <a:cubicBezTo>
                  <a:pt x="3188957" y="1093398"/>
                  <a:pt x="3215291" y="1047304"/>
                  <a:pt x="3221874" y="1040719"/>
                </a:cubicBezTo>
                <a:cubicBezTo>
                  <a:pt x="3221874" y="1040719"/>
                  <a:pt x="3221874" y="1040719"/>
                  <a:pt x="3248208" y="1014380"/>
                </a:cubicBezTo>
                <a:cubicBezTo>
                  <a:pt x="3248208" y="1014380"/>
                  <a:pt x="3248208" y="1014380"/>
                  <a:pt x="3267959" y="994625"/>
                </a:cubicBezTo>
                <a:cubicBezTo>
                  <a:pt x="3267959" y="994625"/>
                  <a:pt x="3267959" y="994625"/>
                  <a:pt x="3294292" y="974871"/>
                </a:cubicBezTo>
                <a:cubicBezTo>
                  <a:pt x="3294292" y="974871"/>
                  <a:pt x="3294292" y="974871"/>
                  <a:pt x="3314043" y="961701"/>
                </a:cubicBezTo>
                <a:cubicBezTo>
                  <a:pt x="3314043" y="961701"/>
                  <a:pt x="3314043" y="961701"/>
                  <a:pt x="3346960" y="922192"/>
                </a:cubicBezTo>
                <a:cubicBezTo>
                  <a:pt x="3346960" y="922192"/>
                  <a:pt x="3346960" y="922192"/>
                  <a:pt x="3406211" y="862929"/>
                </a:cubicBezTo>
                <a:cubicBezTo>
                  <a:pt x="3406211" y="862929"/>
                  <a:pt x="3406211" y="862929"/>
                  <a:pt x="3432545" y="843174"/>
                </a:cubicBezTo>
                <a:cubicBezTo>
                  <a:pt x="3432545" y="843174"/>
                  <a:pt x="3504963" y="783911"/>
                  <a:pt x="3518130" y="770741"/>
                </a:cubicBezTo>
                <a:cubicBezTo>
                  <a:pt x="3531297" y="757572"/>
                  <a:pt x="3537880" y="757572"/>
                  <a:pt x="3537880" y="757572"/>
                </a:cubicBezTo>
                <a:cubicBezTo>
                  <a:pt x="3537880" y="757572"/>
                  <a:pt x="3564214" y="744402"/>
                  <a:pt x="3570797" y="737817"/>
                </a:cubicBezTo>
                <a:cubicBezTo>
                  <a:pt x="3577381" y="731232"/>
                  <a:pt x="3583964" y="724647"/>
                  <a:pt x="3597131" y="711478"/>
                </a:cubicBezTo>
                <a:cubicBezTo>
                  <a:pt x="3610298" y="698308"/>
                  <a:pt x="3623465" y="691723"/>
                  <a:pt x="3636632" y="678554"/>
                </a:cubicBezTo>
                <a:cubicBezTo>
                  <a:pt x="3643215" y="665384"/>
                  <a:pt x="3682716" y="639045"/>
                  <a:pt x="3682716" y="639045"/>
                </a:cubicBezTo>
                <a:cubicBezTo>
                  <a:pt x="3682716" y="639045"/>
                  <a:pt x="3682716" y="639045"/>
                  <a:pt x="3722217" y="606120"/>
                </a:cubicBezTo>
                <a:cubicBezTo>
                  <a:pt x="3722217" y="606120"/>
                  <a:pt x="3827552" y="507348"/>
                  <a:pt x="3834136" y="500763"/>
                </a:cubicBezTo>
                <a:cubicBezTo>
                  <a:pt x="3834136" y="494178"/>
                  <a:pt x="3853886" y="487593"/>
                  <a:pt x="3853886" y="487593"/>
                </a:cubicBezTo>
                <a:cubicBezTo>
                  <a:pt x="3853886" y="487593"/>
                  <a:pt x="3860469" y="481009"/>
                  <a:pt x="3873636" y="467839"/>
                </a:cubicBezTo>
                <a:close/>
                <a:moveTo>
                  <a:pt x="2746897" y="423355"/>
                </a:moveTo>
                <a:lnTo>
                  <a:pt x="2760799" y="437257"/>
                </a:lnTo>
                <a:lnTo>
                  <a:pt x="2741336" y="448378"/>
                </a:lnTo>
                <a:lnTo>
                  <a:pt x="2741336" y="428916"/>
                </a:lnTo>
                <a:lnTo>
                  <a:pt x="2746897" y="423355"/>
                </a:lnTo>
                <a:close/>
                <a:moveTo>
                  <a:pt x="2272464" y="95"/>
                </a:moveTo>
                <a:cubicBezTo>
                  <a:pt x="2284975" y="1034"/>
                  <a:pt x="2299274" y="8540"/>
                  <a:pt x="2299274" y="8540"/>
                </a:cubicBezTo>
                <a:lnTo>
                  <a:pt x="2273854" y="28558"/>
                </a:lnTo>
                <a:cubicBezTo>
                  <a:pt x="2273854" y="28558"/>
                  <a:pt x="2273854" y="28558"/>
                  <a:pt x="2254790" y="28558"/>
                </a:cubicBezTo>
                <a:cubicBezTo>
                  <a:pt x="2254790" y="28558"/>
                  <a:pt x="2254790" y="8540"/>
                  <a:pt x="2261145" y="1868"/>
                </a:cubicBezTo>
                <a:cubicBezTo>
                  <a:pt x="2264322" y="200"/>
                  <a:pt x="2268294" y="-217"/>
                  <a:pt x="2272464" y="9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reeform 5"/>
          <p:cNvSpPr/>
          <p:nvPr/>
        </p:nvSpPr>
        <p:spPr>
          <a:xfrm>
            <a:off x="3714840" y="5378400"/>
            <a:ext cx="533160" cy="44136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29"/>
                </a:moveTo>
                <a:cubicBezTo>
                  <a:pt x="78" y="29"/>
                  <a:pt x="78" y="29"/>
                  <a:pt x="78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moveTo>
                  <a:pt x="40" y="0"/>
                </a:moveTo>
                <a:cubicBezTo>
                  <a:pt x="40" y="0"/>
                  <a:pt x="38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5" y="2"/>
                  <a:pt x="35" y="3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4"/>
                  <a:pt x="35" y="4"/>
                  <a:pt x="34" y="4"/>
                </a:cubicBezTo>
                <a:cubicBezTo>
                  <a:pt x="34" y="3"/>
                  <a:pt x="33" y="3"/>
                  <a:pt x="33" y="3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6"/>
                  <a:pt x="32" y="7"/>
                </a:cubicBezTo>
                <a:cubicBezTo>
                  <a:pt x="32" y="7"/>
                  <a:pt x="32" y="8"/>
                  <a:pt x="32" y="8"/>
                </a:cubicBezTo>
                <a:cubicBezTo>
                  <a:pt x="32" y="9"/>
                  <a:pt x="29" y="10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8" y="11"/>
                  <a:pt x="27" y="11"/>
                </a:cubicBezTo>
                <a:cubicBezTo>
                  <a:pt x="27" y="12"/>
                  <a:pt x="27" y="12"/>
                  <a:pt x="26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3"/>
                  <a:pt x="23" y="14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6"/>
                  <a:pt x="25" y="16"/>
                  <a:pt x="25" y="17"/>
                </a:cubicBezTo>
                <a:cubicBezTo>
                  <a:pt x="25" y="17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3" y="17"/>
                  <a:pt x="22" y="17"/>
                  <a:pt x="22" y="17"/>
                </a:cubicBezTo>
                <a:cubicBezTo>
                  <a:pt x="22" y="17"/>
                  <a:pt x="22" y="18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20"/>
                  <a:pt x="21" y="20"/>
                </a:cubicBezTo>
                <a:cubicBezTo>
                  <a:pt x="21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0"/>
                  <a:pt x="18" y="20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6" y="23"/>
                  <a:pt x="16" y="23"/>
                </a:cubicBezTo>
                <a:cubicBezTo>
                  <a:pt x="15" y="24"/>
                  <a:pt x="15" y="24"/>
                  <a:pt x="15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8"/>
                  <a:pt x="14" y="28"/>
                </a:cubicBezTo>
                <a:cubicBezTo>
                  <a:pt x="14" y="28"/>
                  <a:pt x="15" y="29"/>
                  <a:pt x="15" y="29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3" y="31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3"/>
                  <a:pt x="12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9" y="33"/>
                  <a:pt x="9" y="33"/>
                  <a:pt x="9" y="34"/>
                </a:cubicBezTo>
                <a:cubicBezTo>
                  <a:pt x="9" y="34"/>
                  <a:pt x="10" y="34"/>
                  <a:pt x="10" y="34"/>
                </a:cubicBezTo>
                <a:cubicBezTo>
                  <a:pt x="10" y="34"/>
                  <a:pt x="11" y="34"/>
                  <a:pt x="11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2" y="34"/>
                  <a:pt x="11" y="35"/>
                  <a:pt x="11" y="35"/>
                </a:cubicBezTo>
                <a:cubicBezTo>
                  <a:pt x="11" y="37"/>
                  <a:pt x="11" y="37"/>
                  <a:pt x="11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5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3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8"/>
                  <a:pt x="0" y="38"/>
                  <a:pt x="0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8"/>
                  <a:pt x="13" y="38"/>
                </a:cubicBezTo>
                <a:cubicBezTo>
                  <a:pt x="13" y="38"/>
                  <a:pt x="14" y="40"/>
                  <a:pt x="14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6" y="42"/>
                  <a:pt x="16" y="42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5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6" y="45"/>
                </a:cubicBezTo>
                <a:cubicBezTo>
                  <a:pt x="17" y="45"/>
                  <a:pt x="16" y="45"/>
                  <a:pt x="17" y="45"/>
                </a:cubicBezTo>
                <a:cubicBezTo>
                  <a:pt x="18" y="45"/>
                  <a:pt x="17" y="47"/>
                  <a:pt x="17" y="47"/>
                </a:cubicBezTo>
                <a:cubicBezTo>
                  <a:pt x="17" y="47"/>
                  <a:pt x="17" y="47"/>
                  <a:pt x="16" y="47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2" y="49"/>
                  <a:pt x="12" y="49"/>
                  <a:pt x="11" y="50"/>
                </a:cubicBezTo>
                <a:cubicBezTo>
                  <a:pt x="11" y="50"/>
                  <a:pt x="11" y="51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2" y="52"/>
                  <a:pt x="12" y="51"/>
                  <a:pt x="12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9"/>
                  <a:pt x="15" y="49"/>
                  <a:pt x="15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2"/>
                  <a:pt x="17" y="52"/>
                  <a:pt x="18" y="53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9" y="54"/>
                  <a:pt x="20" y="54"/>
                </a:cubicBezTo>
                <a:cubicBezTo>
                  <a:pt x="20" y="54"/>
                  <a:pt x="20" y="54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4"/>
                  <a:pt x="23" y="54"/>
                </a:cubicBezTo>
                <a:cubicBezTo>
                  <a:pt x="23" y="54"/>
                  <a:pt x="24" y="55"/>
                  <a:pt x="24" y="55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8"/>
                  <a:pt x="25" y="58"/>
                  <a:pt x="25" y="58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60"/>
                  <a:pt x="27" y="60"/>
                  <a:pt x="27" y="60"/>
                </a:cubicBezTo>
                <a:cubicBezTo>
                  <a:pt x="28" y="60"/>
                  <a:pt x="29" y="60"/>
                  <a:pt x="29" y="60"/>
                </a:cubicBezTo>
                <a:cubicBezTo>
                  <a:pt x="29" y="61"/>
                  <a:pt x="29" y="61"/>
                  <a:pt x="29" y="61"/>
                </a:cubicBezTo>
                <a:cubicBezTo>
                  <a:pt x="30" y="63"/>
                  <a:pt x="30" y="63"/>
                  <a:pt x="30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4" y="64"/>
                  <a:pt x="34" y="64"/>
                  <a:pt x="34" y="64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38" y="65"/>
                  <a:pt x="38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2" y="64"/>
                  <a:pt x="43" y="64"/>
                </a:cubicBezTo>
                <a:cubicBezTo>
                  <a:pt x="44" y="63"/>
                  <a:pt x="44" y="63"/>
                  <a:pt x="44" y="63"/>
                </a:cubicBezTo>
                <a:cubicBezTo>
                  <a:pt x="46" y="62"/>
                  <a:pt x="46" y="62"/>
                  <a:pt x="46" y="62"/>
                </a:cubicBezTo>
                <a:cubicBezTo>
                  <a:pt x="46" y="62"/>
                  <a:pt x="46" y="62"/>
                  <a:pt x="46" y="62"/>
                </a:cubicBezTo>
                <a:cubicBezTo>
                  <a:pt x="47" y="63"/>
                  <a:pt x="47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1"/>
                  <a:pt x="49" y="61"/>
                  <a:pt x="49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2" y="61"/>
                  <a:pt x="52" y="60"/>
                  <a:pt x="52" y="60"/>
                </a:cubicBezTo>
                <a:cubicBezTo>
                  <a:pt x="52" y="58"/>
                  <a:pt x="52" y="58"/>
                  <a:pt x="52" y="58"/>
                </a:cubicBezTo>
                <a:cubicBezTo>
                  <a:pt x="54" y="59"/>
                  <a:pt x="54" y="59"/>
                  <a:pt x="54" y="59"/>
                </a:cubicBezTo>
                <a:cubicBezTo>
                  <a:pt x="54" y="59"/>
                  <a:pt x="54" y="58"/>
                  <a:pt x="54" y="58"/>
                </a:cubicBezTo>
                <a:cubicBezTo>
                  <a:pt x="55" y="58"/>
                  <a:pt x="55" y="59"/>
                  <a:pt x="56" y="59"/>
                </a:cubicBezTo>
                <a:cubicBezTo>
                  <a:pt x="57" y="59"/>
                  <a:pt x="57" y="60"/>
                  <a:pt x="57" y="60"/>
                </a:cubicBezTo>
                <a:cubicBezTo>
                  <a:pt x="57" y="60"/>
                  <a:pt x="57" y="59"/>
                  <a:pt x="57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61" y="61"/>
                  <a:pt x="61" y="61"/>
                  <a:pt x="61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63" y="62"/>
                  <a:pt x="63" y="62"/>
                  <a:pt x="63" y="62"/>
                </a:cubicBezTo>
                <a:cubicBezTo>
                  <a:pt x="62" y="60"/>
                  <a:pt x="62" y="60"/>
                  <a:pt x="62" y="60"/>
                </a:cubicBezTo>
                <a:cubicBezTo>
                  <a:pt x="61" y="58"/>
                  <a:pt x="61" y="58"/>
                  <a:pt x="61" y="58"/>
                </a:cubicBezTo>
                <a:cubicBezTo>
                  <a:pt x="62" y="56"/>
                  <a:pt x="62" y="56"/>
                  <a:pt x="62" y="56"/>
                </a:cubicBezTo>
                <a:cubicBezTo>
                  <a:pt x="63" y="55"/>
                  <a:pt x="63" y="55"/>
                  <a:pt x="63" y="55"/>
                </a:cubicBezTo>
                <a:cubicBezTo>
                  <a:pt x="64" y="52"/>
                  <a:pt x="64" y="52"/>
                  <a:pt x="64" y="52"/>
                </a:cubicBezTo>
                <a:cubicBezTo>
                  <a:pt x="64" y="52"/>
                  <a:pt x="64" y="52"/>
                  <a:pt x="64" y="52"/>
                </a:cubicBezTo>
                <a:cubicBezTo>
                  <a:pt x="66" y="52"/>
                  <a:pt x="67" y="51"/>
                  <a:pt x="67" y="51"/>
                </a:cubicBezTo>
                <a:cubicBezTo>
                  <a:pt x="68" y="50"/>
                  <a:pt x="68" y="50"/>
                  <a:pt x="68" y="50"/>
                </a:cubicBezTo>
                <a:cubicBezTo>
                  <a:pt x="68" y="50"/>
                  <a:pt x="68" y="50"/>
                  <a:pt x="68" y="50"/>
                </a:cubicBezTo>
                <a:cubicBezTo>
                  <a:pt x="69" y="50"/>
                  <a:pt x="70" y="50"/>
                  <a:pt x="70" y="50"/>
                </a:cubicBezTo>
                <a:cubicBezTo>
                  <a:pt x="70" y="51"/>
                  <a:pt x="71" y="51"/>
                  <a:pt x="71" y="51"/>
                </a:cubicBezTo>
                <a:cubicBezTo>
                  <a:pt x="72" y="51"/>
                  <a:pt x="72" y="50"/>
                  <a:pt x="72" y="50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5" y="51"/>
                  <a:pt x="75" y="50"/>
                  <a:pt x="75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9" y="48"/>
                  <a:pt x="77" y="46"/>
                  <a:pt x="77" y="46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4"/>
                  <a:pt x="76" y="44"/>
                  <a:pt x="75" y="44"/>
                </a:cubicBezTo>
                <a:cubicBezTo>
                  <a:pt x="75" y="44"/>
                  <a:pt x="74" y="44"/>
                  <a:pt x="74" y="44"/>
                </a:cubicBezTo>
                <a:cubicBezTo>
                  <a:pt x="74" y="44"/>
                  <a:pt x="74" y="43"/>
                  <a:pt x="74" y="43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38"/>
                  <a:pt x="71" y="37"/>
                  <a:pt x="71" y="37"/>
                </a:cubicBezTo>
                <a:cubicBezTo>
                  <a:pt x="69" y="35"/>
                  <a:pt x="71" y="33"/>
                  <a:pt x="71" y="33"/>
                </a:cubicBezTo>
                <a:cubicBezTo>
                  <a:pt x="71" y="32"/>
                  <a:pt x="72" y="31"/>
                  <a:pt x="72" y="31"/>
                </a:cubicBezTo>
                <a:cubicBezTo>
                  <a:pt x="74" y="32"/>
                  <a:pt x="74" y="32"/>
                  <a:pt x="74" y="32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9" y="32"/>
                  <a:pt x="80" y="32"/>
                </a:cubicBezTo>
                <a:cubicBezTo>
                  <a:pt x="80" y="32"/>
                  <a:pt x="80" y="32"/>
                  <a:pt x="80" y="32"/>
                </a:cubicBezTo>
                <a:cubicBezTo>
                  <a:pt x="81" y="32"/>
                  <a:pt x="81" y="31"/>
                  <a:pt x="81" y="31"/>
                </a:cubicBezTo>
                <a:cubicBezTo>
                  <a:pt x="81" y="31"/>
                  <a:pt x="80" y="30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cubicBezTo>
                  <a:pt x="77" y="29"/>
                  <a:pt x="77" y="29"/>
                  <a:pt x="76" y="29"/>
                </a:cubicBezTo>
                <a:cubicBezTo>
                  <a:pt x="74" y="29"/>
                  <a:pt x="74" y="30"/>
                  <a:pt x="74" y="30"/>
                </a:cubicBezTo>
                <a:cubicBezTo>
                  <a:pt x="71" y="29"/>
                  <a:pt x="71" y="29"/>
                  <a:pt x="71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5"/>
                  <a:pt x="70" y="25"/>
                </a:cubicBezTo>
                <a:cubicBezTo>
                  <a:pt x="70" y="25"/>
                  <a:pt x="70" y="25"/>
                  <a:pt x="70" y="25"/>
                </a:cubicBezTo>
                <a:cubicBezTo>
                  <a:pt x="71" y="25"/>
                  <a:pt x="71" y="25"/>
                  <a:pt x="71" y="25"/>
                </a:cubicBezTo>
                <a:cubicBezTo>
                  <a:pt x="72" y="25"/>
                  <a:pt x="72" y="25"/>
                  <a:pt x="72" y="25"/>
                </a:cubicBezTo>
                <a:cubicBezTo>
                  <a:pt x="73" y="25"/>
                  <a:pt x="73" y="25"/>
                  <a:pt x="73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3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1" y="22"/>
                  <a:pt x="70" y="22"/>
                </a:cubicBezTo>
                <a:cubicBezTo>
                  <a:pt x="70" y="22"/>
                  <a:pt x="70" y="20"/>
                  <a:pt x="70" y="20"/>
                </a:cubicBezTo>
                <a:cubicBezTo>
                  <a:pt x="70" y="19"/>
                  <a:pt x="70" y="19"/>
                  <a:pt x="71" y="18"/>
                </a:cubicBezTo>
                <a:cubicBezTo>
                  <a:pt x="71" y="17"/>
                  <a:pt x="71" y="17"/>
                  <a:pt x="71" y="16"/>
                </a:cubicBezTo>
                <a:cubicBezTo>
                  <a:pt x="71" y="16"/>
                  <a:pt x="71" y="15"/>
                  <a:pt x="71" y="15"/>
                </a:cubicBezTo>
                <a:cubicBezTo>
                  <a:pt x="71" y="15"/>
                  <a:pt x="69" y="14"/>
                  <a:pt x="68" y="14"/>
                </a:cubicBezTo>
                <a:cubicBezTo>
                  <a:pt x="67" y="14"/>
                  <a:pt x="67" y="13"/>
                  <a:pt x="66" y="13"/>
                </a:cubicBezTo>
                <a:cubicBezTo>
                  <a:pt x="65" y="13"/>
                  <a:pt x="66" y="12"/>
                  <a:pt x="66" y="12"/>
                </a:cubicBezTo>
                <a:cubicBezTo>
                  <a:pt x="66" y="12"/>
                  <a:pt x="65" y="11"/>
                  <a:pt x="65" y="10"/>
                </a:cubicBezTo>
                <a:cubicBezTo>
                  <a:pt x="65" y="10"/>
                  <a:pt x="64" y="10"/>
                  <a:pt x="64" y="10"/>
                </a:cubicBezTo>
                <a:cubicBezTo>
                  <a:pt x="63" y="10"/>
                  <a:pt x="63" y="10"/>
                  <a:pt x="63" y="10"/>
                </a:cubicBezTo>
                <a:cubicBezTo>
                  <a:pt x="62" y="11"/>
                  <a:pt x="62" y="11"/>
                  <a:pt x="62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8"/>
                  <a:pt x="59" y="8"/>
                  <a:pt x="59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56" y="7"/>
                  <a:pt x="56" y="7"/>
                  <a:pt x="56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7"/>
                  <a:pt x="55" y="7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3" y="5"/>
                  <a:pt x="52" y="6"/>
                  <a:pt x="52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49" y="7"/>
                </a:cubicBezTo>
                <a:cubicBezTo>
                  <a:pt x="49" y="7"/>
                  <a:pt x="48" y="7"/>
                  <a:pt x="48" y="8"/>
                </a:cubicBezTo>
                <a:cubicBezTo>
                  <a:pt x="48" y="8"/>
                  <a:pt x="47" y="8"/>
                  <a:pt x="47" y="7"/>
                </a:cubicBezTo>
                <a:cubicBezTo>
                  <a:pt x="47" y="6"/>
                  <a:pt x="47" y="6"/>
                  <a:pt x="47" y="6"/>
                </a:cubicBezTo>
                <a:cubicBezTo>
                  <a:pt x="47" y="5"/>
                  <a:pt x="46" y="5"/>
                  <a:pt x="46" y="3"/>
                </a:cubicBezTo>
                <a:cubicBezTo>
                  <a:pt x="46" y="3"/>
                  <a:pt x="44" y="3"/>
                  <a:pt x="43" y="3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reeform 351"/>
          <p:cNvSpPr/>
          <p:nvPr/>
        </p:nvSpPr>
        <p:spPr>
          <a:xfrm>
            <a:off x="3089160" y="3521160"/>
            <a:ext cx="792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1082"/>
          <p:cNvSpPr/>
          <p:nvPr/>
        </p:nvSpPr>
        <p:spPr>
          <a:xfrm>
            <a:off x="2554200" y="2448000"/>
            <a:ext cx="692280" cy="585720"/>
          </a:xfrm>
          <a:custGeom>
            <a:avLst/>
            <a:gdLst/>
            <a:ahLst/>
            <a:rect l="l" t="t" r="r" b="b"/>
            <a:pathLst>
              <a:path w="105" h="89">
                <a:moveTo>
                  <a:pt x="97" y="69"/>
                </a:moveTo>
                <a:cubicBezTo>
                  <a:pt x="97" y="72"/>
                  <a:pt x="97" y="75"/>
                  <a:pt x="98" y="78"/>
                </a:cubicBezTo>
                <a:cubicBezTo>
                  <a:pt x="99" y="78"/>
                  <a:pt x="101" y="78"/>
                  <a:pt x="104" y="79"/>
                </a:cubicBezTo>
                <a:cubicBezTo>
                  <a:pt x="104" y="78"/>
                  <a:pt x="104" y="78"/>
                  <a:pt x="104" y="77"/>
                </a:cubicBezTo>
                <a:cubicBezTo>
                  <a:pt x="105" y="77"/>
                  <a:pt x="105" y="76"/>
                  <a:pt x="105" y="75"/>
                </a:cubicBezTo>
                <a:cubicBezTo>
                  <a:pt x="103" y="73"/>
                  <a:pt x="100" y="71"/>
                  <a:pt x="97" y="69"/>
                </a:cubicBezTo>
                <a:moveTo>
                  <a:pt x="48" y="0"/>
                </a:moveTo>
                <a:cubicBezTo>
                  <a:pt x="29" y="8"/>
                  <a:pt x="0" y="23"/>
                  <a:pt x="25" y="51"/>
                </a:cubicBezTo>
                <a:cubicBezTo>
                  <a:pt x="41" y="69"/>
                  <a:pt x="70" y="79"/>
                  <a:pt x="92" y="87"/>
                </a:cubicBezTo>
                <a:cubicBezTo>
                  <a:pt x="95" y="88"/>
                  <a:pt x="97" y="88"/>
                  <a:pt x="99" y="89"/>
                </a:cubicBezTo>
                <a:cubicBezTo>
                  <a:pt x="99" y="89"/>
                  <a:pt x="99" y="89"/>
                  <a:pt x="99" y="89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99" y="83"/>
                  <a:pt x="98" y="82"/>
                  <a:pt x="98" y="82"/>
                </a:cubicBezTo>
                <a:cubicBezTo>
                  <a:pt x="98" y="82"/>
                  <a:pt x="99" y="83"/>
                  <a:pt x="100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0" y="79"/>
                  <a:pt x="99" y="79"/>
                  <a:pt x="99" y="79"/>
                </a:cubicBezTo>
                <a:cubicBezTo>
                  <a:pt x="99" y="79"/>
                  <a:pt x="100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99" y="78"/>
                  <a:pt x="98" y="78"/>
                  <a:pt x="98" y="78"/>
                </a:cubicBezTo>
                <a:cubicBezTo>
                  <a:pt x="98" y="78"/>
                  <a:pt x="98" y="78"/>
                  <a:pt x="98" y="79"/>
                </a:cubicBezTo>
                <a:cubicBezTo>
                  <a:pt x="93" y="77"/>
                  <a:pt x="87" y="73"/>
                  <a:pt x="83" y="70"/>
                </a:cubicBezTo>
                <a:cubicBezTo>
                  <a:pt x="83" y="71"/>
                  <a:pt x="84" y="72"/>
                  <a:pt x="84" y="73"/>
                </a:cubicBezTo>
                <a:cubicBezTo>
                  <a:pt x="82" y="72"/>
                  <a:pt x="78" y="70"/>
                  <a:pt x="76" y="69"/>
                </a:cubicBezTo>
                <a:cubicBezTo>
                  <a:pt x="77" y="71"/>
                  <a:pt x="76" y="72"/>
                  <a:pt x="76" y="74"/>
                </a:cubicBezTo>
                <a:cubicBezTo>
                  <a:pt x="58" y="68"/>
                  <a:pt x="27" y="51"/>
                  <a:pt x="21" y="35"/>
                </a:cubicBezTo>
                <a:cubicBezTo>
                  <a:pt x="13" y="13"/>
                  <a:pt x="41" y="13"/>
                  <a:pt x="48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eform 1120"/>
          <p:cNvSpPr/>
          <p:nvPr/>
        </p:nvSpPr>
        <p:spPr>
          <a:xfrm>
            <a:off x="3063960" y="4035600"/>
            <a:ext cx="25200" cy="187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3"/>
                  <a:pt x="4" y="2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任意多边形 29"/>
          <p:cNvSpPr/>
          <p:nvPr/>
        </p:nvSpPr>
        <p:spPr>
          <a:xfrm>
            <a:off x="1562040" y="3898800"/>
            <a:ext cx="1416240" cy="814320"/>
          </a:xfrm>
          <a:custGeom>
            <a:avLst/>
            <a:gdLst/>
            <a:ahLst/>
            <a:rect l="l" t="t" r="r" b="b"/>
            <a:pathLst>
              <a:path w="808038" h="465148">
                <a:moveTo>
                  <a:pt x="472836" y="449620"/>
                </a:moveTo>
                <a:lnTo>
                  <a:pt x="473086" y="450141"/>
                </a:lnTo>
                <a:cubicBezTo>
                  <a:pt x="475733" y="455968"/>
                  <a:pt x="478321" y="461382"/>
                  <a:pt x="481144" y="465148"/>
                </a:cubicBezTo>
                <a:cubicBezTo>
                  <a:pt x="473616" y="461382"/>
                  <a:pt x="473616" y="457615"/>
                  <a:pt x="469852" y="450083"/>
                </a:cubicBezTo>
                <a:lnTo>
                  <a:pt x="472836" y="449620"/>
                </a:lnTo>
                <a:close/>
                <a:moveTo>
                  <a:pt x="623888" y="300047"/>
                </a:moveTo>
                <a:lnTo>
                  <a:pt x="590551" y="314335"/>
                </a:lnTo>
                <a:lnTo>
                  <a:pt x="544513" y="322272"/>
                </a:lnTo>
                <a:lnTo>
                  <a:pt x="623888" y="300047"/>
                </a:lnTo>
                <a:close/>
                <a:moveTo>
                  <a:pt x="554931" y="279658"/>
                </a:moveTo>
                <a:cubicBezTo>
                  <a:pt x="562570" y="278617"/>
                  <a:pt x="570442" y="278617"/>
                  <a:pt x="577850" y="280469"/>
                </a:cubicBezTo>
                <a:cubicBezTo>
                  <a:pt x="511175" y="295285"/>
                  <a:pt x="511175" y="295285"/>
                  <a:pt x="511175" y="295285"/>
                </a:cubicBezTo>
                <a:cubicBezTo>
                  <a:pt x="511175" y="295285"/>
                  <a:pt x="532011" y="282784"/>
                  <a:pt x="554931" y="279658"/>
                </a:cubicBezTo>
                <a:close/>
                <a:moveTo>
                  <a:pt x="804863" y="273060"/>
                </a:moveTo>
                <a:cubicBezTo>
                  <a:pt x="748401" y="310725"/>
                  <a:pt x="684410" y="333323"/>
                  <a:pt x="627947" y="370987"/>
                </a:cubicBezTo>
                <a:cubicBezTo>
                  <a:pt x="594069" y="393586"/>
                  <a:pt x="553840" y="428896"/>
                  <a:pt x="512022" y="443550"/>
                </a:cubicBezTo>
                <a:lnTo>
                  <a:pt x="472836" y="449620"/>
                </a:lnTo>
                <a:lnTo>
                  <a:pt x="464676" y="432663"/>
                </a:lnTo>
                <a:cubicBezTo>
                  <a:pt x="458559" y="421834"/>
                  <a:pt x="451031" y="414302"/>
                  <a:pt x="439738" y="419951"/>
                </a:cubicBezTo>
                <a:cubicBezTo>
                  <a:pt x="443502" y="416185"/>
                  <a:pt x="447266" y="416185"/>
                  <a:pt x="454795" y="416185"/>
                </a:cubicBezTo>
                <a:lnTo>
                  <a:pt x="503729" y="401119"/>
                </a:lnTo>
                <a:cubicBezTo>
                  <a:pt x="601598" y="355922"/>
                  <a:pt x="703230" y="310725"/>
                  <a:pt x="804863" y="273060"/>
                </a:cubicBezTo>
                <a:close/>
                <a:moveTo>
                  <a:pt x="500063" y="198447"/>
                </a:moveTo>
                <a:cubicBezTo>
                  <a:pt x="500063" y="198447"/>
                  <a:pt x="477504" y="209758"/>
                  <a:pt x="469984" y="213528"/>
                </a:cubicBezTo>
                <a:cubicBezTo>
                  <a:pt x="469984" y="213528"/>
                  <a:pt x="469984" y="213528"/>
                  <a:pt x="454945" y="217299"/>
                </a:cubicBezTo>
                <a:cubicBezTo>
                  <a:pt x="454945" y="217299"/>
                  <a:pt x="454945" y="217299"/>
                  <a:pt x="436145" y="221069"/>
                </a:cubicBezTo>
                <a:cubicBezTo>
                  <a:pt x="436145" y="221069"/>
                  <a:pt x="436145" y="221069"/>
                  <a:pt x="421106" y="221069"/>
                </a:cubicBezTo>
                <a:cubicBezTo>
                  <a:pt x="421106" y="221069"/>
                  <a:pt x="421106" y="221069"/>
                  <a:pt x="406066" y="224839"/>
                </a:cubicBezTo>
                <a:cubicBezTo>
                  <a:pt x="406066" y="224839"/>
                  <a:pt x="406066" y="224839"/>
                  <a:pt x="379747" y="232380"/>
                </a:cubicBezTo>
                <a:cubicBezTo>
                  <a:pt x="379747" y="232380"/>
                  <a:pt x="379747" y="232380"/>
                  <a:pt x="338388" y="239921"/>
                </a:cubicBezTo>
                <a:cubicBezTo>
                  <a:pt x="338388" y="239921"/>
                  <a:pt x="338388" y="239921"/>
                  <a:pt x="319589" y="243691"/>
                </a:cubicBezTo>
                <a:cubicBezTo>
                  <a:pt x="319589" y="243691"/>
                  <a:pt x="270711" y="251231"/>
                  <a:pt x="259431" y="255002"/>
                </a:cubicBezTo>
                <a:cubicBezTo>
                  <a:pt x="251911" y="258772"/>
                  <a:pt x="244392" y="255002"/>
                  <a:pt x="244392" y="255002"/>
                </a:cubicBezTo>
                <a:cubicBezTo>
                  <a:pt x="244392" y="255002"/>
                  <a:pt x="229352" y="251231"/>
                  <a:pt x="225592" y="255002"/>
                </a:cubicBezTo>
                <a:cubicBezTo>
                  <a:pt x="221832" y="255002"/>
                  <a:pt x="214313" y="255002"/>
                  <a:pt x="206793" y="258772"/>
                </a:cubicBezTo>
                <a:cubicBezTo>
                  <a:pt x="199273" y="258772"/>
                  <a:pt x="187993" y="258772"/>
                  <a:pt x="180474" y="262542"/>
                </a:cubicBezTo>
                <a:cubicBezTo>
                  <a:pt x="169194" y="266313"/>
                  <a:pt x="146635" y="266313"/>
                  <a:pt x="146635" y="266313"/>
                </a:cubicBezTo>
                <a:cubicBezTo>
                  <a:pt x="146635" y="266313"/>
                  <a:pt x="146635" y="266313"/>
                  <a:pt x="120316" y="270083"/>
                </a:cubicBezTo>
                <a:cubicBezTo>
                  <a:pt x="120316" y="270083"/>
                  <a:pt x="45118" y="285165"/>
                  <a:pt x="41358" y="285165"/>
                </a:cubicBezTo>
                <a:cubicBezTo>
                  <a:pt x="33839" y="288935"/>
                  <a:pt x="26319" y="288935"/>
                  <a:pt x="26319" y="288935"/>
                </a:cubicBezTo>
                <a:cubicBezTo>
                  <a:pt x="26319" y="288935"/>
                  <a:pt x="18799" y="288935"/>
                  <a:pt x="11279" y="288935"/>
                </a:cubicBezTo>
                <a:cubicBezTo>
                  <a:pt x="11279" y="288935"/>
                  <a:pt x="11279" y="288935"/>
                  <a:pt x="0" y="288935"/>
                </a:cubicBezTo>
                <a:cubicBezTo>
                  <a:pt x="0" y="288935"/>
                  <a:pt x="0" y="288935"/>
                  <a:pt x="15039" y="277624"/>
                </a:cubicBezTo>
                <a:cubicBezTo>
                  <a:pt x="18799" y="270083"/>
                  <a:pt x="37599" y="281395"/>
                  <a:pt x="37599" y="281395"/>
                </a:cubicBezTo>
                <a:cubicBezTo>
                  <a:pt x="37599" y="281395"/>
                  <a:pt x="37599" y="281395"/>
                  <a:pt x="116556" y="266313"/>
                </a:cubicBezTo>
                <a:cubicBezTo>
                  <a:pt x="116556" y="266313"/>
                  <a:pt x="116556" y="266313"/>
                  <a:pt x="244392" y="243691"/>
                </a:cubicBezTo>
                <a:cubicBezTo>
                  <a:pt x="244392" y="243691"/>
                  <a:pt x="244392" y="243691"/>
                  <a:pt x="297030" y="243691"/>
                </a:cubicBezTo>
                <a:cubicBezTo>
                  <a:pt x="297030" y="243691"/>
                  <a:pt x="297030" y="243691"/>
                  <a:pt x="327109" y="239921"/>
                </a:cubicBezTo>
                <a:cubicBezTo>
                  <a:pt x="327109" y="239921"/>
                  <a:pt x="327109" y="239921"/>
                  <a:pt x="372227" y="221069"/>
                </a:cubicBezTo>
                <a:cubicBezTo>
                  <a:pt x="372227" y="221069"/>
                  <a:pt x="372227" y="221069"/>
                  <a:pt x="402306" y="209758"/>
                </a:cubicBezTo>
                <a:cubicBezTo>
                  <a:pt x="402306" y="209758"/>
                  <a:pt x="402306" y="209758"/>
                  <a:pt x="436145" y="205988"/>
                </a:cubicBezTo>
                <a:cubicBezTo>
                  <a:pt x="436145" y="205988"/>
                  <a:pt x="436145" y="205988"/>
                  <a:pt x="500063" y="198447"/>
                </a:cubicBezTo>
                <a:close/>
                <a:moveTo>
                  <a:pt x="673100" y="176222"/>
                </a:moveTo>
                <a:cubicBezTo>
                  <a:pt x="673100" y="176222"/>
                  <a:pt x="673100" y="176222"/>
                  <a:pt x="638810" y="183631"/>
                </a:cubicBezTo>
                <a:cubicBezTo>
                  <a:pt x="638810" y="183631"/>
                  <a:pt x="638810" y="183631"/>
                  <a:pt x="619760" y="187335"/>
                </a:cubicBezTo>
                <a:cubicBezTo>
                  <a:pt x="619760" y="187335"/>
                  <a:pt x="596900" y="187335"/>
                  <a:pt x="600710" y="179926"/>
                </a:cubicBezTo>
                <a:lnTo>
                  <a:pt x="673100" y="176222"/>
                </a:lnTo>
                <a:close/>
                <a:moveTo>
                  <a:pt x="762454" y="127010"/>
                </a:moveTo>
                <a:cubicBezTo>
                  <a:pt x="770165" y="127010"/>
                  <a:pt x="777876" y="134418"/>
                  <a:pt x="777876" y="134418"/>
                </a:cubicBezTo>
                <a:cubicBezTo>
                  <a:pt x="777876" y="134418"/>
                  <a:pt x="754744" y="149235"/>
                  <a:pt x="750888" y="134418"/>
                </a:cubicBezTo>
                <a:cubicBezTo>
                  <a:pt x="762454" y="127010"/>
                  <a:pt x="762454" y="127010"/>
                  <a:pt x="762454" y="127010"/>
                </a:cubicBezTo>
                <a:close/>
                <a:moveTo>
                  <a:pt x="327437" y="113979"/>
                </a:moveTo>
                <a:cubicBezTo>
                  <a:pt x="341548" y="114442"/>
                  <a:pt x="356600" y="117220"/>
                  <a:pt x="360363" y="126481"/>
                </a:cubicBezTo>
                <a:cubicBezTo>
                  <a:pt x="288867" y="130185"/>
                  <a:pt x="288867" y="130185"/>
                  <a:pt x="288867" y="130185"/>
                </a:cubicBezTo>
                <a:cubicBezTo>
                  <a:pt x="288867" y="130185"/>
                  <a:pt x="270052" y="141298"/>
                  <a:pt x="262526" y="130185"/>
                </a:cubicBezTo>
                <a:cubicBezTo>
                  <a:pt x="262526" y="130185"/>
                  <a:pt x="258763" y="115368"/>
                  <a:pt x="273815" y="119073"/>
                </a:cubicBezTo>
                <a:cubicBezTo>
                  <a:pt x="300155" y="115368"/>
                  <a:pt x="300155" y="115368"/>
                  <a:pt x="300155" y="115368"/>
                </a:cubicBezTo>
                <a:cubicBezTo>
                  <a:pt x="300155" y="115368"/>
                  <a:pt x="313326" y="113516"/>
                  <a:pt x="327437" y="113979"/>
                </a:cubicBezTo>
                <a:close/>
                <a:moveTo>
                  <a:pt x="782109" y="65732"/>
                </a:moveTo>
                <a:cubicBezTo>
                  <a:pt x="785813" y="61922"/>
                  <a:pt x="808038" y="69542"/>
                  <a:pt x="808038" y="69542"/>
                </a:cubicBezTo>
                <a:lnTo>
                  <a:pt x="789517" y="80972"/>
                </a:lnTo>
                <a:cubicBezTo>
                  <a:pt x="789517" y="80972"/>
                  <a:pt x="789517" y="80972"/>
                  <a:pt x="778404" y="80972"/>
                </a:cubicBezTo>
                <a:cubicBezTo>
                  <a:pt x="778404" y="80972"/>
                  <a:pt x="774700" y="69542"/>
                  <a:pt x="782109" y="65732"/>
                </a:cubicBezTo>
                <a:close/>
                <a:moveTo>
                  <a:pt x="508496" y="535"/>
                </a:moveTo>
                <a:cubicBezTo>
                  <a:pt x="514152" y="-901"/>
                  <a:pt x="521692" y="57"/>
                  <a:pt x="529233" y="9628"/>
                </a:cubicBezTo>
                <a:cubicBezTo>
                  <a:pt x="566936" y="13457"/>
                  <a:pt x="566936" y="13457"/>
                  <a:pt x="566936" y="13457"/>
                </a:cubicBezTo>
                <a:cubicBezTo>
                  <a:pt x="619721" y="24943"/>
                  <a:pt x="619721" y="24943"/>
                  <a:pt x="619721" y="24943"/>
                </a:cubicBezTo>
                <a:cubicBezTo>
                  <a:pt x="661194" y="40258"/>
                  <a:pt x="661194" y="40258"/>
                  <a:pt x="661194" y="40258"/>
                </a:cubicBezTo>
                <a:lnTo>
                  <a:pt x="706438" y="40258"/>
                </a:lnTo>
                <a:cubicBezTo>
                  <a:pt x="706438" y="40258"/>
                  <a:pt x="683816" y="55573"/>
                  <a:pt x="661194" y="47915"/>
                </a:cubicBezTo>
                <a:cubicBezTo>
                  <a:pt x="631032" y="36429"/>
                  <a:pt x="631032" y="36429"/>
                  <a:pt x="631032" y="36429"/>
                </a:cubicBezTo>
                <a:cubicBezTo>
                  <a:pt x="585788" y="24943"/>
                  <a:pt x="585788" y="24943"/>
                  <a:pt x="585788" y="24943"/>
                </a:cubicBezTo>
                <a:cubicBezTo>
                  <a:pt x="540544" y="21115"/>
                  <a:pt x="540544" y="21115"/>
                  <a:pt x="540544" y="21115"/>
                </a:cubicBezTo>
                <a:cubicBezTo>
                  <a:pt x="540544" y="21115"/>
                  <a:pt x="495300" y="24943"/>
                  <a:pt x="499070" y="5800"/>
                </a:cubicBezTo>
                <a:cubicBezTo>
                  <a:pt x="499070" y="5800"/>
                  <a:pt x="502841" y="1971"/>
                  <a:pt x="508496" y="53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F4A5-E258-44DD-B0AB-1CC7F55E6974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523E-59DF-48B7-A219-699EFD3FC51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直接连接符 7"/>
          <p:cNvSpPr/>
          <p:nvPr/>
        </p:nvSpPr>
        <p:spPr>
          <a:xfrm>
            <a:off x="1184400" y="4979880"/>
            <a:ext cx="6825960" cy="0"/>
          </a:xfrm>
          <a:prstGeom prst="line">
            <a:avLst/>
          </a:prstGeom>
          <a:ln w="38160">
            <a:solidFill>
              <a:srgbClr val="fad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6AF-3548-4C79-8084-58A8616D5F14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5261-74F7-4471-AD52-D8A1BB92ADF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标题 3" descr=""/>
          <p:cNvPicPr/>
          <p:nvPr/>
        </p:nvPicPr>
        <p:blipFill>
          <a:blip r:embed="rId1"/>
          <a:stretch/>
        </p:blipFill>
        <p:spPr>
          <a:xfrm>
            <a:off x="193680" y="1301760"/>
            <a:ext cx="6345360" cy="1208160"/>
          </a:xfrm>
          <a:prstGeom prst="rect">
            <a:avLst/>
          </a:prstGeom>
          <a:ln w="0">
            <a:noFill/>
          </a:ln>
        </p:spPr>
      </p:pic>
      <p:pic>
        <p:nvPicPr>
          <p:cNvPr id="526" name="副标题 4" descr=""/>
          <p:cNvPicPr/>
          <p:nvPr/>
        </p:nvPicPr>
        <p:blipFill>
          <a:blip r:embed="rId2"/>
          <a:stretch/>
        </p:blipFill>
        <p:spPr>
          <a:xfrm>
            <a:off x="193680" y="2529000"/>
            <a:ext cx="60912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标题 4" descr=""/>
          <p:cNvPicPr/>
          <p:nvPr/>
        </p:nvPicPr>
        <p:blipFill>
          <a:blip r:embed="rId1"/>
          <a:stretch/>
        </p:blipFill>
        <p:spPr>
          <a:xfrm>
            <a:off x="419040" y="326880"/>
            <a:ext cx="8291520" cy="698760"/>
          </a:xfrm>
          <a:prstGeom prst="rect">
            <a:avLst/>
          </a:prstGeom>
          <a:ln w="0">
            <a:noFill/>
          </a:ln>
        </p:spPr>
      </p:pic>
      <p:sp>
        <p:nvSpPr>
          <p:cNvPr id="637" name="直接连接符 1"/>
          <p:cNvSpPr/>
          <p:nvPr/>
        </p:nvSpPr>
        <p:spPr>
          <a:xfrm>
            <a:off x="395280" y="3662280"/>
            <a:ext cx="8315280" cy="2880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直接连接符 2"/>
          <p:cNvSpPr/>
          <p:nvPr/>
        </p:nvSpPr>
        <p:spPr>
          <a:xfrm>
            <a:off x="395280" y="1197000"/>
            <a:ext cx="44280" cy="494676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直接连接符 3"/>
          <p:cNvSpPr/>
          <p:nvPr/>
        </p:nvSpPr>
        <p:spPr>
          <a:xfrm>
            <a:off x="395280" y="1197000"/>
            <a:ext cx="8282160" cy="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直接连接符 7"/>
          <p:cNvSpPr/>
          <p:nvPr/>
        </p:nvSpPr>
        <p:spPr>
          <a:xfrm>
            <a:off x="8748720" y="1197000"/>
            <a:ext cx="39600" cy="498780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直接连接符 8"/>
          <p:cNvSpPr/>
          <p:nvPr/>
        </p:nvSpPr>
        <p:spPr>
          <a:xfrm>
            <a:off x="444600" y="6164280"/>
            <a:ext cx="8304120" cy="144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直接连接符 9"/>
          <p:cNvSpPr/>
          <p:nvPr/>
        </p:nvSpPr>
        <p:spPr>
          <a:xfrm>
            <a:off x="2627280" y="1197000"/>
            <a:ext cx="73080" cy="496872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直接连接符 10"/>
          <p:cNvSpPr/>
          <p:nvPr/>
        </p:nvSpPr>
        <p:spPr>
          <a:xfrm>
            <a:off x="5651640" y="3716280"/>
            <a:ext cx="72720" cy="244944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矩形 10"/>
          <p:cNvSpPr/>
          <p:nvPr/>
        </p:nvSpPr>
        <p:spPr>
          <a:xfrm>
            <a:off x="687240" y="73980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usiness mod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组合 36"/>
          <p:cNvGrpSpPr/>
          <p:nvPr/>
        </p:nvGrpSpPr>
        <p:grpSpPr>
          <a:xfrm>
            <a:off x="822240" y="1819440"/>
            <a:ext cx="2190960" cy="1969920"/>
            <a:chOff x="822240" y="1819440"/>
            <a:chExt cx="2190960" cy="1969920"/>
          </a:xfrm>
        </p:grpSpPr>
        <p:sp>
          <p:nvSpPr>
            <p:cNvPr id="529" name="矩形 5"/>
            <p:cNvSpPr/>
            <p:nvPr/>
          </p:nvSpPr>
          <p:spPr>
            <a:xfrm>
              <a:off x="1398600" y="189072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矩形 4"/>
            <p:cNvSpPr/>
            <p:nvPr/>
          </p:nvSpPr>
          <p:spPr>
            <a:xfrm>
              <a:off x="822240" y="1890720"/>
              <a:ext cx="1761480" cy="16250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플랫폼형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任意多边形 8"/>
            <p:cNvSpPr/>
            <p:nvPr/>
          </p:nvSpPr>
          <p:spPr>
            <a:xfrm>
              <a:off x="1717920" y="181944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组合 37"/>
          <p:cNvGrpSpPr/>
          <p:nvPr/>
        </p:nvGrpSpPr>
        <p:grpSpPr>
          <a:xfrm>
            <a:off x="3476520" y="1819440"/>
            <a:ext cx="2190960" cy="1969920"/>
            <a:chOff x="3476520" y="1819440"/>
            <a:chExt cx="2190960" cy="1969920"/>
          </a:xfrm>
        </p:grpSpPr>
        <p:sp>
          <p:nvSpPr>
            <p:cNvPr id="533" name="矩形 5"/>
            <p:cNvSpPr/>
            <p:nvPr/>
          </p:nvSpPr>
          <p:spPr>
            <a:xfrm>
              <a:off x="4052880" y="189072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矩形 4"/>
            <p:cNvSpPr/>
            <p:nvPr/>
          </p:nvSpPr>
          <p:spPr>
            <a:xfrm>
              <a:off x="3476520" y="1890720"/>
              <a:ext cx="1761480" cy="1625040"/>
            </a:xfrm>
            <a:prstGeom prst="pie">
              <a:avLst/>
            </a:prstGeom>
            <a:solidFill>
              <a:srgbClr val="f8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집합형    중개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任意多边形 15"/>
            <p:cNvSpPr/>
            <p:nvPr/>
          </p:nvSpPr>
          <p:spPr>
            <a:xfrm>
              <a:off x="4372200" y="181944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组合 38"/>
          <p:cNvGrpSpPr/>
          <p:nvPr/>
        </p:nvGrpSpPr>
        <p:grpSpPr>
          <a:xfrm>
            <a:off x="6130800" y="1819440"/>
            <a:ext cx="2190960" cy="1969920"/>
            <a:chOff x="6130800" y="1819440"/>
            <a:chExt cx="2190960" cy="1969920"/>
          </a:xfrm>
        </p:grpSpPr>
        <p:sp>
          <p:nvSpPr>
            <p:cNvPr id="537" name="矩形 5"/>
            <p:cNvSpPr/>
            <p:nvPr/>
          </p:nvSpPr>
          <p:spPr>
            <a:xfrm>
              <a:off x="6707160" y="189072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6130800" y="1890720"/>
              <a:ext cx="1761480" cy="1625040"/>
            </a:xfrm>
            <a:prstGeom prst="pie">
              <a:avLst/>
            </a:prstGeom>
            <a:solidFill>
              <a:srgbClr val="ce8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정보형    분석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任意多边形 19"/>
            <p:cNvSpPr/>
            <p:nvPr/>
          </p:nvSpPr>
          <p:spPr>
            <a:xfrm>
              <a:off x="7026480" y="181944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组合 34"/>
          <p:cNvGrpSpPr/>
          <p:nvPr/>
        </p:nvGrpSpPr>
        <p:grpSpPr>
          <a:xfrm>
            <a:off x="2149560" y="4029120"/>
            <a:ext cx="2190600" cy="1969920"/>
            <a:chOff x="2149560" y="4029120"/>
            <a:chExt cx="2190600" cy="1969920"/>
          </a:xfrm>
        </p:grpSpPr>
        <p:sp>
          <p:nvSpPr>
            <p:cNvPr id="541" name="矩形 5"/>
            <p:cNvSpPr/>
            <p:nvPr/>
          </p:nvSpPr>
          <p:spPr>
            <a:xfrm>
              <a:off x="2725560" y="410040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矩形 4"/>
            <p:cNvSpPr/>
            <p:nvPr/>
          </p:nvSpPr>
          <p:spPr>
            <a:xfrm>
              <a:off x="2149560" y="4100400"/>
              <a:ext cx="1761120" cy="1625040"/>
            </a:xfrm>
            <a:prstGeom prst="pie">
              <a:avLst/>
            </a:prstGeom>
            <a:solidFill>
              <a:srgbClr val="ce8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기존사업 보환형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27"/>
            <p:cNvSpPr/>
            <p:nvPr/>
          </p:nvSpPr>
          <p:spPr>
            <a:xfrm>
              <a:off x="3045240" y="402912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4" name="组合 33"/>
          <p:cNvGrpSpPr/>
          <p:nvPr/>
        </p:nvGrpSpPr>
        <p:grpSpPr>
          <a:xfrm>
            <a:off x="4803840" y="4029120"/>
            <a:ext cx="2190600" cy="1969920"/>
            <a:chOff x="4803840" y="4029120"/>
            <a:chExt cx="2190600" cy="1969920"/>
          </a:xfrm>
        </p:grpSpPr>
        <p:sp>
          <p:nvSpPr>
            <p:cNvPr id="545" name="矩形 5"/>
            <p:cNvSpPr/>
            <p:nvPr/>
          </p:nvSpPr>
          <p:spPr>
            <a:xfrm>
              <a:off x="5379840" y="410040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矩形 4"/>
            <p:cNvSpPr/>
            <p:nvPr/>
          </p:nvSpPr>
          <p:spPr>
            <a:xfrm>
              <a:off x="4803840" y="4100400"/>
              <a:ext cx="1761120" cy="16250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가치재창조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任意多边形 31"/>
            <p:cNvSpPr/>
            <p:nvPr/>
          </p:nvSpPr>
          <p:spPr>
            <a:xfrm>
              <a:off x="5699520" y="402912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1"/>
          <p:cNvSpPr/>
          <p:nvPr/>
        </p:nvSpPr>
        <p:spPr>
          <a:xfrm>
            <a:off x="6165720" y="2316240"/>
            <a:ext cx="16369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e64823"/>
                </a:solidFill>
                <a:latin typeface="Arial"/>
              </a:rPr>
              <a:t>대중교통 서비스 주준 하락 및 고객 불편상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9"/>
          <p:cNvSpPr/>
          <p:nvPr/>
        </p:nvSpPr>
        <p:spPr>
          <a:xfrm>
            <a:off x="4222800" y="1765440"/>
            <a:ext cx="1942920" cy="1315800"/>
          </a:xfrm>
          <a:custGeom>
            <a:avLst/>
            <a:gdLst/>
            <a:ahLst/>
            <a:rect l="l" t="t" r="r" b="b"/>
            <a:pathLst>
              <a:path w="518" h="351">
                <a:moveTo>
                  <a:pt x="0" y="0"/>
                </a:moveTo>
                <a:cubicBezTo>
                  <a:pt x="411" y="0"/>
                  <a:pt x="260" y="351"/>
                  <a:pt x="518" y="340"/>
                </a:cubicBezTo>
              </a:path>
            </a:pathLst>
          </a:custGeom>
          <a:noFill/>
          <a:ln w="0">
            <a:solidFill>
              <a:srgbClr val="e6482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矩形 61"/>
          <p:cNvSpPr/>
          <p:nvPr/>
        </p:nvSpPr>
        <p:spPr>
          <a:xfrm>
            <a:off x="1390680" y="1509840"/>
            <a:ext cx="2832120" cy="43632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번수가 너무많다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38"/>
          <p:cNvSpPr/>
          <p:nvPr/>
        </p:nvSpPr>
        <p:spPr>
          <a:xfrm>
            <a:off x="4222800" y="2367000"/>
            <a:ext cx="1942920" cy="696960"/>
          </a:xfrm>
          <a:custGeom>
            <a:avLst/>
            <a:gdLst/>
            <a:ahLst/>
            <a:rect l="l" t="t" r="r" b="b"/>
            <a:pathLst>
              <a:path w="518" h="95">
                <a:moveTo>
                  <a:pt x="0" y="0"/>
                </a:moveTo>
                <a:cubicBezTo>
                  <a:pt x="411" y="0"/>
                  <a:pt x="260" y="95"/>
                  <a:pt x="518" y="92"/>
                </a:cubicBezTo>
              </a:path>
            </a:pathLst>
          </a:custGeom>
          <a:noFill/>
          <a:ln w="0">
            <a:solidFill>
              <a:srgbClr val="f893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矩形 63"/>
          <p:cNvSpPr/>
          <p:nvPr/>
        </p:nvSpPr>
        <p:spPr>
          <a:xfrm>
            <a:off x="1390680" y="2174760"/>
            <a:ext cx="2832120" cy="435240"/>
          </a:xfrm>
          <a:prstGeom prst="rect">
            <a:avLst/>
          </a:prstGeom>
          <a:solidFill>
            <a:srgbClr val="f8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기다리리가  귀찮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41"/>
          <p:cNvSpPr/>
          <p:nvPr/>
        </p:nvSpPr>
        <p:spPr>
          <a:xfrm>
            <a:off x="4222800" y="3040200"/>
            <a:ext cx="1942920" cy="744480"/>
          </a:xfrm>
          <a:custGeom>
            <a:avLst/>
            <a:gdLst/>
            <a:ahLst/>
            <a:rect l="l" t="t" r="r" b="b"/>
            <a:pathLst>
              <a:path w="518" h="117">
                <a:moveTo>
                  <a:pt x="0" y="117"/>
                </a:moveTo>
                <a:cubicBezTo>
                  <a:pt x="411" y="117"/>
                  <a:pt x="260" y="0"/>
                  <a:pt x="518" y="4"/>
                </a:cubicBezTo>
              </a:path>
            </a:pathLst>
          </a:custGeom>
          <a:noFill/>
          <a:ln w="0">
            <a:solidFill>
              <a:srgbClr val="f893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矩形 64"/>
          <p:cNvSpPr/>
          <p:nvPr/>
        </p:nvSpPr>
        <p:spPr>
          <a:xfrm>
            <a:off x="1390680" y="3502080"/>
            <a:ext cx="2832120" cy="434880"/>
          </a:xfrm>
          <a:prstGeom prst="rect">
            <a:avLst/>
          </a:prstGeom>
          <a:solidFill>
            <a:srgbClr val="f8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너무 느리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42"/>
          <p:cNvSpPr/>
          <p:nvPr/>
        </p:nvSpPr>
        <p:spPr>
          <a:xfrm>
            <a:off x="4222800" y="3021120"/>
            <a:ext cx="1942920" cy="1322280"/>
          </a:xfrm>
          <a:custGeom>
            <a:avLst/>
            <a:gdLst/>
            <a:ahLst/>
            <a:rect l="l" t="t" r="r" b="b"/>
            <a:pathLst>
              <a:path w="518" h="327">
                <a:moveTo>
                  <a:pt x="0" y="327"/>
                </a:moveTo>
                <a:cubicBezTo>
                  <a:pt x="411" y="327"/>
                  <a:pt x="260" y="0"/>
                  <a:pt x="518" y="10"/>
                </a:cubicBezTo>
              </a:path>
            </a:pathLst>
          </a:custGeom>
          <a:noFill/>
          <a:ln w="0">
            <a:solidFill>
              <a:srgbClr val="e6482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矩形 66"/>
          <p:cNvSpPr/>
          <p:nvPr/>
        </p:nvSpPr>
        <p:spPr>
          <a:xfrm>
            <a:off x="1390680" y="4165560"/>
            <a:ext cx="2832120" cy="43488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시간 미준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矩形 21"/>
          <p:cNvSpPr/>
          <p:nvPr/>
        </p:nvSpPr>
        <p:spPr>
          <a:xfrm>
            <a:off x="1390680" y="2838600"/>
            <a:ext cx="2832120" cy="43488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로선이 복잡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222800" y="3054240"/>
            <a:ext cx="1835280" cy="360"/>
            <a:chOff x="4222800" y="3054240"/>
            <a:chExt cx="1835280" cy="360"/>
          </a:xfrm>
        </p:grpSpPr>
        <p:sp>
          <p:nvSpPr>
            <p:cNvPr id="559" name="Line 43"/>
            <p:cNvSpPr/>
            <p:nvPr/>
          </p:nvSpPr>
          <p:spPr>
            <a:xfrm>
              <a:off x="4222800" y="3054240"/>
              <a:ext cx="1835280" cy="0"/>
            </a:xfrm>
            <a:prstGeom prst="line">
              <a:avLst/>
            </a:prstGeom>
            <a:ln w="0">
              <a:solidFill>
                <a:srgbClr val="e648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222800" y="3054240"/>
              <a:ext cx="18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Freeform 227"/>
          <p:cNvSpPr/>
          <p:nvPr/>
        </p:nvSpPr>
        <p:spPr>
          <a:xfrm>
            <a:off x="6045120" y="2960640"/>
            <a:ext cx="244440" cy="187200"/>
          </a:xfrm>
          <a:custGeom>
            <a:avLst/>
            <a:gdLst/>
            <a:ahLst/>
            <a:rect l="l" t="t" r="r" b="b"/>
            <a:pathLst>
              <a:path w="154" h="118">
                <a:moveTo>
                  <a:pt x="0" y="0"/>
                </a:moveTo>
                <a:lnTo>
                  <a:pt x="154" y="59"/>
                </a:lnTo>
                <a:lnTo>
                  <a:pt x="0" y="118"/>
                </a:lnTo>
                <a:lnTo>
                  <a:pt x="0" y="0"/>
                </a:lnTo>
                <a:close/>
              </a:path>
            </a:pathLst>
          </a:custGeom>
          <a:solidFill>
            <a:srgbClr val="77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矩形 14"/>
          <p:cNvSpPr/>
          <p:nvPr/>
        </p:nvSpPr>
        <p:spPr>
          <a:xfrm>
            <a:off x="1332000" y="547560"/>
            <a:ext cx="6411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64823"/>
                </a:solidFill>
                <a:latin typeface="Arial"/>
              </a:rPr>
              <a:t>연길</a:t>
            </a:r>
            <a:r>
              <a:rPr b="1" lang="en-US" sz="1800" spc="-1" strike="noStrike">
                <a:solidFill>
                  <a:srgbClr val="e64823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e64823"/>
                </a:solidFill>
                <a:latin typeface="Arial"/>
              </a:rPr>
              <a:t>뻐</a:t>
            </a:r>
            <a:r>
              <a:rPr b="1" lang="ko-KR" sz="1800" spc="-1" strike="noStrike">
                <a:solidFill>
                  <a:srgbClr val="ec7016"/>
                </a:solidFill>
                <a:latin typeface="Arial"/>
              </a:rPr>
              <a:t>스 이용자의 불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直接连接符 50"/>
          <p:cNvSpPr/>
          <p:nvPr/>
        </p:nvSpPr>
        <p:spPr>
          <a:xfrm>
            <a:off x="1224000" y="2305080"/>
            <a:ext cx="6696000" cy="0"/>
          </a:xfrm>
          <a:prstGeom prst="line">
            <a:avLst/>
          </a:prstGeom>
          <a:ln w="28440">
            <a:solidFill>
              <a:srgbClr val="e648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9"/>
          <p:cNvGrpSpPr/>
          <p:nvPr/>
        </p:nvGrpSpPr>
        <p:grpSpPr>
          <a:xfrm>
            <a:off x="1482840" y="2305080"/>
            <a:ext cx="1398600" cy="2684520"/>
            <a:chOff x="1482840" y="2305080"/>
            <a:chExt cx="1398600" cy="2684520"/>
          </a:xfrm>
        </p:grpSpPr>
        <p:sp>
          <p:nvSpPr>
            <p:cNvPr id="565" name="椭圆 51"/>
            <p:cNvSpPr/>
            <p:nvPr/>
          </p:nvSpPr>
          <p:spPr>
            <a:xfrm>
              <a:off x="1713600" y="2665080"/>
              <a:ext cx="936720" cy="936000"/>
            </a:xfrm>
            <a:prstGeom prst="ellipse">
              <a:avLst/>
            </a:prstGeom>
            <a:noFill/>
            <a:ln w="2556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直接连接符 52"/>
            <p:cNvSpPr/>
            <p:nvPr/>
          </p:nvSpPr>
          <p:spPr>
            <a:xfrm>
              <a:off x="2177640" y="2305080"/>
              <a:ext cx="4320" cy="360000"/>
            </a:xfrm>
            <a:prstGeom prst="line">
              <a:avLst/>
            </a:prstGeom>
            <a:ln w="2844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椭圆 62"/>
            <p:cNvSpPr/>
            <p:nvPr/>
          </p:nvSpPr>
          <p:spPr>
            <a:xfrm>
              <a:off x="1785600" y="2737080"/>
              <a:ext cx="792720" cy="792000"/>
            </a:xfrm>
            <a:prstGeom prst="ellips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수량 증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Box 76"/>
            <p:cNvSpPr/>
            <p:nvPr/>
          </p:nvSpPr>
          <p:spPr>
            <a:xfrm>
              <a:off x="1482840" y="3817080"/>
              <a:ext cx="139860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뻐스를 더 많이 배치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组合 11"/>
          <p:cNvGrpSpPr/>
          <p:nvPr/>
        </p:nvGrpSpPr>
        <p:grpSpPr>
          <a:xfrm>
            <a:off x="3076560" y="2305080"/>
            <a:ext cx="1397160" cy="2684520"/>
            <a:chOff x="3076560" y="2305080"/>
            <a:chExt cx="1397160" cy="2684520"/>
          </a:xfrm>
        </p:grpSpPr>
        <p:sp>
          <p:nvSpPr>
            <p:cNvPr id="570" name="椭圆 53"/>
            <p:cNvSpPr/>
            <p:nvPr/>
          </p:nvSpPr>
          <p:spPr>
            <a:xfrm>
              <a:off x="3307680" y="2665080"/>
              <a:ext cx="936000" cy="936000"/>
            </a:xfrm>
            <a:prstGeom prst="ellipse">
              <a:avLst/>
            </a:prstGeom>
            <a:noFill/>
            <a:ln w="2556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直接连接符 54"/>
            <p:cNvSpPr/>
            <p:nvPr/>
          </p:nvSpPr>
          <p:spPr>
            <a:xfrm>
              <a:off x="3775680" y="2305080"/>
              <a:ext cx="0" cy="360000"/>
            </a:xfrm>
            <a:prstGeom prst="line">
              <a:avLst/>
            </a:prstGeom>
            <a:ln w="2844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椭圆 65"/>
            <p:cNvSpPr/>
            <p:nvPr/>
          </p:nvSpPr>
          <p:spPr>
            <a:xfrm>
              <a:off x="3386520" y="2737080"/>
              <a:ext cx="792000" cy="792000"/>
            </a:xfrm>
            <a:prstGeom prst="ellipse">
              <a:avLst/>
            </a:prstGeom>
            <a:solidFill>
              <a:srgbClr val="f8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스피드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Box 77"/>
            <p:cNvSpPr/>
            <p:nvPr/>
          </p:nvSpPr>
          <p:spPr>
            <a:xfrm>
              <a:off x="3076560" y="3817080"/>
              <a:ext cx="139716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사고 발생률 증가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연비증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组合 12"/>
          <p:cNvGrpSpPr/>
          <p:nvPr/>
        </p:nvGrpSpPr>
        <p:grpSpPr>
          <a:xfrm>
            <a:off x="4643280" y="2276640"/>
            <a:ext cx="1398600" cy="2685960"/>
            <a:chOff x="4643280" y="2276640"/>
            <a:chExt cx="1398600" cy="2685960"/>
          </a:xfrm>
        </p:grpSpPr>
        <p:sp>
          <p:nvSpPr>
            <p:cNvPr id="575" name="椭圆 55"/>
            <p:cNvSpPr/>
            <p:nvPr/>
          </p:nvSpPr>
          <p:spPr>
            <a:xfrm>
              <a:off x="4867200" y="2636640"/>
              <a:ext cx="936720" cy="936360"/>
            </a:xfrm>
            <a:prstGeom prst="ellipse">
              <a:avLst/>
            </a:prstGeom>
            <a:noFill/>
            <a:ln w="2556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直接连接符 56"/>
            <p:cNvSpPr/>
            <p:nvPr/>
          </p:nvSpPr>
          <p:spPr>
            <a:xfrm>
              <a:off x="5335920" y="2276640"/>
              <a:ext cx="0" cy="360000"/>
            </a:xfrm>
            <a:prstGeom prst="line">
              <a:avLst/>
            </a:prstGeom>
            <a:ln w="2844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椭圆 68"/>
            <p:cNvSpPr/>
            <p:nvPr/>
          </p:nvSpPr>
          <p:spPr>
            <a:xfrm>
              <a:off x="4942080" y="2708640"/>
              <a:ext cx="792720" cy="792360"/>
            </a:xfrm>
            <a:prstGeom prst="ellips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시간단축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Box 78"/>
            <p:cNvSpPr/>
            <p:nvPr/>
          </p:nvSpPr>
          <p:spPr>
            <a:xfrm>
              <a:off x="4643280" y="3789360"/>
              <a:ext cx="139860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수량 증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组合 13"/>
          <p:cNvGrpSpPr/>
          <p:nvPr/>
        </p:nvGrpSpPr>
        <p:grpSpPr>
          <a:xfrm>
            <a:off x="6262560" y="2305080"/>
            <a:ext cx="1398600" cy="2684520"/>
            <a:chOff x="6262560" y="2305080"/>
            <a:chExt cx="1398600" cy="2684520"/>
          </a:xfrm>
        </p:grpSpPr>
        <p:sp>
          <p:nvSpPr>
            <p:cNvPr id="580" name="椭圆 57"/>
            <p:cNvSpPr/>
            <p:nvPr/>
          </p:nvSpPr>
          <p:spPr>
            <a:xfrm>
              <a:off x="6487920" y="2665080"/>
              <a:ext cx="936720" cy="936000"/>
            </a:xfrm>
            <a:prstGeom prst="ellipse">
              <a:avLst/>
            </a:prstGeom>
            <a:noFill/>
            <a:ln w="2556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直接连接符 58"/>
            <p:cNvSpPr/>
            <p:nvPr/>
          </p:nvSpPr>
          <p:spPr>
            <a:xfrm>
              <a:off x="6956640" y="2305080"/>
              <a:ext cx="0" cy="360000"/>
            </a:xfrm>
            <a:prstGeom prst="line">
              <a:avLst/>
            </a:prstGeom>
            <a:ln w="2844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椭圆 71"/>
            <p:cNvSpPr/>
            <p:nvPr/>
          </p:nvSpPr>
          <p:spPr>
            <a:xfrm>
              <a:off x="6558120" y="2737080"/>
              <a:ext cx="792720" cy="792000"/>
            </a:xfrm>
            <a:prstGeom prst="ellipse">
              <a:avLst/>
            </a:prstGeom>
            <a:solidFill>
              <a:srgbClr val="f8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시간준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Box 79"/>
            <p:cNvSpPr/>
            <p:nvPr/>
          </p:nvSpPr>
          <p:spPr>
            <a:xfrm>
              <a:off x="6262560" y="3817080"/>
              <a:ext cx="139860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운전차 피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矩形 22"/>
          <p:cNvSpPr/>
          <p:nvPr/>
        </p:nvSpPr>
        <p:spPr>
          <a:xfrm>
            <a:off x="1695600" y="1427040"/>
            <a:ext cx="5752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64823"/>
                </a:solidFill>
                <a:latin typeface="Arial"/>
                <a:ea typeface="黑体"/>
              </a:rPr>
              <a:t>비용 증가</a:t>
            </a:r>
            <a:r>
              <a:rPr b="1" lang="en-US" sz="2000" spc="-1" strike="noStrike">
                <a:solidFill>
                  <a:srgbClr val="e64823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上箭头 1"/>
          <p:cNvSpPr/>
          <p:nvPr/>
        </p:nvSpPr>
        <p:spPr>
          <a:xfrm>
            <a:off x="4282920" y="1844640"/>
            <a:ext cx="576360" cy="4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椭圆 6"/>
          <p:cNvSpPr/>
          <p:nvPr/>
        </p:nvSpPr>
        <p:spPr>
          <a:xfrm>
            <a:off x="4643280" y="331920"/>
            <a:ext cx="1297080" cy="1224000"/>
          </a:xfrm>
          <a:prstGeom prst="ellipse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광고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椭圆 8"/>
          <p:cNvSpPr/>
          <p:nvPr/>
        </p:nvSpPr>
        <p:spPr>
          <a:xfrm>
            <a:off x="4572000" y="2637000"/>
            <a:ext cx="1511280" cy="1439640"/>
          </a:xfrm>
          <a:prstGeom prst="ellipse">
            <a:avLst/>
          </a:prstGeom>
          <a:solidFill>
            <a:srgbClr val="e64823"/>
          </a:solidFill>
          <a:ln w="12600">
            <a:solidFill>
              <a:srgbClr val="a93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Birth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데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椭圆 9"/>
          <p:cNvSpPr/>
          <p:nvPr/>
        </p:nvSpPr>
        <p:spPr>
          <a:xfrm>
            <a:off x="4572000" y="5445000"/>
            <a:ext cx="1584360" cy="1368720"/>
          </a:xfrm>
          <a:prstGeom prst="ellipse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뻐스회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椭圆 10"/>
          <p:cNvSpPr/>
          <p:nvPr/>
        </p:nvSpPr>
        <p:spPr>
          <a:xfrm>
            <a:off x="7740720" y="2708280"/>
            <a:ext cx="1439640" cy="1368360"/>
          </a:xfrm>
          <a:prstGeom prst="ellipse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사용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矩形 12"/>
          <p:cNvSpPr/>
          <p:nvPr/>
        </p:nvSpPr>
        <p:spPr>
          <a:xfrm>
            <a:off x="250920" y="2492280"/>
            <a:ext cx="2303280" cy="1793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矩形 14"/>
          <p:cNvSpPr/>
          <p:nvPr/>
        </p:nvSpPr>
        <p:spPr>
          <a:xfrm>
            <a:off x="395280" y="2637000"/>
            <a:ext cx="1860480" cy="40464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제조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5"/>
          <p:cNvSpPr/>
          <p:nvPr/>
        </p:nvSpPr>
        <p:spPr>
          <a:xfrm>
            <a:off x="395280" y="3355920"/>
            <a:ext cx="1871640" cy="66996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정보를 가진사용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矩形 16"/>
          <p:cNvSpPr/>
          <p:nvPr/>
        </p:nvSpPr>
        <p:spPr>
          <a:xfrm>
            <a:off x="1547640" y="620640"/>
            <a:ext cx="2457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7016"/>
                </a:solidFill>
                <a:latin typeface="Arial"/>
              </a:rPr>
              <a:t>BBith </a:t>
            </a:r>
            <a:r>
              <a:rPr b="1" lang="ko-KR" sz="1800" spc="-1" strike="noStrike">
                <a:solidFill>
                  <a:srgbClr val="ec7016"/>
                </a:solidFill>
                <a:latin typeface="Arial"/>
              </a:rPr>
              <a:t>데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矩形 18"/>
          <p:cNvSpPr/>
          <p:nvPr/>
        </p:nvSpPr>
        <p:spPr>
          <a:xfrm>
            <a:off x="250920" y="1916280"/>
            <a:ext cx="23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c7016"/>
                </a:solidFill>
                <a:latin typeface="Arial"/>
              </a:rPr>
              <a:t>정보제공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5" name="直接箭头连接符 21"/>
          <p:cNvCxnSpPr>
            <a:stCxn id="587" idx="6"/>
            <a:endCxn id="589" idx="2"/>
          </p:cNvCxnSpPr>
          <p:nvPr/>
        </p:nvCxnSpPr>
        <p:spPr>
          <a:xfrm>
            <a:off x="6083280" y="3355920"/>
            <a:ext cx="1658160" cy="374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6" name="直接箭头连接符 22"/>
          <p:cNvCxnSpPr>
            <a:stCxn id="587" idx="1"/>
            <a:endCxn id="586" idx="3"/>
          </p:cNvCxnSpPr>
          <p:nvPr/>
        </p:nvCxnSpPr>
        <p:spPr>
          <a:xfrm flipV="1">
            <a:off x="4793760" y="1377720"/>
            <a:ext cx="40680" cy="14702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7" name="直接箭头连接符 23"/>
          <p:cNvCxnSpPr>
            <a:stCxn id="586" idx="5"/>
            <a:endCxn id="587" idx="7"/>
          </p:cNvCxnSpPr>
          <p:nvPr/>
        </p:nvCxnSpPr>
        <p:spPr>
          <a:xfrm>
            <a:off x="5751000" y="1377720"/>
            <a:ext cx="110520" cy="14702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8" name="直接箭头连接符 24"/>
          <p:cNvCxnSpPr>
            <a:stCxn id="590" idx="3"/>
            <a:endCxn id="587" idx="2"/>
          </p:cNvCxnSpPr>
          <p:nvPr/>
        </p:nvCxnSpPr>
        <p:spPr>
          <a:xfrm flipV="1">
            <a:off x="2553840" y="3355200"/>
            <a:ext cx="2018160" cy="3420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9" name="直接箭头连接符 25"/>
          <p:cNvCxnSpPr>
            <a:stCxn id="587" idx="3"/>
            <a:endCxn id="588" idx="1"/>
          </p:cNvCxnSpPr>
          <p:nvPr/>
        </p:nvCxnSpPr>
        <p:spPr>
          <a:xfrm>
            <a:off x="4793760" y="3865320"/>
            <a:ext cx="10440" cy="17816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600" name="直接箭头连接符 27"/>
          <p:cNvCxnSpPr>
            <a:stCxn id="588" idx="7"/>
            <a:endCxn id="587" idx="5"/>
          </p:cNvCxnSpPr>
          <p:nvPr/>
        </p:nvCxnSpPr>
        <p:spPr>
          <a:xfrm flipH="1" flipV="1">
            <a:off x="5860800" y="3864960"/>
            <a:ext cx="64080" cy="178020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sp>
        <p:nvSpPr>
          <p:cNvPr id="601" name="文本框 28"/>
          <p:cNvSpPr/>
          <p:nvPr/>
        </p:nvSpPr>
        <p:spPr>
          <a:xfrm>
            <a:off x="4154040" y="1413000"/>
            <a:ext cx="734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광고비지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文本框 30"/>
          <p:cNvSpPr/>
          <p:nvPr/>
        </p:nvSpPr>
        <p:spPr>
          <a:xfrm>
            <a:off x="5449320" y="1484280"/>
            <a:ext cx="7340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광고거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文本框 31"/>
          <p:cNvSpPr/>
          <p:nvPr/>
        </p:nvSpPr>
        <p:spPr>
          <a:xfrm>
            <a:off x="5940360" y="2924280"/>
            <a:ext cx="1927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실시간 교통정보 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文本框 32"/>
          <p:cNvSpPr/>
          <p:nvPr/>
        </p:nvSpPr>
        <p:spPr>
          <a:xfrm>
            <a:off x="2700360" y="2997360"/>
            <a:ext cx="171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분석 정보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文本框 33"/>
          <p:cNvSpPr/>
          <p:nvPr/>
        </p:nvSpPr>
        <p:spPr>
          <a:xfrm>
            <a:off x="4082400" y="3789360"/>
            <a:ext cx="73404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실시간 수요정보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文本框 35"/>
          <p:cNvSpPr/>
          <p:nvPr/>
        </p:nvSpPr>
        <p:spPr>
          <a:xfrm>
            <a:off x="5870520" y="3932280"/>
            <a:ext cx="4572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탑승 정보 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7" name="直接箭头连接符 2"/>
          <p:cNvCxnSpPr/>
          <p:nvPr/>
        </p:nvCxnSpPr>
        <p:spPr>
          <a:xfrm flipH="1">
            <a:off x="2555280" y="3613320"/>
            <a:ext cx="2045160" cy="3240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sp>
        <p:nvSpPr>
          <p:cNvPr id="608" name="文本框 3"/>
          <p:cNvSpPr/>
          <p:nvPr/>
        </p:nvSpPr>
        <p:spPr>
          <a:xfrm>
            <a:off x="2700360" y="3645000"/>
            <a:ext cx="163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빅데이터 전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图片 4" descr="office6\wpsassist\cache\A000220150319I76PPIC"/>
          <p:cNvPicPr/>
          <p:nvPr/>
        </p:nvPicPr>
        <p:blipFill>
          <a:blip r:embed="rId1"/>
          <a:stretch/>
        </p:blipFill>
        <p:spPr>
          <a:xfrm>
            <a:off x="324000" y="620640"/>
            <a:ext cx="16063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40"/>
          <p:cNvGrpSpPr/>
          <p:nvPr/>
        </p:nvGrpSpPr>
        <p:grpSpPr>
          <a:xfrm>
            <a:off x="726120" y="2004840"/>
            <a:ext cx="2575800" cy="3351960"/>
            <a:chOff x="726120" y="2004840"/>
            <a:chExt cx="2575800" cy="3351960"/>
          </a:xfrm>
        </p:grpSpPr>
        <p:sp>
          <p:nvSpPr>
            <p:cNvPr id="611" name="任意多边形 39"/>
            <p:cNvSpPr/>
            <p:nvPr/>
          </p:nvSpPr>
          <p:spPr>
            <a:xfrm rot="1821000">
              <a:off x="1015560" y="3589920"/>
              <a:ext cx="516240" cy="12866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6482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任意多边形 3"/>
            <p:cNvSpPr/>
            <p:nvPr/>
          </p:nvSpPr>
          <p:spPr>
            <a:xfrm flipV="1" rot="1821600">
              <a:off x="1279080" y="4027320"/>
              <a:ext cx="516240" cy="1286640"/>
            </a:xfrm>
            <a:custGeom>
              <a:avLst/>
              <a:gdLst/>
              <a:ahLst/>
              <a:rect l="l" t="t" r="r" b="b"/>
              <a:pathLst>
                <a:path w="516468" h="1286933">
                  <a:moveTo>
                    <a:pt x="258234" y="0"/>
                  </a:moveTo>
                  <a:cubicBezTo>
                    <a:pt x="400853" y="0"/>
                    <a:pt x="516468" y="115615"/>
                    <a:pt x="516468" y="258234"/>
                  </a:cubicBezTo>
                  <a:lnTo>
                    <a:pt x="516467" y="1286933"/>
                  </a:lnTo>
                  <a:lnTo>
                    <a:pt x="448733" y="1286933"/>
                  </a:lnTo>
                  <a:lnTo>
                    <a:pt x="448733" y="258233"/>
                  </a:lnTo>
                  <a:cubicBezTo>
                    <a:pt x="448733" y="153023"/>
                    <a:pt x="363443" y="67733"/>
                    <a:pt x="258233" y="67733"/>
                  </a:cubicBezTo>
                  <a:cubicBezTo>
                    <a:pt x="153023" y="67733"/>
                    <a:pt x="67733" y="153023"/>
                    <a:pt x="67733" y="258233"/>
                  </a:cubicBezTo>
                  <a:lnTo>
                    <a:pt x="67733" y="1286933"/>
                  </a:lnTo>
                  <a:lnTo>
                    <a:pt x="0" y="1286933"/>
                  </a:lnTo>
                  <a:lnTo>
                    <a:pt x="0" y="258234"/>
                  </a:lnTo>
                  <a:cubicBezTo>
                    <a:pt x="0" y="115615"/>
                    <a:pt x="115615" y="0"/>
                    <a:pt x="258234" y="0"/>
                  </a:cubicBezTo>
                  <a:close/>
                </a:path>
              </a:pathLst>
            </a:cu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直接连接符 11"/>
            <p:cNvSpPr/>
            <p:nvPr/>
          </p:nvSpPr>
          <p:spPr>
            <a:xfrm flipH="1">
              <a:off x="1568160" y="2245320"/>
              <a:ext cx="1733760" cy="2957400"/>
            </a:xfrm>
            <a:prstGeom prst="line">
              <a:avLst/>
            </a:prstGeom>
            <a:ln w="6480">
              <a:solidFill>
                <a:srgbClr val="f89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文本框 20"/>
            <p:cNvSpPr/>
            <p:nvPr/>
          </p:nvSpPr>
          <p:spPr>
            <a:xfrm rot="18024000">
              <a:off x="464760" y="3394800"/>
              <a:ext cx="3434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ko-KR" sz="2400" spc="-1" strike="noStrike">
                  <a:solidFill>
                    <a:srgbClr val="ffffff"/>
                  </a:solidFill>
                  <a:latin typeface="Arial"/>
                </a:rPr>
                <a:t>시간 단축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组合 41"/>
          <p:cNvGrpSpPr/>
          <p:nvPr/>
        </p:nvGrpSpPr>
        <p:grpSpPr>
          <a:xfrm>
            <a:off x="3139200" y="2004840"/>
            <a:ext cx="2575800" cy="3351960"/>
            <a:chOff x="3139200" y="2004840"/>
            <a:chExt cx="2575800" cy="3351960"/>
          </a:xfrm>
        </p:grpSpPr>
        <p:sp>
          <p:nvSpPr>
            <p:cNvPr id="616" name="任意多边形 42"/>
            <p:cNvSpPr/>
            <p:nvPr/>
          </p:nvSpPr>
          <p:spPr>
            <a:xfrm rot="1821000">
              <a:off x="3428640" y="3589920"/>
              <a:ext cx="516240" cy="12866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64823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43"/>
            <p:cNvSpPr/>
            <p:nvPr/>
          </p:nvSpPr>
          <p:spPr>
            <a:xfrm flipV="1" rot="1821600">
              <a:off x="3692160" y="4027320"/>
              <a:ext cx="516240" cy="1286640"/>
            </a:xfrm>
            <a:custGeom>
              <a:avLst/>
              <a:gdLst/>
              <a:ahLst/>
              <a:rect l="l" t="t" r="r" b="b"/>
              <a:pathLst>
                <a:path w="516468" h="1286933">
                  <a:moveTo>
                    <a:pt x="258234" y="0"/>
                  </a:moveTo>
                  <a:cubicBezTo>
                    <a:pt x="400853" y="0"/>
                    <a:pt x="516468" y="115615"/>
                    <a:pt x="516468" y="258234"/>
                  </a:cubicBezTo>
                  <a:lnTo>
                    <a:pt x="516467" y="1286933"/>
                  </a:lnTo>
                  <a:lnTo>
                    <a:pt x="448733" y="1286933"/>
                  </a:lnTo>
                  <a:lnTo>
                    <a:pt x="448733" y="258233"/>
                  </a:lnTo>
                  <a:cubicBezTo>
                    <a:pt x="448733" y="153023"/>
                    <a:pt x="363443" y="67733"/>
                    <a:pt x="258233" y="67733"/>
                  </a:cubicBezTo>
                  <a:cubicBezTo>
                    <a:pt x="153023" y="67733"/>
                    <a:pt x="67733" y="153023"/>
                    <a:pt x="67733" y="258233"/>
                  </a:cubicBezTo>
                  <a:lnTo>
                    <a:pt x="67733" y="1286933"/>
                  </a:lnTo>
                  <a:lnTo>
                    <a:pt x="0" y="1286933"/>
                  </a:lnTo>
                  <a:lnTo>
                    <a:pt x="0" y="258234"/>
                  </a:lnTo>
                  <a:cubicBezTo>
                    <a:pt x="0" y="115615"/>
                    <a:pt x="115615" y="0"/>
                    <a:pt x="258234" y="0"/>
                  </a:cubicBezTo>
                  <a:close/>
                </a:path>
              </a:pathLst>
            </a:cu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直接连接符 44"/>
            <p:cNvSpPr/>
            <p:nvPr/>
          </p:nvSpPr>
          <p:spPr>
            <a:xfrm flipH="1">
              <a:off x="3981240" y="2245320"/>
              <a:ext cx="1733760" cy="2957400"/>
            </a:xfrm>
            <a:prstGeom prst="line">
              <a:avLst/>
            </a:prstGeom>
            <a:ln w="6480">
              <a:solidFill>
                <a:srgbClr val="f89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文本框 45"/>
            <p:cNvSpPr/>
            <p:nvPr/>
          </p:nvSpPr>
          <p:spPr>
            <a:xfrm rot="18024000">
              <a:off x="2877840" y="3394800"/>
              <a:ext cx="3434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ko-KR" sz="2400" spc="-1" strike="noStrike">
                  <a:solidFill>
                    <a:srgbClr val="ffffff"/>
                  </a:solidFill>
                  <a:latin typeface="Arial"/>
                </a:rPr>
                <a:t>비용절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组合 51"/>
          <p:cNvGrpSpPr/>
          <p:nvPr/>
        </p:nvGrpSpPr>
        <p:grpSpPr>
          <a:xfrm>
            <a:off x="5552280" y="1989000"/>
            <a:ext cx="2575800" cy="3367800"/>
            <a:chOff x="5552280" y="1989000"/>
            <a:chExt cx="2575800" cy="3367800"/>
          </a:xfrm>
        </p:grpSpPr>
        <p:sp>
          <p:nvSpPr>
            <p:cNvPr id="621" name="任意多边形 52"/>
            <p:cNvSpPr/>
            <p:nvPr/>
          </p:nvSpPr>
          <p:spPr>
            <a:xfrm rot="1821000">
              <a:off x="5841720" y="3589920"/>
              <a:ext cx="516240" cy="12866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64823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任意多边形 53"/>
            <p:cNvSpPr/>
            <p:nvPr/>
          </p:nvSpPr>
          <p:spPr>
            <a:xfrm flipV="1" rot="1821600">
              <a:off x="6105240" y="4027320"/>
              <a:ext cx="516240" cy="1286640"/>
            </a:xfrm>
            <a:custGeom>
              <a:avLst/>
              <a:gdLst/>
              <a:ahLst/>
              <a:rect l="l" t="t" r="r" b="b"/>
              <a:pathLst>
                <a:path w="516468" h="1286933">
                  <a:moveTo>
                    <a:pt x="258234" y="0"/>
                  </a:moveTo>
                  <a:cubicBezTo>
                    <a:pt x="400853" y="0"/>
                    <a:pt x="516468" y="115615"/>
                    <a:pt x="516468" y="258234"/>
                  </a:cubicBezTo>
                  <a:lnTo>
                    <a:pt x="516467" y="1286933"/>
                  </a:lnTo>
                  <a:lnTo>
                    <a:pt x="448733" y="1286933"/>
                  </a:lnTo>
                  <a:lnTo>
                    <a:pt x="448733" y="258233"/>
                  </a:lnTo>
                  <a:cubicBezTo>
                    <a:pt x="448733" y="153023"/>
                    <a:pt x="363443" y="67733"/>
                    <a:pt x="258233" y="67733"/>
                  </a:cubicBezTo>
                  <a:cubicBezTo>
                    <a:pt x="153023" y="67733"/>
                    <a:pt x="67733" y="153023"/>
                    <a:pt x="67733" y="258233"/>
                  </a:cubicBezTo>
                  <a:lnTo>
                    <a:pt x="67733" y="1286933"/>
                  </a:lnTo>
                  <a:lnTo>
                    <a:pt x="0" y="1286933"/>
                  </a:lnTo>
                  <a:lnTo>
                    <a:pt x="0" y="258234"/>
                  </a:lnTo>
                  <a:cubicBezTo>
                    <a:pt x="0" y="115615"/>
                    <a:pt x="115615" y="0"/>
                    <a:pt x="258234" y="0"/>
                  </a:cubicBezTo>
                  <a:close/>
                </a:path>
              </a:pathLst>
            </a:cu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直接连接符 54"/>
            <p:cNvSpPr/>
            <p:nvPr/>
          </p:nvSpPr>
          <p:spPr>
            <a:xfrm flipH="1">
              <a:off x="6394320" y="2245320"/>
              <a:ext cx="1733760" cy="2957400"/>
            </a:xfrm>
            <a:prstGeom prst="line">
              <a:avLst/>
            </a:prstGeom>
            <a:ln w="6480">
              <a:solidFill>
                <a:srgbClr val="f89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文本框 55"/>
            <p:cNvSpPr/>
            <p:nvPr/>
          </p:nvSpPr>
          <p:spPr>
            <a:xfrm rot="18024000">
              <a:off x="5251680" y="3378960"/>
              <a:ext cx="3434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o-fridendly </a:t>
              </a:r>
              <a:r>
                <a:rPr b="0" lang="ko-KR" sz="2400" spc="-1" strike="noStrike">
                  <a:solidFill>
                    <a:srgbClr val="ffffff"/>
                  </a:solidFill>
                  <a:latin typeface="Arial"/>
                </a:rPr>
                <a:t>실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文本框 57"/>
          <p:cNvSpPr/>
          <p:nvPr/>
        </p:nvSpPr>
        <p:spPr>
          <a:xfrm>
            <a:off x="2685960" y="1284120"/>
            <a:ext cx="3772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0000"/>
                </a:solidFill>
                <a:latin typeface="Arial"/>
                <a:ea typeface="黑体"/>
              </a:rPr>
              <a:t>경제적 효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标题 1" descr=""/>
          <p:cNvPicPr/>
          <p:nvPr/>
        </p:nvPicPr>
        <p:blipFill>
          <a:blip r:embed="rId1"/>
          <a:stretch/>
        </p:blipFill>
        <p:spPr>
          <a:xfrm>
            <a:off x="1557360" y="2232000"/>
            <a:ext cx="6197400" cy="1235160"/>
          </a:xfrm>
          <a:prstGeom prst="rect">
            <a:avLst/>
          </a:prstGeom>
          <a:ln w="0">
            <a:noFill/>
          </a:ln>
        </p:spPr>
      </p:pic>
      <p:pic>
        <p:nvPicPr>
          <p:cNvPr id="627" name="文本占位符 2" descr=""/>
          <p:cNvPicPr/>
          <p:nvPr/>
        </p:nvPicPr>
        <p:blipFill>
          <a:blip r:embed="rId2"/>
          <a:stretch/>
        </p:blipFill>
        <p:spPr>
          <a:xfrm>
            <a:off x="3000240" y="3554280"/>
            <a:ext cx="31435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2"/>
          <p:cNvSpPr/>
          <p:nvPr/>
        </p:nvSpPr>
        <p:spPr>
          <a:xfrm>
            <a:off x="182520" y="501480"/>
            <a:ext cx="8747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黑体"/>
              </a:rPr>
              <a:t>스마트폰 소유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(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黑体"/>
              </a:rPr>
              <a:t>잠재 고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矩形 4" descr=""/>
          <p:cNvPicPr/>
          <p:nvPr/>
        </p:nvPicPr>
        <p:blipFill>
          <a:blip r:embed="rId1"/>
          <a:stretch/>
        </p:blipFill>
        <p:spPr>
          <a:xfrm>
            <a:off x="6804000" y="3333600"/>
            <a:ext cx="2260800" cy="3483000"/>
          </a:xfrm>
          <a:prstGeom prst="rect">
            <a:avLst/>
          </a:prstGeom>
          <a:ln w="0">
            <a:noFill/>
          </a:ln>
        </p:spPr>
      </p:pic>
      <p:pic>
        <p:nvPicPr>
          <p:cNvPr id="630" name="矩形 6" descr=""/>
          <p:cNvPicPr/>
          <p:nvPr/>
        </p:nvPicPr>
        <p:blipFill>
          <a:blip r:embed="rId2"/>
          <a:stretch/>
        </p:blipFill>
        <p:spPr>
          <a:xfrm>
            <a:off x="6732720" y="0"/>
            <a:ext cx="2385720" cy="3260880"/>
          </a:xfrm>
          <a:prstGeom prst="rect">
            <a:avLst/>
          </a:prstGeom>
          <a:ln w="0">
            <a:noFill/>
          </a:ln>
        </p:spPr>
      </p:pic>
      <p:sp>
        <p:nvSpPr>
          <p:cNvPr id="631" name="等腰三角形 9"/>
          <p:cNvSpPr/>
          <p:nvPr/>
        </p:nvSpPr>
        <p:spPr>
          <a:xfrm rot="16200000">
            <a:off x="2154240" y="1468440"/>
            <a:ext cx="363600" cy="21456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等腰三角形 11"/>
          <p:cNvSpPr/>
          <p:nvPr/>
        </p:nvSpPr>
        <p:spPr>
          <a:xfrm rot="5400000">
            <a:off x="2506680" y="4133520"/>
            <a:ext cx="363240" cy="21456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对象 5" descr=""/>
          <p:cNvPicPr/>
          <p:nvPr/>
        </p:nvPicPr>
        <p:blipFill>
          <a:blip r:embed="rId3"/>
          <a:stretch/>
        </p:blipFill>
        <p:spPr>
          <a:xfrm>
            <a:off x="108000" y="1555920"/>
            <a:ext cx="63500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标题 4" descr=""/>
          <p:cNvPicPr/>
          <p:nvPr/>
        </p:nvPicPr>
        <p:blipFill>
          <a:blip r:embed="rId1"/>
          <a:stretch/>
        </p:blipFill>
        <p:spPr>
          <a:xfrm>
            <a:off x="419040" y="326880"/>
            <a:ext cx="8291520" cy="698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418680" y="1225080"/>
            <a:ext cx="752148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목표고객이 상품이나 서비스를 구매할 수  밖에 업는 절박한이유는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기타 대체제가 존재하는가 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존재한다면 더 값싼 가격에 만족할만한 서비스를 제공하는가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가격대 서는비가 휼륭한가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2:44:42Z</dcterms:created>
  <dc:creator>Administrator</dc:creator>
  <dc:description/>
  <dc:language>en-US</dc:language>
  <cp:lastModifiedBy>Administrator</cp:lastModifiedBy>
  <dcterms:modified xsi:type="dcterms:W3CDTF">2016-04-14T04:23:05Z</dcterms:modified>
  <cp:revision>3</cp:revision>
  <dc:subject/>
  <dc:title>Start-up Busines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